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0D7F-344F-43FF-A388-A74D47DDD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98A6-131A-44C2-B61E-B72C318EC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9F3-0E84-48DD-AE29-D7F0B7DA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C4E-A1C3-400C-BC88-8E2D85D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8415B-E77B-44D4-BB9B-F69BF246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D42F5-574E-40C2-B13D-7EC96C9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0F09-10A8-4763-85F8-28C97D8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7A45A-A336-4048-9E59-73C3C14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1976-C11C-46B8-8CE8-42D7281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FDB8-3084-4453-9E28-95E38A2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9A5D-AE8B-46F6-8A2C-A18B31C9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43E04-9EDC-4477-BF37-3F53233A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7CC96-A04A-4A9C-8AE9-CDB6A190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9D29D-4639-4148-BD1F-44BEDDB4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D6E-E454-4E29-A4EB-C88CE98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2371B-A455-40F1-9E91-D39C324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DC920-936E-4E46-BA21-4457BD1A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3C3F8-142C-46B4-B362-1689B43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7991D-D6FA-495D-84C7-13BB14F8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35050-D4B5-43A6-9F5B-4385CC4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CD2BD-7526-4E0A-9D60-9E48F5E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4EDE6-C6A5-47ED-BE6F-B0ED275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431B8-BD60-427B-94E9-B2A8872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30451-4526-43C9-B799-D8E9F14C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4D43-965D-4723-AD39-156B9FD9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04B-FF86-40B8-B587-C357D029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04800-7F9B-4B4B-8296-812A3AC1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1C66-375A-4A43-910E-70C23A75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46C49-012B-4315-B343-3317933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0138E-A853-419C-A3AE-4961552B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49B99-5B17-4C64-8557-0FBA1D86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C361F-C7BD-40A7-AA87-C7741E9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0069-8FAF-48BA-ADB5-BCDFFFED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D845-0DCE-4D33-87E8-5462E66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0C29-467E-42FB-A8B4-44F85F8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8AE1-B546-47D0-A2D4-67C2833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2A76-57E2-4089-9E7D-19BF0576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25165-1E2A-4F84-B6AD-B0C8898A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7DB2-2947-4E3F-B002-30E4B5E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01FEA-48B2-4DF5-9F02-D95D42B6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9D87D-0E7A-4D1B-AF57-98040494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FA57-3DEA-47C0-8374-9D42691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4B2FD-3BB8-4FEA-A646-2CA9CE3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56604-0927-44B4-A575-A54853B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E2A7C-16B3-458A-BAAB-B77D057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66E7-AAD5-40F3-8F71-D80CF29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B0DF-CED1-4F02-A3CC-C3CF9DC4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069-0E12-4F5E-AFE1-3288D850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4A824-FC1E-45A6-8EE7-B3D3B74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A4D39-ECAA-455D-8030-CE4E6AB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0FCBD-FF0B-4765-B3FC-09681DC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3DF07-1F40-4494-9E66-709891F6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232B-D4C4-4135-B2DC-755BB02E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D85-3846-4D8D-996B-FCA8B099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8558-00F7-4E12-AF29-222FCA91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AD20-B6AC-4E9A-B3DC-597D290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CA54-3893-4B8A-B9A4-126D5AD0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8C9-9F3E-4B2F-BCA0-6682149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236-764F-4264-9D2E-6E4CF0AF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CF2A-7832-4C2B-BB68-25A62025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E300-10DE-41C3-BE8F-3BA2154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8AA-5014-40B0-86B8-4AA5943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2D7-BD4A-43B9-8855-A8549B28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A6B2-0B75-4A20-B8EC-68926F9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33A4-AEC3-4A66-9043-1A20E36F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52D1-3B1E-4089-B3E4-348620E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BD59-6832-448A-96D5-56218B7C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24EA-59AB-40C9-B16D-3D6855D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C214-CC0A-4265-8F1C-65CB680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C1D-2B01-4040-AB22-792E59F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6B10-D422-4DBC-AB04-62108828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47DD-E689-4A1D-9FB4-B544472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4A67-A556-45E0-9996-70805CD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14E8-C9C4-4A4D-9459-82D2D7A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7B12-E8FD-4F1E-8E27-A29359AB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D159-9A92-46F1-A7A7-B3262FFC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12DD-062F-428B-88EE-7133501E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4267-642F-48DA-8510-3C79380E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4B93-0E91-4231-9CA9-F8B13F0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BA9D-A2E5-4D98-8CB3-190979BC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B45-9E98-406D-9801-7FE4F16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AA7D-8317-4C27-AF46-830F89E8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C501-E637-41CE-BE12-23DD54A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C32D-2950-4180-8626-8A5450B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2A08-2F83-4A3C-ABB1-2DD48C5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CA3B-A553-403D-84CB-8AFDA98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6948-D1A2-48B2-9BBD-5A965BB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55AC-09C7-41AE-8319-20679D83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F78D-85C4-4B13-8D63-7DAFB813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0E27-59BD-4C5E-9CE3-237D7E5A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8EF7-4126-481F-ACF6-EDC73339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59A-9C5F-4495-B4E0-0693218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D737-2366-48E2-AC5F-37EB0B0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A677-FF45-44D9-A379-568314B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0150-7DF6-4C67-98C0-4F14617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833B-18A3-4F37-A401-561773DF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6E62-3FB2-480E-8304-3A8960AE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0AA5-52F0-4A24-88BB-9CC979C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B1D4-2769-4848-8990-15E00B9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A7BF7-DD16-4830-9B14-49F985A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47A6-0704-46D2-9C6D-C3FB80C1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A9307-4927-4475-84AD-CEF14A33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AE2-1A96-49E9-9C7B-10CD97EF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DF02-3A08-444B-A36A-28E0DD1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FF13-9A65-472C-845A-972C64C9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69934-A9CB-46F0-8F71-352F74B3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5ABC-8DE1-41D5-B2E4-58B6F476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F8B2-3A4C-499C-A301-656E874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8B24-EFC9-439F-A899-5CD62C62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22AD-FCCC-462E-ABD7-CB2B309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F5C7-A035-426C-AA53-823F712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F7EB-D71C-4D7B-8364-CD085D88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41CC-101D-4473-966C-ED49DD4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20D-8C36-40E4-8D1D-34B82A9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504F-395C-44A9-BE36-F1C48A2B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8041-659D-4BC0-A9CE-890C9406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7AAF-2AA4-4A5B-ACD7-2A7CB858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CD58-12C6-4C2E-9494-97DECA5E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42831-3235-4A4C-92AF-E168AD5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655F-99D8-4606-96F9-2DDC70A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0C10E-D27B-439E-8511-B7B002FD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A8F3-ED5C-4303-BF3E-B114B79A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6CD6-873C-4C35-B613-074879E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61F0-6324-4AEF-898D-1507D8B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3C9-4606-4876-B826-2707128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08F4-5B14-4FB9-A97F-84F4EFF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D475-B31F-412A-891A-DD79453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F37A-D99C-4F22-A6A8-9654000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E17C-1BDB-4121-9F4F-F68716E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7E31-189A-4448-85F6-FF2EB142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2B2E-6EE0-45CF-A4D1-1B33C6C2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DC20-45E3-464D-B891-91FCD7A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E8B6-4CE8-4094-8382-6A06B419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122E-C3B0-43DE-ACD8-FCAD408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5E56-C5D3-4DA8-A058-DB7E33C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0C9-0908-4671-AFB7-131CD34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10440-C93F-4984-A31D-8E97217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85FA-7418-4EAB-A0CC-F476B45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2CE3-2828-4A97-B659-316F72A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47D5-0BCD-43E6-9325-B682DDA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ADEE5-1FD1-4795-9ED1-88373CB3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8826-FC55-452E-A6DF-5AA05D8E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7ED1D-C638-4ED9-BA78-A90374C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D6B69-DE56-438C-956C-51534174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1EC00-8617-458D-8EC4-581ABC5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E0D77-887D-4461-8A6B-958F3F81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D0D4-F064-4228-8555-BE26E7E58397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288-A23A-4DFD-9860-B68D7BA1A1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FE4-1CF6-4206-B424-F515812DF1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2A7F-1066-4B0F-B65F-54D2827635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347-1A9F-4581-A968-50C0A3FA2F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D9E-97AC-4516-B542-17B1A0130B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A55-EA3F-4303-AB84-32A7E856AB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BDF4-6F1A-41C4-BB43-1359319706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086A-F43A-45DE-8990-76E004AF84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5DEF-3358-407B-B063-EF1E060493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B7BC-30C9-4B89-8A24-D7F9DED835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A3F-D1E3-4719-B005-BED7445776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Деепричасти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как часть реч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TextBox 3"/>
          <p:cNvSpPr/>
          <p:nvPr/>
        </p:nvSpPr>
        <p:spPr>
          <a:xfrm>
            <a:off x="1828800" y="3352680"/>
            <a:ext cx="5562720" cy="9169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 презентации – учитель русского языка и литературы МОУ «Киверичская СОШ»  Мантрова Лили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685800" y="2286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Граммат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деепричас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914400" y="1752480"/>
            <a:ext cx="3352680" cy="1143000"/>
          </a:xfrm>
          <a:prstGeom prst="downArrowCallout">
            <a:avLst>
              <a:gd name="adj1" fmla="val 73337"/>
              <a:gd name="adj2" fmla="val 73331"/>
              <a:gd name="adj3" fmla="val 16667"/>
              <a:gd name="adj4" fmla="val 66667"/>
            </a:avLst>
          </a:prstGeom>
          <a:solidFill>
            <a:srgbClr val="e3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5181480" y="1828800"/>
            <a:ext cx="3353040" cy="1143000"/>
          </a:xfrm>
          <a:prstGeom prst="downArrowCallout">
            <a:avLst>
              <a:gd name="adj1" fmla="val 73345"/>
              <a:gd name="adj2" fmla="val 73339"/>
              <a:gd name="adj3" fmla="val 16667"/>
              <a:gd name="adj4" fmla="val 66667"/>
            </a:avLst>
          </a:prstGeom>
          <a:solidFill>
            <a:srgbClr val="e3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990720" y="2057400"/>
            <a:ext cx="3047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лаго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486400" y="2057400"/>
            <a:ext cx="2895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ре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457200" y="3048120"/>
            <a:ext cx="3886200" cy="25743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бразуются только от глаголов (улыбаться – улыбаясь, глядеть - гляд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ид (выглядывая – несов.в.; выглянув – сов.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меют зависимые слова (падать на землю – падая на зем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410080" y="3581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4800600" y="3048120"/>
            <a:ext cx="3886200" cy="28717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еизменяе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интаксическая 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ссказывает улыб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ссказывает с улыб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>
            <a:off x="6781680" y="4572000"/>
            <a:ext cx="1219320" cy="0"/>
          </a:xfrm>
          <a:prstGeom prst="line">
            <a:avLst/>
          </a:prstGeom>
          <a:ln w="255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6"/>
          <p:cNvSpPr/>
          <p:nvPr/>
        </p:nvSpPr>
        <p:spPr>
          <a:xfrm>
            <a:off x="6705720" y="541008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6555240" y="37339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6479280" y="457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"/>
          <p:cNvSpPr/>
          <p:nvPr/>
        </p:nvSpPr>
        <p:spPr>
          <a:xfrm flipV="1">
            <a:off x="601992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2"/>
          <p:cNvSpPr/>
          <p:nvPr/>
        </p:nvSpPr>
        <p:spPr>
          <a:xfrm flipV="1">
            <a:off x="59436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3"/>
          <p:cNvSpPr/>
          <p:nvPr/>
        </p:nvSpPr>
        <p:spPr>
          <a:xfrm>
            <a:off x="594360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4"/>
          <p:cNvSpPr/>
          <p:nvPr/>
        </p:nvSpPr>
        <p:spPr>
          <a:xfrm>
            <a:off x="601992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7391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74674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еепричастие – самостоятельная часть речи, которая обозначает добавочное действие при основном, выраженном глагол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еепричастие не изменяется. Деепричастия бывают совершенного и несовершенного ви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 предложении деепричастие является обстоятельством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Употребление деепричастий </a:t>
            </a:r>
            <a:br>
              <a:rPr sz="2800"/>
            </a:b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в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22093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ac8a5789-5662-4d0f-82f0-1600858f72c6/%5BRUS7_141%5D_%5BQS_360%5D.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28600" y="50292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рочитайте отрывок из сказки-были М.М.Пришв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ми средствами языка создается яркое, образное описание сросшихся деревье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52280" y="4724280"/>
            <a:ext cx="6858000" cy="13737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Verdana"/>
              </a:rPr>
              <a:t>Функция деепричастия в речи – дописывать, дорисовывать основное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9" descr="&amp;Scy;&amp;rcy;&amp;ocy;&amp;scy;&amp;shcy;&amp;icy;&amp;iecy;&amp;scy;&amp;yacy; &amp;dcy;&amp;iecy;&amp;rcy;&amp;iecy;&amp;vcy;&amp;softcy;&amp;yacy;. &amp;CHcy;&amp;iecy;&amp;mcy; &amp;ocy;&amp;tcy;&amp;lcy;&amp;icy;&amp;chcy;&amp;acy;&amp;iecy;&amp;tcy;&amp;scy;&amp;yacy; &amp;fcy;&amp;ocy;&amp;tcy;&amp;ocy;&amp;gcy;&amp;rcy;&amp;acy;&amp;fcy;&amp;icy;&amp;yacy; &amp;ocy;&amp;tcy; &amp;ocy;&amp;pcy;&amp;icy;&amp;scy;&amp;acy;&amp;ncy;&amp;icy;&amp;yacy; &amp;iecy;&amp;lcy;&amp;icy; &amp;icy; &amp;scy;&amp;ocy;&amp;scy;&amp;ncy;&amp;ycy;, &amp;dcy;&amp;acy;&amp;ncy;&amp;ncy;&amp;ocy;&amp;gcy;&amp;ocy; &amp;Pcy;&amp;rcy;&amp;icy;&amp;shcy;&amp;vcy;&amp;icy;&amp;ncy;&amp;ycy;&amp;mcy;?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095880" y="1600200"/>
            <a:ext cx="2324160" cy="270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522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оропиться, торопит, торопясь, торопивший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ождаться, дождавшись, дождавшийся, дожидае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редвинуть, передвинувшийся, передвигающийся, передвига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149840" y="304920"/>
            <a:ext cx="53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Среди данных слов 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деепричас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5334120" y="1752480"/>
            <a:ext cx="18288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>
            <a:off x="3200400" y="3200400"/>
            <a:ext cx="25909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8"/>
          <p:cNvSpPr/>
          <p:nvPr/>
        </p:nvSpPr>
        <p:spPr>
          <a:xfrm>
            <a:off x="4876920" y="5105520"/>
            <a:ext cx="23619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Verdana"/>
              </a:rPr>
              <a:t>Выпишите предложения, в которых употреблены деепричаст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ать сидела, откинувшись в кресл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рат склонил голову и писал что-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Я открыл окно и залюбовался вид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ыйдя из дома, человек направился к маши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еловек, вышедший из дома, направился к маши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ерега, окружающие озеро, густо поросли камыш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азложив игры, дети сели в круж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Пятно 1 8"/>
          <p:cNvSpPr/>
          <p:nvPr/>
        </p:nvSpPr>
        <p:spPr>
          <a:xfrm rot="19837200">
            <a:off x="223560" y="1200240"/>
            <a:ext cx="611280" cy="7617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ятно 1 9"/>
          <p:cNvSpPr/>
          <p:nvPr/>
        </p:nvSpPr>
        <p:spPr>
          <a:xfrm>
            <a:off x="152280" y="2666880"/>
            <a:ext cx="685800" cy="685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ятно 1 10"/>
          <p:cNvSpPr/>
          <p:nvPr/>
        </p:nvSpPr>
        <p:spPr>
          <a:xfrm>
            <a:off x="228600" y="5181480"/>
            <a:ext cx="609480" cy="7621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Найдите лишнее деепричаст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33160" y="11426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хлынув, растаяв, колдуя, загоревшис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хмурившись, встречаясь, приняв, заблудившис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уляя, взлетая, касаясь, посвяти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Прямая соединительная линия 6"/>
          <p:cNvSpPr/>
          <p:nvPr/>
        </p:nvSpPr>
        <p:spPr>
          <a:xfrm>
            <a:off x="5867280" y="1828800"/>
            <a:ext cx="167652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8"/>
          <p:cNvSpPr/>
          <p:nvPr/>
        </p:nvSpPr>
        <p:spPr>
          <a:xfrm>
            <a:off x="1219320" y="5410080"/>
            <a:ext cx="198108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9"/>
          <p:cNvSpPr/>
          <p:nvPr/>
        </p:nvSpPr>
        <p:spPr>
          <a:xfrm>
            <a:off x="5029200" y="3276720"/>
            <a:ext cx="236232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Собери пословицы, укажи в них деепричаст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ная брод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рус хвастает уход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амочив ру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ная сердце зме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ворить не думая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то не подумав говорит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развязав меш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16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умоеш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узнаешь, что в н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тот вечно вздор тверд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что стрелять не целя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суйся в в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а смелый – возвращая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бог лишил её но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00538 0.13333 E">
                                      <p:cBhvr>
                                        <p:cTn id="182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-0.00555 L -0.00086 0.31945 E">
                                      <p:cBhvr>
                                        <p:cTn id="184" dur="2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00382 0.19445 E">
                                      <p:cBhvr>
                                        <p:cTn id="186" dur="2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00191 0.06389 E">
                                      <p:cBhvr>
                                        <p:cTn id="188" dur="2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00104 -0.25555 E">
                                      <p:cBhvr>
                                        <p:cTn id="190" dur="2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00191 -0.25278 E">
                                      <p:cBhvr>
                                        <p:cTn id="192" dur="2000" fill="hold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022E-016 L -0.00052 -0.19444 E">
                                      <p:cBhvr>
                                        <p:cTn id="194" dur="2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Можно ли так говорить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дя из школы, пошел дожд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вращаясь домой, меня застала гро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ключив телевизор, он показывал футбольный матч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ткрывая книгу, из неё выпал лист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609480" y="4876920"/>
            <a:ext cx="6477120" cy="119124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Основное действие и добавочное действие относятся к одному и тому же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Итоги урока</a:t>
            </a:r>
            <a:r>
              <a:rPr b="1" lang="ru-RU" sz="4400" spc="-1" strike="noStrike">
                <a:solidFill>
                  <a:srgbClr val="c0504d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Самостоятельная часть речи, обозначающая добавочное действие, называется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отвечает на вопросы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образуется от … с помощью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имеет признаки … и признаки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Подчеркивается в предложении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Вопрос к деепричастию задается от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Использованная литератур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гданова Г.А. Уроки русского языка: 7 кл.: Кн. для учителя: Из опыта работы. – М.: Просвещение, 198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рашова Н.Г. Поурочное планирование по русскому языку. – М.: Экзамен, 200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трольно-измерительные материалы. Русский язык: 7 класс/ Сост.Н.В.Егорова. – М.: ВАКО, 20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school-collection.edu.ru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elenaranko.ucoz.ru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i55.carguru.ru/37/14/41437/8/1136808/6.p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9903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понятие о деепричаст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знакомить  с глагольными и наречными признаками деепричастий; со значением деепричастий, способами их слово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дачи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батывать умение  находить деепричастия в тексте и предложен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ить особенности употребления деепричасти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ть орфографические умения и навы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Орфографическая</a:t>
            </a: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1426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пишите слова, вставляя пропущенны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уквы. Укажите части реч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..сающие гирлянды, отр..жающий наступление, пр..сутствовавшие на собрании, пр..ехавший тро(л, лл)ейбус, вышедший на те(р, рр)асу, пр..одолевая труд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633960" y="4724280"/>
            <a:ext cx="6307200" cy="5814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еодолевая – 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Понятие  о деепричаст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28240" y="9140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равните предложе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Назовите основы предложе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В каком предложении выделенные слова обозначают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вноправные действия,  а в каком –  неравноправны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одно основное, а другое добавочно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685800" y="2819520"/>
            <a:ext cx="7620120" cy="19227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унные тени постепен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ер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голубой свет и бесслед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а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унные тени, постепен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еряя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голубой свет, бесслед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а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04920" y="53341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631858aa-db12-4b13-9f51-cda5f7f0c1bc/%5BRUS7_141%5D_%5BTD_350%5D.ht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5" descr="http://www.universite.ru/material/works/filolog/gvoz/foto.jpg"/>
          <p:cNvPicPr/>
          <p:nvPr/>
        </p:nvPicPr>
        <p:blipFill>
          <a:blip r:embed="rId1"/>
          <a:stretch/>
        </p:blipFill>
        <p:spPr>
          <a:xfrm>
            <a:off x="914400" y="1676520"/>
            <a:ext cx="2286000" cy="316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1" name="Прямоугольник 4"/>
          <p:cNvSpPr/>
          <p:nvPr/>
        </p:nvSpPr>
        <p:spPr>
          <a:xfrm>
            <a:off x="3867840" y="1981080"/>
            <a:ext cx="41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Гвозд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Александр Никола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5"/>
          <p:cNvSpPr/>
          <p:nvPr/>
        </p:nvSpPr>
        <p:spPr>
          <a:xfrm>
            <a:off x="3886200" y="3276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Ученый-лингви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член-корреспонден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ПН РСФ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Лингвисты о деепричас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9"/>
          <p:cNvSpPr/>
          <p:nvPr/>
        </p:nvSpPr>
        <p:spPr>
          <a:xfrm>
            <a:off x="1292040" y="502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Verdana"/>
              </a:rPr>
              <a:t>1892 - 1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равни предложе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939240" y="2057400"/>
            <a:ext cx="7768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 распушила хвост и прыгала по ве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,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спуши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вост, прыгала по ветка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 распушила хвост,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ыга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09480" y="1447920"/>
            <a:ext cx="8001000" cy="350604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епричастие, обозначая добавочное действие,  в первую очередь используется для того, чтобы одно из действий отодвинуть на второй план по сравнению с 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2895840" y="16765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прав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5257800" y="259092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515320" y="25909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авоч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2514600" y="34290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029920" y="342900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авоч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Образование деепричаст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37720" y="1371600"/>
            <a:ext cx="7620120" cy="9907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епричастия образуются от глаголов 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мощью суффикс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267080" y="23623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ич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, гляд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ыскочи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замахну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вши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спёк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616840" y="2971800"/>
            <a:ext cx="116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а (-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в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бщее знач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43000" y="1828440"/>
            <a:ext cx="1905120" cy="6858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Глагол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1760" y="4114800"/>
            <a:ext cx="2895480" cy="4572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Деепричастие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4573440" y="18288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4345560" y="30481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авочное 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300920" y="38862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носится к тому же сл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 основн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497480" y="525780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дел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сдела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3048120" y="2133720"/>
            <a:ext cx="1523880" cy="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3657600" y="4343400"/>
            <a:ext cx="762120" cy="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 flipV="1">
            <a:off x="3657600" y="3504960"/>
            <a:ext cx="762120" cy="60948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3657600" y="4572000"/>
            <a:ext cx="990720" cy="76212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f63e344d-2a69-438f-b171-174b57de9753/%5BRUS7_141%5D_%5BIA_353%5D.swf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Значение деепричас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3-10-15T17:36:1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