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E7A-D55C-446B-BB92-DE679BD5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C4A-430A-40B7-B4ED-9FBF5A50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629-42E5-477E-BE18-9AEBE068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4DF-B177-483A-A134-4DE2E6C4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253-39D2-4E87-BFFC-6B8A95E9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88E-DC05-4B47-8058-88160604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D21-6728-43A7-A530-953B1C89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4F0-24F4-4E24-91EE-DEFCB837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3B1-1B70-419C-97D4-C9485A62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635-3674-445D-9429-B972E7D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720-7299-4DD0-85FC-7AE0945D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E3C-C78B-4A31-AE14-68D2F8D1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136F-23A5-4BBC-B7E5-54E41410952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4190760" cy="277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57800" y="2514600"/>
            <a:ext cx="38862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ученицы 11 б класс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Гимназии №177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Бабенко Анастаси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Руководитель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Марычева Елена Васильевна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1676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Использованная литература.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В своей работе я основывалась на работах выбранных авторов: «Белые ночи» и «Преступление и наказание» Ф.М.Достоевского, стихотворения, «Медный всадник»  и «Повести Белкина» А.С.Пушкина. Также я использовала книги Н.П.Анциферова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« Непостижимый город» ,  «Душа Петербурга» и проспект « Петербург Ф.М.Достоевского» Веры Биро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5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735560"/>
            <a:ext cx="7848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Данная работа может быть применена на уроках литературы в качестве дополнительного учебного пособия, так как в ней имеется приложение – фото-экскурсия «По местам «Преступления и наказания»Ф.М.Достоевского»,которая была составлена мной, Бабенко Анастасией,и Дарьей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Савельевой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80880" y="0"/>
            <a:ext cx="8458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По местам «Преступления и наказания» Фёдора Михайловича Достоевского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9" name="Picture 5" descr="достоевский"/>
          <p:cNvPicPr/>
          <p:nvPr/>
        </p:nvPicPr>
        <p:blipFill>
          <a:blip r:embed="rId2"/>
          <a:stretch/>
        </p:blipFill>
        <p:spPr>
          <a:xfrm>
            <a:off x="5334120" y="2133720"/>
            <a:ext cx="355284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33520" y="53341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Бабенко Настя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Савельева Дарья 11Б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2" name="Picture 5" descr="юсуповск"/>
          <p:cNvPicPr/>
          <p:nvPr/>
        </p:nvPicPr>
        <p:blipFill>
          <a:blip r:embed="rId2"/>
          <a:stretch/>
        </p:blipFill>
        <p:spPr>
          <a:xfrm>
            <a:off x="457200" y="609480"/>
            <a:ext cx="4572000" cy="284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VIP 055"/>
          <p:cNvPicPr/>
          <p:nvPr/>
        </p:nvPicPr>
        <p:blipFill>
          <a:blip r:embed="rId3"/>
          <a:stretch/>
        </p:blipFill>
        <p:spPr>
          <a:xfrm>
            <a:off x="1066680" y="3581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VIP 056"/>
          <p:cNvPicPr/>
          <p:nvPr/>
        </p:nvPicPr>
        <p:blipFill>
          <a:blip r:embed="rId4"/>
          <a:stretch/>
        </p:blipFill>
        <p:spPr>
          <a:xfrm>
            <a:off x="5181480" y="160020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62720" y="6094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Юсуповский сад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Копия VIP 061"/>
          <p:cNvPicPr/>
          <p:nvPr/>
        </p:nvPicPr>
        <p:blipFill>
          <a:blip r:embed="rId2"/>
          <a:stretch/>
        </p:blipFill>
        <p:spPr>
          <a:xfrm>
            <a:off x="1295280" y="380880"/>
            <a:ext cx="6705720" cy="6261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267080" y="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P 060"/>
          <p:cNvPicPr/>
          <p:nvPr/>
        </p:nvPicPr>
        <p:blipFill>
          <a:blip r:embed="rId2"/>
          <a:stretch/>
        </p:blipFill>
        <p:spPr>
          <a:xfrm>
            <a:off x="228600" y="22860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VIP 068"/>
          <p:cNvPicPr/>
          <p:nvPr/>
        </p:nvPicPr>
        <p:blipFill>
          <a:blip r:embed="rId3"/>
          <a:stretch/>
        </p:blipFill>
        <p:spPr>
          <a:xfrm>
            <a:off x="4952880" y="129528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04920" y="4343400"/>
            <a:ext cx="4419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«Он шел и смотрел в землю. Вдруг, как будто кто шепнул ему что-то на ухо. Он поднял голову и увидал, что стоит у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того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дома, у самых ворот. С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того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вечера он здесь не был и мимо не проходил. Неотразимое и необъяснимое желание повлекло его…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5257800" y="152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3" name="Picture 6" descr="воознесенский"/>
          <p:cNvPicPr/>
          <p:nvPr/>
        </p:nvPicPr>
        <p:blipFill>
          <a:blip r:embed="rId2"/>
          <a:stretch/>
        </p:blipFill>
        <p:spPr>
          <a:xfrm>
            <a:off x="152280" y="3429000"/>
            <a:ext cx="4419720" cy="323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VIP 077"/>
          <p:cNvPicPr/>
          <p:nvPr/>
        </p:nvPicPr>
        <p:blipFill>
          <a:blip r:embed="rId3"/>
          <a:stretch/>
        </p:blipFill>
        <p:spPr>
          <a:xfrm>
            <a:off x="464832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VIP 086"/>
          <p:cNvPicPr/>
          <p:nvPr/>
        </p:nvPicPr>
        <p:blipFill>
          <a:blip r:embed="rId4"/>
          <a:stretch/>
        </p:blipFill>
        <p:spPr>
          <a:xfrm>
            <a:off x="152280" y="2286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4495680" y="685800"/>
            <a:ext cx="4419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«Раскольников прошел прямо на -ский мост, стал на середине, у перил, облокотился на них обоими локтями и принялся глядеть вдоль… Склонившись над водою, машинально смотрел он на последний, розовый отблеск заката, на ряд домов, темневших в сгущавшихся сумерках…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8" name="Picture 5" descr="VIP 092"/>
          <p:cNvPicPr/>
          <p:nvPr/>
        </p:nvPicPr>
        <p:blipFill>
          <a:blip r:embed="rId2"/>
          <a:stretch/>
        </p:blipFill>
        <p:spPr>
          <a:xfrm>
            <a:off x="228600" y="457200"/>
            <a:ext cx="4643280" cy="619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VIP 088"/>
          <p:cNvPicPr/>
          <p:nvPr/>
        </p:nvPicPr>
        <p:blipFill>
          <a:blip r:embed="rId3"/>
          <a:stretch/>
        </p:blipFill>
        <p:spPr>
          <a:xfrm>
            <a:off x="5010120" y="13716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4876920" y="152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1" name="Picture 5" descr="Копия VIP 104"/>
          <p:cNvPicPr/>
          <p:nvPr/>
        </p:nvPicPr>
        <p:blipFill>
          <a:blip r:embed="rId2"/>
          <a:stretch/>
        </p:blipFill>
        <p:spPr>
          <a:xfrm>
            <a:off x="457200" y="533520"/>
            <a:ext cx="81532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3" name="Picture 5" descr="VIP 101"/>
          <p:cNvPicPr/>
          <p:nvPr/>
        </p:nvPicPr>
        <p:blipFill>
          <a:blip r:embed="rId2"/>
          <a:stretch/>
        </p:blipFill>
        <p:spPr>
          <a:xfrm>
            <a:off x="228600" y="32004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львиный"/>
          <p:cNvPicPr/>
          <p:nvPr/>
        </p:nvPicPr>
        <p:blipFill>
          <a:blip r:embed="rId3"/>
          <a:stretch/>
        </p:blipFill>
        <p:spPr>
          <a:xfrm>
            <a:off x="1523880" y="380880"/>
            <a:ext cx="313380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VIP 102"/>
          <p:cNvPicPr/>
          <p:nvPr/>
        </p:nvPicPr>
        <p:blipFill>
          <a:blip r:embed="rId4"/>
          <a:stretch/>
        </p:blipFill>
        <p:spPr>
          <a:xfrm>
            <a:off x="4762440" y="990720"/>
            <a:ext cx="42022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3581280"/>
            <a:ext cx="8064360" cy="3131280"/>
            <a:chOff x="533520" y="3581280"/>
            <a:chExt cx="8064360" cy="3131280"/>
          </a:xfrm>
        </p:grpSpPr>
        <p:sp>
          <p:nvSpPr>
            <p:cNvPr id="46" name=""/>
            <p:cNvSpPr/>
            <p:nvPr/>
          </p:nvSpPr>
          <p:spPr>
            <a:xfrm>
              <a:off x="604800" y="3581280"/>
              <a:ext cx="64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Задачи работы: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520" y="4058280"/>
              <a:ext cx="8064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. Показать общее в биографиях Ф.М.Достоевского и А.С. Пушкина.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2. На примере произведений А.С. Пушкина и Ф.М.Достоевского показать, как Петербург влиял на судьбы и характеры литературных персонажей.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33520" y="16765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ЦЕЛЬ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работы -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опытаться создать портрет Петербурга как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литературного героя на основе произведений Ф.М.Достоевского и А.С.Пушкина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5029200" y="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7" name="Picture 5" descr="Копия VIP 100"/>
          <p:cNvPicPr/>
          <p:nvPr/>
        </p:nvPicPr>
        <p:blipFill>
          <a:blip r:embed="rId2"/>
          <a:stretch/>
        </p:blipFill>
        <p:spPr>
          <a:xfrm>
            <a:off x="533520" y="533520"/>
            <a:ext cx="8076960" cy="6056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09480" y="1828800"/>
            <a:ext cx="2362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Первая встреча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Фонарный 9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Picture 5" descr="Копия VIP 109"/>
          <p:cNvPicPr/>
          <p:nvPr/>
        </p:nvPicPr>
        <p:blipFill>
          <a:blip r:embed="rId2"/>
          <a:stretch/>
        </p:blipFill>
        <p:spPr>
          <a:xfrm>
            <a:off x="380880" y="838080"/>
            <a:ext cx="4006800" cy="534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казннач"/>
          <p:cNvPicPr/>
          <p:nvPr/>
        </p:nvPicPr>
        <p:blipFill>
          <a:blip r:embed="rId3"/>
          <a:stretch/>
        </p:blipFill>
        <p:spPr>
          <a:xfrm>
            <a:off x="4572000" y="1143000"/>
            <a:ext cx="4378320" cy="4705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1295280" y="62485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Канал Грибоедова 7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4" name="Picture 5" descr="VIP 007"/>
          <p:cNvPicPr/>
          <p:nvPr/>
        </p:nvPicPr>
        <p:blipFill>
          <a:blip r:embed="rId2"/>
          <a:stretch/>
        </p:blipFill>
        <p:spPr>
          <a:xfrm>
            <a:off x="228600" y="685800"/>
            <a:ext cx="4753080" cy="560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VIP 005"/>
          <p:cNvPicPr/>
          <p:nvPr/>
        </p:nvPicPr>
        <p:blipFill>
          <a:blip r:embed="rId3"/>
          <a:stretch/>
        </p:blipFill>
        <p:spPr>
          <a:xfrm>
            <a:off x="5105520" y="685800"/>
            <a:ext cx="38192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7" name="Picture 5" descr="VIP 002"/>
          <p:cNvPicPr/>
          <p:nvPr/>
        </p:nvPicPr>
        <p:blipFill>
          <a:blip r:embed="rId2"/>
          <a:stretch/>
        </p:blipFill>
        <p:spPr>
          <a:xfrm>
            <a:off x="152280" y="228600"/>
            <a:ext cx="5867640" cy="440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достоевский последняя кватрира"/>
          <p:cNvPicPr/>
          <p:nvPr/>
        </p:nvPicPr>
        <p:blipFill>
          <a:blip r:embed="rId3"/>
          <a:stretch/>
        </p:blipFill>
        <p:spPr>
          <a:xfrm>
            <a:off x="4876920" y="2362320"/>
            <a:ext cx="4029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Picture 5" descr="VIP 009"/>
          <p:cNvPicPr/>
          <p:nvPr/>
        </p:nvPicPr>
        <p:blipFill>
          <a:blip r:embed="rId2"/>
          <a:stretch/>
        </p:blipFill>
        <p:spPr>
          <a:xfrm>
            <a:off x="1295280" y="609480"/>
            <a:ext cx="6667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486400" y="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Picture 6" descr="VIP 008"/>
          <p:cNvPicPr/>
          <p:nvPr/>
        </p:nvPicPr>
        <p:blipFill>
          <a:blip r:embed="rId2"/>
          <a:stretch/>
        </p:blipFill>
        <p:spPr>
          <a:xfrm>
            <a:off x="152280" y="380880"/>
            <a:ext cx="3362400" cy="6276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IP 010"/>
          <p:cNvPicPr/>
          <p:nvPr/>
        </p:nvPicPr>
        <p:blipFill>
          <a:blip r:embed="rId3"/>
          <a:stretch/>
        </p:blipFill>
        <p:spPr>
          <a:xfrm>
            <a:off x="3581280" y="2590920"/>
            <a:ext cx="5375520" cy="4030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3886200" y="4572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« - Какая у тебя дурная квартира, Родя, точно гроб, - сказала вдруг Пульхерия Александровна.»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095880" y="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6" name="Picture 5" descr="VIP 014"/>
          <p:cNvPicPr/>
          <p:nvPr/>
        </p:nvPicPr>
        <p:blipFill>
          <a:blip r:embed="rId2"/>
          <a:stretch/>
        </p:blipFill>
        <p:spPr>
          <a:xfrm>
            <a:off x="304920" y="2286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VIP 019"/>
          <p:cNvPicPr/>
          <p:nvPr/>
        </p:nvPicPr>
        <p:blipFill>
          <a:blip r:embed="rId3"/>
          <a:stretch/>
        </p:blipFill>
        <p:spPr>
          <a:xfrm>
            <a:off x="4572000" y="99072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коокушкин"/>
          <p:cNvPicPr/>
          <p:nvPr/>
        </p:nvPicPr>
        <p:blipFill>
          <a:blip r:embed="rId4"/>
          <a:stretch/>
        </p:blipFill>
        <p:spPr>
          <a:xfrm>
            <a:off x="838080" y="3429000"/>
            <a:ext cx="36576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5029200" y="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«Преступление и наказание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0" name="Picture 5" descr="сенная"/>
          <p:cNvPicPr/>
          <p:nvPr/>
        </p:nvPicPr>
        <p:blipFill>
          <a:blip r:embed="rId2"/>
          <a:stretch/>
        </p:blipFill>
        <p:spPr>
          <a:xfrm>
            <a:off x="3429000" y="2590920"/>
            <a:ext cx="5524560" cy="407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СЕННАЯ"/>
          <p:cNvPicPr/>
          <p:nvPr/>
        </p:nvPicPr>
        <p:blipFill>
          <a:blip r:embed="rId3"/>
          <a:stretch/>
        </p:blipFill>
        <p:spPr>
          <a:xfrm>
            <a:off x="228600" y="380880"/>
            <a:ext cx="8077320" cy="2644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04920" y="3429000"/>
            <a:ext cx="304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«Он стал на колени среди площади, поклонился до земли и поцеловал эту грязную землю с наслаждением и счастьем…»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76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09680"/>
            <a:ext cx="74674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Структура работы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 глава - Санкт-Петербург в жизни А.С.Пушкина и Ф.М.Достоевского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глава  - Петербург в произведениях  А.С. Пушкина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3 глава - Петербург в произведениях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Ф.М. Достоевского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24000" y="2492280"/>
            <a:ext cx="4478040" cy="3616560"/>
            <a:chOff x="324000" y="2492280"/>
            <a:chExt cx="4478040" cy="36165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324000" y="2492280"/>
              <a:ext cx="2606400" cy="22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1042920" y="450864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2411280" y="3500280"/>
              <a:ext cx="2390760" cy="14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4952880" y="2438280"/>
            <a:ext cx="38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юблю тебя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тра творенье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юблю твой строгий, стройный вид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вы державное теченье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реговой ее гранит…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15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0920" y="2209680"/>
            <a:ext cx="8892720" cy="4010400"/>
            <a:chOff x="250920" y="2209680"/>
            <a:chExt cx="8892720" cy="40104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50920" y="2209680"/>
              <a:ext cx="4731840" cy="33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5840" y="2438280"/>
              <a:ext cx="399780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Город пышный, город бедный,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Дух неволи, стройный вид,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Свод небес зелено-бледный, 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Скука, холод и гранит …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А.С.Пушкин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2280" y="5486040"/>
              <a:ext cx="37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«Медный всадник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5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2349360"/>
            <a:ext cx="5840280" cy="4149720"/>
            <a:chOff x="0" y="2349360"/>
            <a:chExt cx="5840280" cy="41497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419640" y="3933720"/>
              <a:ext cx="242064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755640" y="3284640"/>
              <a:ext cx="40356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0" y="2349360"/>
              <a:ext cx="2303640" cy="19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5867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амый умышленный и отвлеченный город в мире…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.М.Достоевский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8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6000" y="2781360"/>
            <a:ext cx="5785200" cy="3735360"/>
            <a:chOff x="216000" y="2781360"/>
            <a:chExt cx="5785200" cy="373536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 rot="1402200">
              <a:off x="3131640" y="4005000"/>
              <a:ext cx="2592360" cy="1933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216000" y="2781360"/>
              <a:ext cx="3287520" cy="3735360"/>
              <a:chOff x="216000" y="2781360"/>
              <a:chExt cx="3287520" cy="3735360"/>
            </a:xfrm>
          </p:grpSpPr>
          <p:pic>
            <p:nvPicPr>
              <p:cNvPr id="72" name="" descr=""/>
              <p:cNvPicPr/>
              <p:nvPr/>
            </p:nvPicPr>
            <p:blipFill>
              <a:blip r:embed="rId3"/>
              <a:stretch/>
            </p:blipFill>
            <p:spPr>
              <a:xfrm rot="20682000">
                <a:off x="468360" y="3933360"/>
                <a:ext cx="2663640" cy="227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19280" y="2781360"/>
                <a:ext cx="1884240" cy="224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" name=""/>
          <p:cNvSpPr/>
          <p:nvPr/>
        </p:nvSpPr>
        <p:spPr>
          <a:xfrm>
            <a:off x="5940360" y="2997360"/>
            <a:ext cx="32036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 меня уже есть два-три мечта в Петербурге. Я даже один раз заплакал от воспоминанья…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.Достоевский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15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50840"/>
            <a:ext cx="685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Основные выводы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И А.С. Пушкин, и Ф.М. Достоевский пытались разгадать тайны великого города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А.Пушкина Петербург был воплощением величества и могущества, для Ф.Достоевского город был однообразен и именно этим давил на живущих в нем людей.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А.Пушкин создал из Петербурга целый мир, Петербург Ф.Достоевского - многогранен и неоднозначен. Это мир, раскрывающий  трагизм, противоречия и чары эпохи второй половины Х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Х века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Петербург как литературный герой в произведениях А.С.Пушкина и Ф.М.Достоевского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5280" y="2492280"/>
            <a:ext cx="8388360" cy="4117320"/>
            <a:chOff x="395280" y="2492280"/>
            <a:chExt cx="8388360" cy="4117320"/>
          </a:xfrm>
        </p:grpSpPr>
        <p:sp>
          <p:nvSpPr>
            <p:cNvPr id="79" name=""/>
            <p:cNvSpPr/>
            <p:nvPr/>
          </p:nvSpPr>
          <p:spPr>
            <a:xfrm>
              <a:off x="3708360" y="2492280"/>
              <a:ext cx="507528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Пушкин и Достоевский безоговорочно признавали силу и величие Санкт-Петербурга, создали серию неповторимых портретов города в своих произведениях, и, несомненно, этих гениальных уроженцев древней Москвы можно считать истинными петербуржцами. 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95280" y="2924280"/>
              <a:ext cx="5400360" cy="2722320"/>
              <a:chOff x="395280" y="2924280"/>
              <a:chExt cx="5400360" cy="2722320"/>
            </a:xfrm>
          </p:grpSpPr>
          <p:pic>
            <p:nvPicPr>
              <p:cNvPr id="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924280"/>
                <a:ext cx="3243960" cy="230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746520" y="3187440"/>
                <a:ext cx="2049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6040" y="5190120"/>
                <a:ext cx="17002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.maricheva</cp:lastModifiedBy>
  <dcterms:modified xsi:type="dcterms:W3CDTF">2013-10-15T06:19:1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