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E66-A597-4C85-A133-8DE2DC1A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1F6-B284-4873-89C7-E19A953E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D9E-5EC8-4865-8C66-718AA0C5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987-F984-4E8A-A93F-56E68404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18E-DD2A-432D-9BAB-0451A5A7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BD4-80C1-4E9C-89AA-9EC7848B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644-D0A0-457C-97E6-08042FC3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26C-1271-4187-83D9-BAD1F48B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2B8-22C5-459B-8E07-00695704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258-915D-4EE9-8C23-4CC405A4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D8D-90BE-4977-85EB-C5A9774B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D555-B5E2-4378-AC91-62BCBF16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7202-33E8-42DC-8713-817DD5E9CC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1071720" y="1500120"/>
            <a:ext cx="3143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amou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214960" y="928800"/>
            <a:ext cx="30002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6572160" y="3857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393228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377208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38829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5349600" y="4643280"/>
            <a:ext cx="30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имченко Гузель Гакиф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БОУ СОШ № 2 г.Елаб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одержимое 4" descr="220px-Joseph_Mallord_William_Turner_083.jpg"/>
          <p:cNvPicPr/>
          <p:nvPr/>
        </p:nvPicPr>
        <p:blipFill>
          <a:blip r:embed="rId2"/>
          <a:stretch/>
        </p:blipFill>
        <p:spPr>
          <a:xfrm>
            <a:off x="2571840" y="2714760"/>
            <a:ext cx="1428840" cy="1643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6500880" y="1071720"/>
            <a:ext cx="7459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ристи"/>
          <p:cNvPicPr/>
          <p:nvPr/>
        </p:nvPicPr>
        <p:blipFill>
          <a:blip r:embed="rId4"/>
          <a:stretch/>
        </p:blipFill>
        <p:spPr>
          <a:xfrm>
            <a:off x="7572240" y="1071720"/>
            <a:ext cx="844560" cy="12142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52" name="Picture 2" descr="F:\56952323.jpg"/>
          <p:cNvPicPr/>
          <p:nvPr/>
        </p:nvPicPr>
        <p:blipFill>
          <a:blip r:embed="rId5"/>
          <a:stretch/>
        </p:blipFill>
        <p:spPr>
          <a:xfrm>
            <a:off x="5286240" y="1000080"/>
            <a:ext cx="960480" cy="1357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6"/>
          <a:stretch/>
        </p:blipFill>
        <p:spPr>
          <a:xfrm>
            <a:off x="6429240" y="2643120"/>
            <a:ext cx="1071720" cy="1401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"/>
          <p:cNvPicPr/>
          <p:nvPr/>
        </p:nvPicPr>
        <p:blipFill>
          <a:blip r:embed="rId7"/>
          <a:stretch/>
        </p:blipFill>
        <p:spPr>
          <a:xfrm>
            <a:off x="1143000" y="2643120"/>
            <a:ext cx="1214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1071720" y="1500120"/>
            <a:ext cx="3143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amou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5214960" y="928800"/>
            <a:ext cx="3000240" cy="87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Agatha Chris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r 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an Do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lie Chap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niel Def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oseph Tu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ohn Len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lliam Shakespe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6572160" y="3857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393228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377208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38829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5286240" y="3857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393228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377208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38829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1940760" y="40719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Charlie Chap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1"/>
          <p:cNvSpPr/>
          <p:nvPr/>
        </p:nvSpPr>
        <p:spPr>
          <a:xfrm>
            <a:off x="5500800" y="1571760"/>
            <a:ext cx="3286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at is his na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His name is Charlie Chapl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What was 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He was an English act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lm director and compo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What is he famous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He is famous for his fil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2"/>
          <a:stretch/>
        </p:blipFill>
        <p:spPr>
          <a:xfrm>
            <a:off x="2000160" y="1000080"/>
            <a:ext cx="2041560" cy="29908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3"/>
          <p:cNvSpPr/>
          <p:nvPr/>
        </p:nvSpPr>
        <p:spPr>
          <a:xfrm>
            <a:off x="2075760" y="442908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1889 — 19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Управляющая кнопка: далее 10">
            <a:hlinkClick r:id="" action="ppaction://hlinkshowjump?jump=firstslide"/>
          </p:cNvPr>
          <p:cNvSpPr/>
          <p:nvPr/>
        </p:nvSpPr>
        <p:spPr>
          <a:xfrm>
            <a:off x="8358120" y="5214960"/>
            <a:ext cx="357120" cy="5713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571320"/>
              <a:gd name="textAreaBottom" fmla="*/ 548280 h 571320"/>
            </a:gdLst>
            <a:ahLst/>
            <a:rect l="textAreaLeft" t="textAreaTop" r="textAreaRight" b="textAreaBottom"/>
            <a:pathLst>
              <a:path w="21600" h="34543">
                <a:moveTo>
                  <a:pt x="0" y="0"/>
                </a:moveTo>
                <a:lnTo>
                  <a:pt x="21600" y="0"/>
                </a:lnTo>
                <a:lnTo>
                  <a:pt x="21600" y="34543"/>
                </a:lnTo>
                <a:lnTo>
                  <a:pt x="0" y="34543"/>
                </a:lnTo>
                <a:close/>
              </a:path>
              <a:path fill="lightenLess" w="21600" h="345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3">
                <a:moveTo>
                  <a:pt x="21600" y="0"/>
                </a:moveTo>
                <a:lnTo>
                  <a:pt x="21600" y="34543"/>
                </a:lnTo>
                <a:lnTo>
                  <a:pt x="20200" y="33143"/>
                </a:lnTo>
                <a:lnTo>
                  <a:pt x="20200" y="1400"/>
                </a:lnTo>
                <a:close/>
              </a:path>
              <a:path fill="darkenLess" w="21600" h="34543">
                <a:moveTo>
                  <a:pt x="21600" y="34543"/>
                </a:moveTo>
                <a:lnTo>
                  <a:pt x="0" y="34543"/>
                </a:lnTo>
                <a:lnTo>
                  <a:pt x="1400" y="33143"/>
                </a:lnTo>
                <a:lnTo>
                  <a:pt x="20200" y="33143"/>
                </a:lnTo>
                <a:close/>
              </a:path>
              <a:path fill="lighten" w="21600" h="34543">
                <a:moveTo>
                  <a:pt x="0" y="34543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3"/>
                </a:lnTo>
                <a:close/>
              </a:path>
              <a:path fill="darken" w="21600" h="34543">
                <a:moveTo>
                  <a:pt x="3794" y="10265"/>
                </a:moveTo>
                <a:lnTo>
                  <a:pt x="17806" y="17271"/>
                </a:lnTo>
                <a:lnTo>
                  <a:pt x="3794" y="2427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6:46:04Z</dcterms:created>
  <dc:creator>Семерок Н.А.</dc:creator>
  <dc:description/>
  <dc:language>en-US</dc:language>
  <cp:lastModifiedBy>Пользователь</cp:lastModifiedBy>
  <dcterms:modified xsi:type="dcterms:W3CDTF">2013-10-15T12:37:17Z</dcterms:modified>
  <cp:revision>50</cp:revision>
  <dc:subject/>
  <dc:title>Знаменитые люди</dc:title>
</cp:coreProperties>
</file>