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CB-373B-436E-958D-2C68D1B5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F5E-A4AA-4CCC-B2E1-8F76F0C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FD4-C043-4658-B56A-30A177C2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C89-1F13-41EB-AACA-E7A7F3F1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8EE-73AA-45E6-8578-216583E2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720-620C-47D8-AC70-6ACB267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20C-2E02-4A77-AB7A-0595A41B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7E2-7A60-4D3F-8FCF-D9CB18AE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E9B-1F8B-4D32-B1A2-0646EF9A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9F1-2772-4282-93DE-0881341B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F97-89F8-42AE-A10F-81BDAE6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53E-DE97-4279-8AB5-9457800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55AA-02CA-4F72-A101-C3E49AAEB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3573360"/>
            <a:ext cx="493236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ступило наше любимое время года - весна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1..jpg"/>
          <p:cNvPicPr/>
          <p:nvPr/>
        </p:nvPicPr>
        <p:blipFill>
          <a:blip r:embed="rId1"/>
          <a:stretch/>
        </p:blipFill>
        <p:spPr>
          <a:xfrm>
            <a:off x="0" y="0"/>
            <a:ext cx="4211640" cy="3573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2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357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E:\3.jpg"/>
          <p:cNvPicPr/>
          <p:nvPr/>
        </p:nvPicPr>
        <p:blipFill>
          <a:blip r:embed="rId3"/>
          <a:stretch/>
        </p:blipFill>
        <p:spPr>
          <a:xfrm>
            <a:off x="0" y="3284640"/>
            <a:ext cx="42116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1187280" y="189000"/>
            <a:ext cx="612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з 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һәм кар эред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7f7f7f"/>
                </a:solidFill>
                <a:latin typeface="Calibri"/>
              </a:rPr>
              <a:t>Лед и снег растая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Сулар йөгер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7f7f7f"/>
                </a:solidFill>
                <a:latin typeface="Calibri"/>
              </a:rPr>
              <a:t>Ручейки побеж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Елап елгал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7f7f7f"/>
                </a:solidFill>
                <a:latin typeface="Calibri"/>
              </a:rPr>
              <a:t>Реки плач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Яш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ләр түгел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7f7f7f"/>
                </a:solidFill>
                <a:latin typeface="Calibri"/>
              </a:rPr>
              <a:t>Слезы ли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Көннәр оз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7f7f7f"/>
                </a:solidFill>
                <a:latin typeface="Calibri"/>
              </a:rPr>
              <a:t>Дни удлиння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Төннәр кыскар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f7f7f"/>
                </a:solidFill>
                <a:latin typeface="Calibri"/>
              </a:rPr>
              <a:t>Ночи укорачива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Бу кайсы вакы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7f7f7f"/>
                </a:solidFill>
                <a:latin typeface="Calibri"/>
              </a:rPr>
              <a:t>Скажите-ка, какое время го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Я, әйтеп к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Г.Тукай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95280" y="301680"/>
            <a:ext cx="381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Бу кош урман санита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alibri"/>
              </a:rPr>
              <a:t>Эта птица санитар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Анда бик к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үп агачлар үс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Там растут очен</a:t>
            </a:r>
            <a:r>
              <a:rPr b="0" lang="ru-RU" sz="2800" spc="-1" strike="noStrike">
                <a:solidFill>
                  <a:srgbClr val="7f7f7f"/>
                </a:solidFill>
                <a:latin typeface="Calibri"/>
              </a:rPr>
              <a:t>ь</a:t>
            </a: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 много дерев</a:t>
            </a:r>
            <a:r>
              <a:rPr b="0" lang="ru-RU" sz="2800" spc="-1" strike="noStrike">
                <a:solidFill>
                  <a:srgbClr val="7f7f7f"/>
                </a:solidFill>
                <a:latin typeface="Calibri"/>
              </a:rPr>
              <a:t>ь</a:t>
            </a: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3.Без аны укыйбы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Мы е</a:t>
            </a:r>
            <a:r>
              <a:rPr b="0" lang="ru-RU" sz="2800" spc="-1" strike="noStrike">
                <a:solidFill>
                  <a:srgbClr val="7f7f7f"/>
                </a:solidFill>
                <a:latin typeface="Calibri"/>
              </a:rPr>
              <a:t>ё</a:t>
            </a: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 чит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4. Ул тәмле, баллы, агачта үс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Это вкусное, сладкое растет на дере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5. Без анда яшиб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Мы там </a:t>
            </a:r>
            <a:r>
              <a:rPr b="0" lang="ru-RU" sz="2800" spc="-1" strike="noStrike">
                <a:solidFill>
                  <a:srgbClr val="7f7f7f"/>
                </a:solidFill>
                <a:latin typeface="Calibri"/>
              </a:rPr>
              <a:t>ж</a:t>
            </a:r>
            <a:r>
              <a:rPr b="0" lang="tt-RU" sz="2800" spc="-1" strike="noStrike">
                <a:solidFill>
                  <a:srgbClr val="7f7f7f"/>
                </a:solidFill>
                <a:latin typeface="Calibri"/>
              </a:rPr>
              <a:t>ив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4720" y="260280"/>
          <a:ext cx="4354560" cy="371520"/>
        </p:xfrm>
        <a:graphic>
          <a:graphicData uri="http://schemas.openxmlformats.org/drawingml/2006/table">
            <a:tbl>
              <a:tblPr/>
              <a:tblGrid>
                <a:gridCol w="725400"/>
                <a:gridCol w="725400"/>
                <a:gridCol w="727200"/>
                <a:gridCol w="725400"/>
                <a:gridCol w="725400"/>
                <a:gridCol w="725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284720" y="692280"/>
          <a:ext cx="3551040" cy="366480"/>
        </p:xfrm>
        <a:graphic>
          <a:graphicData uri="http://schemas.openxmlformats.org/drawingml/2006/table">
            <a:tbl>
              <a:tblPr/>
              <a:tblGrid>
                <a:gridCol w="709560"/>
                <a:gridCol w="711360"/>
                <a:gridCol w="709560"/>
                <a:gridCol w="711000"/>
                <a:gridCol w="70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1125360"/>
          <a:ext cx="3840120" cy="370080"/>
        </p:xfrm>
        <a:graphic>
          <a:graphicData uri="http://schemas.openxmlformats.org/drawingml/2006/table">
            <a:tbl>
              <a:tblPr/>
              <a:tblGrid>
                <a:gridCol w="766800"/>
                <a:gridCol w="768240"/>
                <a:gridCol w="768240"/>
                <a:gridCol w="768600"/>
                <a:gridCol w="76824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284720" y="1557360"/>
          <a:ext cx="3119400" cy="369720"/>
        </p:xfrm>
        <a:graphic>
          <a:graphicData uri="http://schemas.openxmlformats.org/drawingml/2006/table">
            <a:tbl>
              <a:tblPr/>
              <a:tblGrid>
                <a:gridCol w="671400"/>
                <a:gridCol w="816120"/>
                <a:gridCol w="815760"/>
                <a:gridCol w="816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284720" y="1989000"/>
          <a:ext cx="2975040" cy="370080"/>
        </p:xfrm>
        <a:graphic>
          <a:graphicData uri="http://schemas.openxmlformats.org/drawingml/2006/table">
            <a:tbl>
              <a:tblPr/>
              <a:tblGrid>
                <a:gridCol w="743040"/>
                <a:gridCol w="744480"/>
                <a:gridCol w="744480"/>
                <a:gridCol w="74304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РАБОЧИЙ СТОЛ\20_709x1029.jpg"/>
          <p:cNvPicPr/>
          <p:nvPr/>
        </p:nvPicPr>
        <p:blipFill>
          <a:blip r:embed="rId1"/>
          <a:stretch/>
        </p:blipFill>
        <p:spPr>
          <a:xfrm>
            <a:off x="2209680" y="0"/>
            <a:ext cx="47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618840" y="836640"/>
            <a:ext cx="765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итуатив 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үнегүләр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знай у своего соседа, кто такой Г.Тука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кие сказки Г.Тукая знает твой дру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знай, ес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ли музей Г.Тукая в Каза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знай, знает ли твой друг стихи Г.Тук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80840" y="765000"/>
            <a:ext cx="74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Calibri"/>
              </a:rPr>
              <a:t>Дәрес үтеп тә китте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Calibri"/>
              </a:rPr>
              <a:t>Хушлашыр вакыт җитте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Calibri"/>
              </a:rPr>
              <a:t>Дүрткә – бишкә укыгыз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Calibri"/>
              </a:rPr>
              <a:t>Әлегә сау булыгыз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03:34Z</dcterms:created>
  <dc:creator>User</dc:creator>
  <dc:description/>
  <dc:language>en-US</dc:language>
  <cp:lastModifiedBy>User</cp:lastModifiedBy>
  <dcterms:modified xsi:type="dcterms:W3CDTF">2012-04-18T17:39:30Z</dcterms:modified>
  <cp:revision>12</cp:revision>
  <dc:subject/>
  <dc:title>Слайд 1</dc:title>
</cp:coreProperties>
</file>