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A7DAA-2CB5-43AB-A2BF-9ED2D88B0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A0198-589A-4E0C-A3AF-D5CDF3193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83E8E-5CDF-4A86-8EC8-C66BCDA13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70CC4-2F93-4495-9C39-256DC32A8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6D36C-FBBA-4C11-A92E-B0DFB0384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643B1-164D-496A-BA0A-5620D5D9A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46686-4EC3-4802-911A-DDA425379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499CA-CFB0-4898-9801-CE4FAEC10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AC726-2004-442B-BDC5-5F61C1423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F1CB1-C1AA-40AE-97DF-618DA8CDE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00113-6E5C-4F1D-9932-9FD02B183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C2D46-9579-4464-97CE-A5F21DA20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F0A41-2C1F-4D6C-BEEB-F4031D4D9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AB016-EB75-448E-B0EF-AFD38DB4B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AB161-3FAE-4EAA-9209-5A3A9BC0A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E349D6-2DE9-4F9A-9238-95B63A8370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377A19-BFF5-4525-A01B-51143833D4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8E9ABA-6784-4679-871F-19CD5BB29C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5857FA-6773-4215-85E6-644F9D597B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1A1CC3-F01F-44B2-B8C3-E21F6E30A0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CCDF47-4DDC-4DDE-BBBD-06B23B4A4C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ED9C31-2306-43B7-90F1-021262C793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19741-5818-4009-8E9D-7507F4E9C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E35401-942A-4C3A-81CF-27552548F3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ECD929-7EAB-4645-9BCB-1C12478C99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0B6797-45C9-460D-BD09-2ABD24711F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FF10A8-4651-427A-8D28-D6A657A803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9D2876-B44A-4D2A-893C-A5AA8E6EE9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DBFCB9-503D-4F7A-A091-B1D024BA6F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809FDC-A17F-4457-A48B-E36F4C9B0D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1DF92E-41B6-4A9A-87FE-03DAAB0F9F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F14933-CE0A-46E5-8AD5-AEF1841B4F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F1B553-AF0F-49DB-9906-870D3AB22C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200CD-9E04-4403-B223-D5C2138A0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9879D2-9B52-448E-A829-7F60C2E6D8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041068-856A-4625-AEF0-0D4F3011EA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4C3EAB-E8A7-4B5F-AFC5-1992AA17D2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125B25-2A09-48A3-B600-F4C452537A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CAC62F-0657-43EF-80CA-DE6781C050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FBC747-1635-410E-A3BB-4C2158F71D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65154F-EA37-4AC1-A7D0-08CC7F1982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857BDD-2350-4DF6-A922-B899F1B9CC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9FB601-30B5-4E15-AFF0-6F20A23B3B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828B89-4012-4C25-8CB8-B5BDA00670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C00A4-E694-49CF-A252-604DF8BCF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C1477A-5D93-47F5-B362-243C78E387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A08E03-5A4E-448D-B5F9-380627FC68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1A5CB6-95C6-4320-95D2-CA719CF0D6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BE75D3-5C74-4DBF-A09C-9A8FCF803B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CA6D4E-52CB-4CB3-9D5E-3BB43AEC84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1C2B6B-5635-4442-8AD6-575D16FE4B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B9A8FC-1C0F-469D-8DD9-34482D1970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47EB63-3929-4799-BB60-1F92B36E27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DA457B-83A7-490A-8879-5532A8CE00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646072-CD05-445B-9407-479936E432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23C74-EDF6-489D-B41B-F9C21221D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62B64C-8704-42A4-9B44-BDF863E161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55525-B6D8-4C3B-BDCE-A3EC7099B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CF11C-836D-4E11-BFB0-A06FF16E6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0CC8F-4F00-4CC2-8629-42421D032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3977E-C9D2-43B6-9B2A-006AED7D0CEF}"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64000" y="-6480"/>
            <a:ext cx="6486480" cy="6870960"/>
            <a:chOff x="2664000" y="-6480"/>
            <a:chExt cx="6486480" cy="6870960"/>
          </a:xfrm>
        </p:grpSpPr>
        <p:pic>
          <p:nvPicPr>
            <p:cNvPr id="45" name="Прямоугольник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D9EA3-DAB1-459F-B9E9-32F7F9A0115F}" type="slidenum">
              <a:rPr b="0" lang="ru-RU"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0400" y="-6480"/>
            <a:ext cx="1000080" cy="6870960"/>
            <a:chOff x="8150400" y="-6480"/>
            <a:chExt cx="1000080" cy="6870960"/>
          </a:xfrm>
        </p:grpSpPr>
        <p:pic>
          <p:nvPicPr>
            <p:cNvPr id="90" name="Прямоугольник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DC12C-6804-4591-99C4-035A4D9CBFEC}"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548AB-C0E8-4847-8A2F-45AA285B5ED7}" type="slidenum">
              <a:rPr b="0" lang="ru-RU"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0400" y="-6480"/>
            <a:ext cx="1000080" cy="6870960"/>
            <a:chOff x="8150400" y="-6480"/>
            <a:chExt cx="1000080" cy="6870960"/>
          </a:xfrm>
        </p:grpSpPr>
        <p:pic>
          <p:nvPicPr>
            <p:cNvPr id="177" name="Прямоугольник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E852-0467-4743-BE12-8584040B6419}"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Заголовок 1" descr=""/>
          <p:cNvPicPr/>
          <p:nvPr/>
        </p:nvPicPr>
        <p:blipFill>
          <a:blip r:embed="rId1"/>
          <a:stretch/>
        </p:blipFill>
        <p:spPr>
          <a:xfrm>
            <a:off x="3359160" y="530280"/>
            <a:ext cx="5535720" cy="287820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art II</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1" descr=""/>
          <p:cNvPicPr/>
          <p:nvPr/>
        </p:nvPicPr>
        <p:blipFill>
          <a:blip r:embed="rId1"/>
          <a:stretch/>
        </p:blipFill>
        <p:spPr>
          <a:xfrm>
            <a:off x="212760" y="317520"/>
            <a:ext cx="7493040" cy="1150920"/>
          </a:xfrm>
          <a:prstGeom prst="rect">
            <a:avLst/>
          </a:prstGeom>
          <a:ln w="0">
            <a:noFill/>
          </a:ln>
        </p:spPr>
      </p:pic>
      <p:sp>
        <p:nvSpPr>
          <p:cNvPr id="223"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2.1), p.5 listen and name the country the text is abou</a:t>
            </a:r>
            <a:r>
              <a:rPr b="0" lang="en-US" sz="2800" spc="-1" strike="noStrike">
                <a:solidFill>
                  <a:srgbClr val="000000"/>
                </a:solidFill>
                <a:latin typeface="Trebuchet MS"/>
              </a:rPr>
              <a:t>t</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Заголовок 1" descr=""/>
          <p:cNvPicPr/>
          <p:nvPr/>
        </p:nvPicPr>
        <p:blipFill>
          <a:blip r:embed="rId1"/>
          <a:stretch/>
        </p:blipFill>
        <p:spPr>
          <a:xfrm>
            <a:off x="285840" y="73080"/>
            <a:ext cx="7419960" cy="1395360"/>
          </a:xfrm>
          <a:prstGeom prst="rect">
            <a:avLst/>
          </a:prstGeom>
          <a:ln w="0">
            <a:noFill/>
          </a:ln>
        </p:spPr>
      </p:pic>
      <p:sp>
        <p:nvSpPr>
          <p:cNvPr id="225"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d using the article “THE” with the geographical names when you describe a country</a:t>
            </a:r>
            <a:endParaRPr b="0" lang="en-US" sz="24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graphicFrame>
        <p:nvGraphicFramePr>
          <p:cNvPr id="226" name=""/>
          <p:cNvGraphicFramePr/>
          <p:nvPr/>
        </p:nvGraphicFramePr>
        <p:xfrm>
          <a:off x="1000080" y="2928960"/>
          <a:ext cx="6095880" cy="4572000"/>
        </p:xfrm>
        <a:graphic>
          <a:graphicData uri="http://schemas.openxmlformats.org/drawingml/2006/table">
            <a:tbl>
              <a:tblPr/>
              <a:tblGrid>
                <a:gridCol w="3048120"/>
                <a:gridCol w="30477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r>
                        <a:rPr b="1" lang="en-US" sz="1800" spc="-1" strike="noStrike">
                          <a:solidFill>
                            <a:srgbClr val="ffffff"/>
                          </a:solidFill>
                          <a:latin typeface="Trebuchet MS"/>
                        </a:rPr>
                        <a:t>TH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420876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untain Ranges (the Ural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Group of islands (The British Isl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ivers (The Volg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ceans(The Atlantic Ocea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as (The Black Se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eserts (The Gobi Deser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untries (with the words “Federation”, “Kingdom”, “States”) (The Russian Fede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ne mountain (Everes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ne island (Jamaic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ities (Moscow)</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Most countries (Britai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ntinents (Afr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800" spc="-1" strike="noStrike">
              <a:solidFill>
                <a:srgbClr val="000000"/>
              </a:solidFill>
              <a:latin typeface="Trebuchet MS"/>
            </a:endParaRPr>
          </a:p>
        </p:txBody>
      </p:sp>
      <p:sp>
        <p:nvSpPr>
          <p:cNvPr id="228"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 your examples of the geographical names with the article and without it</a:t>
            </a:r>
            <a:endParaRPr b="0" lang="en-US" sz="2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Заголовок 1" descr=""/>
          <p:cNvPicPr/>
          <p:nvPr/>
        </p:nvPicPr>
        <p:blipFill>
          <a:blip r:embed="rId1"/>
          <a:stretch/>
        </p:blipFill>
        <p:spPr>
          <a:xfrm>
            <a:off x="244440" y="-225360"/>
            <a:ext cx="7461360" cy="1693800"/>
          </a:xfrm>
          <a:prstGeom prst="rect">
            <a:avLst/>
          </a:prstGeom>
          <a:ln w="0">
            <a:noFill/>
          </a:ln>
        </p:spPr>
      </p:pic>
      <p:sp>
        <p:nvSpPr>
          <p:cNvPr id="230"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 2.3), p. 6. Let’s divide into three groups. Choose any card from these ones, then return it –you’ll see the picture. Find your partners with the same picture on the card(pictures are the flags of three countries –Australia, The USA, The UK) from the reverse side of the card. Make a group</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Заголовок 1" descr=""/>
          <p:cNvPicPr/>
          <p:nvPr/>
        </p:nvPicPr>
        <p:blipFill>
          <a:blip r:embed="rId1"/>
          <a:stretch/>
        </p:blipFill>
        <p:spPr>
          <a:xfrm>
            <a:off x="212760" y="317520"/>
            <a:ext cx="7493040" cy="1150920"/>
          </a:xfrm>
          <a:prstGeom prst="rect">
            <a:avLst/>
          </a:prstGeom>
          <a:ln w="0">
            <a:noFill/>
          </a:ln>
        </p:spPr>
      </p:pic>
      <p:sp>
        <p:nvSpPr>
          <p:cNvPr id="232"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Describe the country on your card, using ex. 2.3),p. 6</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Заголовок 1" descr=""/>
          <p:cNvPicPr/>
          <p:nvPr/>
        </p:nvPicPr>
        <p:blipFill>
          <a:blip r:embed="rId1"/>
          <a:stretch/>
        </p:blipFill>
        <p:spPr>
          <a:xfrm>
            <a:off x="450720" y="317520"/>
            <a:ext cx="7255080" cy="1150920"/>
          </a:xfrm>
          <a:prstGeom prst="rect">
            <a:avLst/>
          </a:prstGeom>
          <a:ln w="0">
            <a:noFill/>
          </a:ln>
        </p:spPr>
      </p:pic>
      <p:sp>
        <p:nvSpPr>
          <p:cNvPr id="234"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What have you learned today?</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What was difficult</a:t>
            </a:r>
            <a:r>
              <a:rPr b="0" lang="ru-RU" sz="2600" spc="-1" strike="noStrike">
                <a:solidFill>
                  <a:srgbClr val="000000"/>
                </a:solidFill>
                <a:latin typeface="Comic Sans MS"/>
              </a:rPr>
              <a:t> </a:t>
            </a:r>
            <a:r>
              <a:rPr b="0" lang="en-US" sz="2600" spc="-1" strike="noStrike">
                <a:solidFill>
                  <a:srgbClr val="000000"/>
                </a:solidFill>
                <a:latin typeface="Comic Sans MS"/>
              </a:rPr>
              <a:t>(interesting) for you today?</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stimate you classmates’ work at the less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omework: AB ex. 10, p. 15</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800" spc="-1" strike="noStrike">
              <a:solidFill>
                <a:srgbClr val="000000"/>
              </a:solidFill>
              <a:latin typeface="Trebuchet MS"/>
            </a:endParaRPr>
          </a:p>
        </p:txBody>
      </p:sp>
      <p:sp>
        <p:nvSpPr>
          <p:cNvPr id="236" name=""/>
          <p:cNvSpPr txBox="1"/>
          <p:nvPr/>
        </p:nvSpPr>
        <p:spPr>
          <a:xfrm>
            <a:off x="457200" y="1609200"/>
            <a:ext cx="7238880" cy="4846680"/>
          </a:xfrm>
          <a:prstGeom prst="rect">
            <a:avLst/>
          </a:prstGeom>
          <a:noFill/>
          <a:ln w="0">
            <a:noFill/>
          </a:ln>
        </p:spPr>
        <p:txBody>
          <a:bodyPr anchor="t">
            <a:normAutofit/>
          </a:bodyPr>
          <a:p>
            <a:pPr marL="272880" indent="-272880" algn="ctr">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ank you for your work!</a:t>
            </a:r>
            <a:endParaRPr b="0" lang="en-US" sz="4000" spc="-1" strike="noStrike">
              <a:solidFill>
                <a:srgbClr val="000000"/>
              </a:solidFill>
              <a:latin typeface="Trebuchet MS"/>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Ксения</cp:lastModifiedBy>
  <dcterms:modified xsi:type="dcterms:W3CDTF">2013-05-07T13:06:51Z</dcterms:modified>
  <cp:revision>2</cp:revision>
  <dc:subject/>
  <dc:title>Different Countries- different landscapes</dc:title>
</cp:coreProperties>
</file>