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414-B1BA-4828-B78C-FEE7CEA7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D43-4CDE-4A4D-96CC-892E8315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763-8645-4ECF-9E19-40BE28FE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82D-8F63-4FF0-BB14-85DF3426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962-9193-48F6-A3A9-E55B4D7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58D-2E81-4075-A250-FD3D6846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AA2-CA77-49AC-9FED-230F43A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FC7-3D99-49E5-B689-349DFCE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C0C-A171-4C19-A0FB-93851B4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842-B8FF-4138-82D8-E9120A9E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9A9-101E-4B82-AA48-703374E9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4DE-3581-4C36-A06F-80C4FBEF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5E4-BE06-48D5-92C0-3D1EBB585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791856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грированный урок по окружающему миру и русскому языку по теме: «Дружба, друзья и товарищи.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крепление темы «Правила написания имен собственны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й друга обидным прозви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жаднич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лгу злись и обижайся на друга, если поссор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уп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сор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руг попросил у тебя вещь, не дав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друг слом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й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чес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й секрет друга можно потихоньку рассказать в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й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вежл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соглашайся с другом, даже если видишь, что он поступает не пра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ойся попросить прощения, если вдруг обидел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3929040" y="1357200"/>
            <a:ext cx="2643120" cy="4643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2071800" y="1357200"/>
            <a:ext cx="24289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5857920" y="1357200"/>
            <a:ext cx="24289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а     Ут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а         Гус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те  в тетрадь восстановленные слова. Подчеркните известные вам орфограм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,М)...сква, (т,Т)узик, (р,Р)...ка, (б,Б)...рё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                                   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зик                                       берёз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 и запишите предложения, соответствующие 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.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___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___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в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___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.        У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__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ился 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13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5857920" y="1357200"/>
            <a:ext cx="24289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1:39:40Z</dcterms:created>
  <dc:creator>Рождественская</dc:creator>
  <dc:description/>
  <dc:language>en-US</dc:language>
  <cp:lastModifiedBy>Кабинет № 35</cp:lastModifiedBy>
  <dcterms:modified xsi:type="dcterms:W3CDTF">2013-04-17T10:18:44Z</dcterms:modified>
  <cp:revision>8</cp:revision>
  <dc:subject/>
  <dc:title>Слайд 1</dc:title>
</cp:coreProperties>
</file>