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375-DA49-4FA2-9A50-5738BC7A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4F0-4D7D-4082-AB41-45CDB6DD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A3A6B-7C3A-4D8B-91A8-90B292C7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CBC92-79CB-4A6D-83FC-7D43AF31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4AECF-036B-482B-8850-2EDC265F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4A5DE-B6B4-4063-AB87-F9FFBD1D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A1C6D-B111-49CF-82ED-086446AF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FAAA2-E2FA-4E49-84F2-32F5867F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03A77-DA9A-45EC-BD43-62302D0C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28C9C-5243-405C-804A-B4F54966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171A2-331B-436D-9E75-503BEA9B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11583-8694-4561-83C6-5A6CDDB7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51F-725E-40EC-ABB6-DE20F71E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99BC3-B510-4B9A-899B-3EBE13CD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41849-4D20-4678-8F67-E6E31D9D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A945E-9B75-4F5D-8171-8C30586D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B45CC-0147-494C-A98A-992E21A3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E14B8-8690-4687-B172-8F06E834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501D2-DC79-4196-BF88-E91D8E91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C715C-606B-488E-9BA7-122C93B9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05C8A-AE00-4BB2-B5EB-3166FA9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C1902-F47D-4C97-8247-7F661329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0A055-394B-4498-BF00-A5A83360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A48-A3C9-48AB-BB8A-B571A012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405AC-800B-4EF2-959A-B67ECDD5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E948D-A3AB-4706-AF2B-AE46DE16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DF66F-ADFD-4707-8358-0A41D411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9736D-689B-4282-999F-D9FA9B15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10BA0-7530-4C6C-8AD1-3898A29A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05F0E-2C94-4C50-9A42-41AEAD33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59FA1-60C3-4F73-8BB1-78C84B6B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6CD14-8E19-451A-B5BC-F06037A9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77741-3688-44D3-8B5D-6FBACE71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77D1B-3D58-4400-8F5F-E5A3E4BD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83F5-7205-465C-8BF6-CDCA72D8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58212-7D76-49E3-A595-66477B06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1CC3B-D26A-4C72-B714-D808FA7E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1A763-613B-4202-A4C9-8DB5B0E5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47EFA-1110-4FC1-A713-EFFF565F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C64F0-6620-4AEA-800B-3464B647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B089D-6E2F-4E8B-8B2E-6B1B12DA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7E731-2594-444A-AE73-B3355F35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22385-DF13-40D9-B4BE-04435087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3AFCF-13B2-41A6-BBFB-EB1C72F0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ACA42-B097-48FC-B25D-D56281BB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7B1B-727E-4B14-8D7B-6BE2E2F9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9DF42-7BA1-4159-956E-D5FA5012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14781-0E54-4E42-9306-90D37F0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002CE-D2E9-4FE3-8E44-64C30ACC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56FC5-C26A-41C9-BB7E-959064AB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470DC-80D7-4E26-AC8B-E8B48E4B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E8C5-EE71-4070-8BCB-C7FC8EDF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0D23-BE5C-4B8A-89D1-2F1CF386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C3DA-3E70-4CB0-A514-3BEB513C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E699-5A86-4FC0-AD56-6D8A363F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CF40-7A0D-46FD-99E9-8C969395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D07-0AC0-4583-925D-0FBA603F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1B1D-D898-4F62-83D9-02E5F2C0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871B-29A3-4F93-ACFD-17E8780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2323-1851-4357-B170-B617433B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A2BD-07CC-4079-8ED3-35658B44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EDDB-2149-4209-AE13-F7A934BF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BA49-5134-477E-B22C-15143F17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5825-0BF6-4499-BFBB-E92BBFCA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0035B-6F78-41E0-86AD-4408274F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A1BCD-8D17-42CC-AFB6-5193D72D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9B42-4192-4C50-BFE9-D728E88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023-D504-42D7-8BA8-87E42E15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C36B-9F96-4225-8727-284B8DE4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F7376-C279-49B4-9EAC-66FF7449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D572-5832-4051-8926-466D466A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CCF8-5ECC-4098-95EB-959C4197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4BE9-570C-4BEC-823F-200679CF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AE3F-377A-4243-8A5E-F5255022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6BE6-7082-45C6-A478-6B43C5ED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F283-5101-4552-99D6-5913E7BD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C9DBC-0389-449F-B54A-5DBF75DF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8346F-B0D4-4D09-93B8-F715749B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C30-964D-4E9C-8E6D-8C5DCB92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D5AD-113E-42B7-B45A-12BB3C45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71FB5-14DF-433D-9BE3-62EE79AA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0120-335A-4E11-910D-3B2BBACC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FBDDF-3E14-47D7-8BA4-DE72BD4F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D9D12-2900-4967-B05C-23A722A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C2046-4EC9-49F8-9430-A92EB7C0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1664-7A9D-445F-AF77-61606ACB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6794-0543-4251-A982-7CDB34BC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88130-9479-494D-BA60-3F14E913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DCCB9-F5E0-4B7A-BAE7-69D3BA3A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3AF-39B2-4391-A191-7290FA0E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2CB85-46A4-41D3-96EB-998C5F9F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0F4E8-6BDC-42D4-AC77-B8F555FD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F9092-70B4-4FE0-9E92-B2085269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A3CB-240B-4FD6-A8B6-C8267937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6D619-3D4D-4EF1-B8FC-DC07D6E5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09D96-9AD6-446D-AF14-F6952BE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9E3B8-6917-4EC6-A729-474CE96A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AE71-D79F-4980-908B-9332020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06086-9129-4BCF-B6AE-52F6CDAE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85817-4801-4C2E-B282-BED72C69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8D9-A54C-4E6E-8079-E86B8BAD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73F1A-634D-47C4-A11A-7584AA51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BB95E-BF63-4055-BDA4-05FCBE13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546D0-AAA0-40F8-8720-266BE79B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A7549-82D8-4209-A8C1-77B2EEF4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D43B0-FFB8-4187-B45E-34EFBF49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D27D9-F7C0-4D0B-AA12-3B8E1298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9B1D2-7388-4A88-8D1D-586A27FA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30F0-49D1-4573-B625-70A95D10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00C13-D04A-4AB5-AE85-42F280F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73ADD-2C93-4401-A4A1-2122572E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B0E-B257-43BD-9A8C-8CBFDC2B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FF868-0625-4273-9108-861B3411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BAC19-7C93-4332-8C7D-C471DFBD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4169-E5AF-4D24-B1AC-F86A508A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BA874-2B2A-4DC1-8ABE-0BC4FF26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DC85D-2FD1-4922-9ACC-7F1E0080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E9F20-5A8F-45D9-9B9F-EE0DE848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DBB54-D223-4096-9280-DF0B8BC8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EFCCD-ED28-4A1E-83B9-E482CCCC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EC6C2-1A64-4868-81E6-14C9958A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5B40-4985-4116-A3F9-F3588903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614-ED96-4459-B217-0F2FB2A4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B04F3-58D4-4C8B-A7A9-3F43C23E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E5076-4C8F-4949-915E-B868DC0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E2AB6-C952-4867-871F-DF6663BD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FA3C9-BCD1-49BA-883D-0277BA06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71C26-8DC0-4D0A-BFBF-7EF2F7AE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9A6FB-7D91-4073-BE9F-FC8608D8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5DFBB-DD1C-42EA-AB9F-FB074240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04638-86E0-42A9-BF91-CD780F59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A7946-C83E-4B67-A34A-6573B655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75A5A-0204-4B98-B1E3-20D41A9C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5BE-A349-4100-A87D-0408471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7F500-B6D6-4629-8994-A0AB11EF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E14D-D31A-4DD6-B715-A4586770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B17EB-C094-4688-9FB1-520B2157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EDB31-C091-46DD-AC94-0DD08F06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03EE0-8771-4C3C-B9AB-09C6B0BD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5916F-1FCF-45C7-A2A0-763C007F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624E5-5D54-4511-92DF-420681A9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A5349-B90A-4B0D-A1AC-1C4BA2FF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65314-A6ED-4FC7-8B76-9E998484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F56A0-E47E-49EE-99BB-9AEAEC75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FE23-DE1B-4EB1-A74D-5B3EABDD4823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7E5E-29D3-4608-9D8A-8C5851134E65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2929-2018-4D2C-BD4C-9F7EE5E2BEFC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8FA5-E245-4884-B006-15D7DF39D060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D46E-FD4C-4AF5-B1BB-5D721F3EBD49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3A5E-1046-4A7A-9EB9-B1007361A151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2597-A270-4015-B820-82A8EDCDDBDC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4712-4523-49E9-9696-DD3BAFE8BA06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0268-CA81-4FB9-A741-14CCB1AEA592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1174-EF25-4FF7-897F-52449CB51EB0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7C71-4A3C-49CC-83A5-63411D77ABC1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6DB2-6D28-4AB5-9476-CBB3248DA404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:\Documents and Settings\Admin\Рабочий стол\0_7ba1f_b515843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Прямоугольник 3" descr=""/>
          <p:cNvPicPr/>
          <p:nvPr/>
        </p:nvPicPr>
        <p:blipFill>
          <a:blip r:embed="rId2"/>
          <a:stretch/>
        </p:blipFill>
        <p:spPr>
          <a:xfrm>
            <a:off x="1494000" y="1420920"/>
            <a:ext cx="5626080" cy="1925640"/>
          </a:xfrm>
          <a:prstGeom prst="rect">
            <a:avLst/>
          </a:prstGeom>
          <a:ln w="0">
            <a:noFill/>
          </a:ln>
        </p:spPr>
      </p:pic>
      <p:pic>
        <p:nvPicPr>
          <p:cNvPr id="509" name="Прямоугольник 4" descr=""/>
          <p:cNvPicPr/>
          <p:nvPr/>
        </p:nvPicPr>
        <p:blipFill>
          <a:blip r:embed="rId3"/>
          <a:stretch/>
        </p:blipFill>
        <p:spPr>
          <a:xfrm>
            <a:off x="1371600" y="3492360"/>
            <a:ext cx="6284880" cy="1676520"/>
          </a:xfrm>
          <a:prstGeom prst="rect">
            <a:avLst/>
          </a:prstGeom>
          <a:ln w="0">
            <a:noFill/>
          </a:ln>
        </p:spPr>
      </p:pic>
      <p:pic>
        <p:nvPicPr>
          <p:cNvPr id="510" name="Прямоугольник 5" descr=""/>
          <p:cNvPicPr/>
          <p:nvPr/>
        </p:nvPicPr>
        <p:blipFill>
          <a:blip r:embed="rId4"/>
          <a:stretch/>
        </p:blipFill>
        <p:spPr>
          <a:xfrm>
            <a:off x="1206360" y="2706840"/>
            <a:ext cx="6255000" cy="1285560"/>
          </a:xfrm>
          <a:prstGeom prst="rect">
            <a:avLst/>
          </a:prstGeom>
          <a:ln w="0">
            <a:noFill/>
          </a:ln>
        </p:spPr>
      </p:pic>
      <p:pic>
        <p:nvPicPr>
          <p:cNvPr id="511" name="Прямоугольник 6" descr=""/>
          <p:cNvPicPr/>
          <p:nvPr/>
        </p:nvPicPr>
        <p:blipFill>
          <a:blip r:embed="rId5"/>
          <a:stretch/>
        </p:blipFill>
        <p:spPr>
          <a:xfrm>
            <a:off x="3067200" y="1066680"/>
            <a:ext cx="2412720" cy="774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6"/>
          <p:cNvSpPr/>
          <p:nvPr/>
        </p:nvSpPr>
        <p:spPr>
          <a:xfrm>
            <a:off x="0" y="21420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небольшого сибирского села Суслово стоит двухэтажное здание, к которому каждое утро стекаются детские ручейки. Это моя школа, школьный  Дом, где, как и в родительском, каждого любят, уважают, ценят, где учат быть счастливыми и успешными. Я убеждена, что наш школьный  Дом – это не здание, не кабинеты. Это возвышенный дух, мечта, идея, которые увлекают  учителей, учащихся, родителей. А какой будет школа будущего, и кто будет в ней самым главным человек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7"/>
          <p:cNvSpPr/>
          <p:nvPr/>
        </p:nvSpPr>
        <p:spPr>
          <a:xfrm>
            <a:off x="0" y="357192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бы ни было высотное здание школы будущего, это все равно будет храм науки, и рулевым   останется директор. И я мечтаю стать дирек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душой срослась с этой мыслью, что уже знаю: руководство мое будет строиться на  доверительных отношениях и критическом отношении к  собственной деятельности, собственным результа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C:\Documents and Settings\Admin\Рабочий стол\468773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TextBox 7"/>
          <p:cNvSpPr/>
          <p:nvPr/>
        </p:nvSpPr>
        <p:spPr>
          <a:xfrm>
            <a:off x="285840" y="285840"/>
            <a:ext cx="778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ей школе будущего будет много новейшей информационной 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я информатизация школы ни как  появление в школе большего количества компьютеров и интерактивных досок, ни как  появление новой наглядности на уроках, а как возможность изменить весь учебный процесс. Педагог вместо источника информации станет консультантом, направляющим звеном. Благодаря компьютеризации ученики получат огромную возможность участия в олимпиадах, дистанционных викторинах. А созданная дистанционная система обучения позволит обучаться не только на уровне страны, но и в зарубежных школах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C:\Documents and Settings\Admin\Рабочий стол\46877313.jpg"/>
          <p:cNvPicPr/>
          <p:nvPr/>
        </p:nvPicPr>
        <p:blipFill>
          <a:blip r:embed="rId1"/>
          <a:stretch/>
        </p:blipFill>
        <p:spPr>
          <a:xfrm>
            <a:off x="-28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7"/>
          <p:cNvSpPr/>
          <p:nvPr/>
        </p:nvSpPr>
        <p:spPr>
          <a:xfrm>
            <a:off x="214200" y="642960"/>
            <a:ext cx="77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 директора открывает  большие  горизонты в моей будущей деятельности. В  моем понимании директор как современной школы, тек и школы будущего – это  «летящая звезда», это тот, который находится в непрерывном духовном движении, увлекая за собой всех жителей звенящего детскими голосами дома – имя которого Ш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6" descr="C:\Documents and Settings\Admin\Рабочий стол\468773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Box 7"/>
          <p:cNvSpPr/>
          <p:nvPr/>
        </p:nvSpPr>
        <p:spPr>
          <a:xfrm>
            <a:off x="285840" y="642960"/>
            <a:ext cx="8143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живу в небольшом живописном сибирском селе, которое я очень люблю. Поэтому я буду директором сельской школы - а это особая должность! Твоя жизнь, как на ладони, каждый твой шаг и движение на виду. Тебя, твою семью, детей все знают. И ты всех помнишь и знаешь. Перед тобой твой выпускник. Кем он стал, какой он работник, родитель?  Воспитывая учеников, ты воспитываешь все село, от тебя зависит его будущее. Это я понимаю, поэтому успешной учебой сейчас, я готовлю свою успешность в будущем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6" descr="C:\Documents and Settings\Admin\Рабочий стол\468773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7"/>
          <p:cNvSpPr/>
          <p:nvPr/>
        </p:nvSpPr>
        <p:spPr>
          <a:xfrm>
            <a:off x="285840" y="642960"/>
            <a:ext cx="814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ерю: Человек рождается не для поражений, а для побед. Человек рождается для успеха! Каждый день, идя в родную школу, я хочу только одного: чтобы все члены школьной семьи, испытав успех, поверили в себя. Не только красота, но и вера должна спасти мир, вера в себя! Верь в себя - и все получится! Я верю в себя - я непременно стану директором школы будущ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00:02:34Z</dcterms:created>
  <dc:creator>uzer</dc:creator>
  <dc:description/>
  <dc:language>en-US</dc:language>
  <cp:lastModifiedBy>Uchitel</cp:lastModifiedBy>
  <dcterms:modified xsi:type="dcterms:W3CDTF">2013-10-15T11:14:14Z</dcterms:modified>
  <cp:revision>174</cp:revision>
  <dc:subject/>
  <dc:title>Презентация PowerPoint</dc:title>
</cp:coreProperties>
</file>