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3DDE-E80A-4A97-82AC-27B1E8919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00A3-FFBD-4214-B723-69357113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DAF8-3E33-4AFD-A2C3-1EC2262BF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E178-78DB-4D41-B9A8-AFDAC37BB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0B16-9C46-4BF9-A9B9-8EC6C89B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71B0-6FF2-41A1-970D-3F7E885A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8024-AFE9-47DB-93CB-A7EDDBEC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DC83-5D21-48B0-AFC9-56ABED79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6F0E-760F-4655-B43E-60A30FFE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7B17-4044-4A8A-B4DC-68DEA829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770A-242F-47E7-B2AE-F386919D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7299-B4C8-4053-B60C-FB9E32D7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AD5B-5FB7-499A-9A13-0CBF560759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ffice.microsoft.com/ru-ru/templates" TargetMode="External"/><Relationship Id="rId3" Type="http://schemas.openxmlformats.org/officeDocument/2006/relationships/hyperlink" Target="http://office.microsoft.com/ru-ru/templates" TargetMode="External"/><Relationship Id="rId4" Type="http://schemas.openxmlformats.org/officeDocument/2006/relationships/hyperlink" Target="http://school-collection.edu.ru/" TargetMode="External"/><Relationship Id="rId5" Type="http://schemas.openxmlformats.org/officeDocument/2006/relationships/hyperlink" Target="http://www.livegif.ru/archive/plants/87_1.html" TargetMode="External"/><Relationship Id="rId6" Type="http://schemas.openxmlformats.org/officeDocument/2006/relationships/hyperlink" Target="http://www.livegif.ru/archive/plants/87_1.html" TargetMode="External"/><Relationship Id="rId7" Type="http://schemas.openxmlformats.org/officeDocument/2006/relationships/hyperlink" Target="http://www.livegif.ru/archive/plants/87_1.html" TargetMode="External"/><Relationship Id="rId8" Type="http://schemas.openxmlformats.org/officeDocument/2006/relationships/hyperlink" Target="http://www.livegif.ru/archive/plants/87_1.html" TargetMode="External"/><Relationship Id="rId9" Type="http://schemas.openxmlformats.org/officeDocument/2006/relationships/hyperlink" Target="http://www.livegif.ru/archive/plants/87_1.html" TargetMode="External"/><Relationship Id="rId10" Type="http://schemas.openxmlformats.org/officeDocument/2006/relationships/hyperlink" Target="http://www.livegif.ru/archive/plants/87_1.html" TargetMode="External"/><Relationship Id="rId11" Type="http://schemas.openxmlformats.org/officeDocument/2006/relationships/hyperlink" Target="http://www.livegif.ru/archive/plants/87_1.html" TargetMode="External"/><Relationship Id="rId12" Type="http://schemas.openxmlformats.org/officeDocument/2006/relationships/hyperlink" Target="http://www.livegif.ru/archive/plants/87_1.html" TargetMode="External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Блок-схема: альтернативный процесс 10"/>
          <p:cNvGrpSpPr/>
          <p:nvPr/>
        </p:nvGrpSpPr>
        <p:grpSpPr>
          <a:xfrm>
            <a:off x="1079640" y="390600"/>
            <a:ext cx="7332480" cy="1755720"/>
            <a:chOff x="1079640" y="390600"/>
            <a:chExt cx="7332480" cy="1755720"/>
          </a:xfrm>
        </p:grpSpPr>
        <p:pic>
          <p:nvPicPr>
            <p:cNvPr id="42" name="Блок-схема: альтернативный процесс 10" descr=""/>
            <p:cNvPicPr/>
            <p:nvPr/>
          </p:nvPicPr>
          <p:blipFill>
            <a:blip r:embed="rId2"/>
            <a:stretch/>
          </p:blipFill>
          <p:spPr>
            <a:xfrm>
              <a:off x="1079640" y="390600"/>
              <a:ext cx="733248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1224000" y="509760"/>
              <a:ext cx="7053120" cy="14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" name=""/>
          <p:cNvSpPr txBox="1"/>
          <p:nvPr/>
        </p:nvSpPr>
        <p:spPr>
          <a:xfrm>
            <a:off x="1275120" y="422640"/>
            <a:ext cx="687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нимированный кроссворд «Строение семян растений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Блок-схема: память с посл. доступом 11"/>
          <p:cNvSpPr/>
          <p:nvPr/>
        </p:nvSpPr>
        <p:spPr>
          <a:xfrm>
            <a:off x="3500280" y="3929040"/>
            <a:ext cx="5643720" cy="2928960"/>
          </a:xfrm>
          <a:prstGeom prst="flowChartMagneticTap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013280" y="4438800"/>
            <a:ext cx="4024080" cy="20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втор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Фунтова Ирина Геннадье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читель биолог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МБОУ «СОШ №3 с УИОП им. Г. Панфилова» Анжеро-Судженского городского окру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341964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47640" y="227664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5867280" y="47628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5435640" y="83664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119700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263700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227664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191628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8459640" y="155736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5435640" y="155736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5867280" y="155736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6300720" y="155736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6732720" y="155736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8028000" y="155736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7596360" y="155736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7596360" y="263700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7596360" y="227664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596360" y="83664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7596360" y="191628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7164360" y="155736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7596360" y="119700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7596360" y="47628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2411280" y="227664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708360" y="227664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227664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335772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299736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263700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2843280" y="227664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191628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155736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119700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6227640" y="83664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83664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3708360" y="83664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140360" y="83664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83664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5003640" y="83664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5867280" y="83664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27664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227664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140360" y="227664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1979640" y="191628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1979640" y="263700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1979640" y="299736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1979640" y="335772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371628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4140360" y="407664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407664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411280" y="407664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2843280" y="407664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407664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3708360" y="407664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3708360" y="443700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3708360" y="479736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3708360" y="515772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1979640" y="227664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1547640" y="587700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1979640" y="587700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2411280" y="587700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2843280" y="587700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87700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3708360" y="551664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3708360" y="587700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587700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684360" y="587700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587700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53737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3708360" y="35733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2843280" y="7650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3333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21337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1979640" y="14130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1547640" y="40053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7451640" y="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5003640" y="148428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3284640"/>
            <a:ext cx="43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7044120"/>
          </a:xfrm>
          <a:prstGeom prst="rect">
            <a:avLst/>
          </a:prstGeom>
          <a:gradFill rotWithShape="0">
            <a:gsLst>
              <a:gs pos="0">
                <a:srgbClr val="eeece1"/>
              </a:gs>
              <a:gs pos="50000">
                <a:srgbClr val="ffffcc"/>
              </a:gs>
              <a:gs pos="100000">
                <a:srgbClr val="eeec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3241800"/>
            <a:ext cx="8459640" cy="3616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2843280" y="0"/>
            <a:ext cx="5976720" cy="3282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260280"/>
            <a:ext cx="32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ОВТОР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547640" y="227664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47628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5435640" y="83664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119700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5867280" y="263700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227664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191628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8459640" y="155736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155736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155736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>
            <a:off x="6300720" y="155736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>
            <a:off x="6732720" y="155736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>
            <a:off x="8028000" y="155736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155736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>
            <a:off x="7596360" y="263700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7596360" y="227664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/>
          <p:nvPr/>
        </p:nvSpPr>
        <p:spPr>
          <a:xfrm>
            <a:off x="7596360" y="83664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/>
          <p:nvPr/>
        </p:nvSpPr>
        <p:spPr>
          <a:xfrm>
            <a:off x="7596360" y="191628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>
            <a:off x="7164360" y="155736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>
            <a:off x="7596360" y="119700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/>
          <p:nvPr/>
        </p:nvSpPr>
        <p:spPr>
          <a:xfrm>
            <a:off x="7596360" y="47628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/>
          <p:nvPr/>
        </p:nvSpPr>
        <p:spPr>
          <a:xfrm>
            <a:off x="2411280" y="227664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/>
          <p:nvPr/>
        </p:nvSpPr>
        <p:spPr>
          <a:xfrm>
            <a:off x="3708360" y="227664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227664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335772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299736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263700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/>
          <p:nvPr/>
        </p:nvSpPr>
        <p:spPr>
          <a:xfrm>
            <a:off x="2843280" y="227664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191628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155736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119700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6227640" y="83664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83664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3708360" y="83664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4140360" y="83664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83664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5003640" y="83664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83664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/>
          <p:nvPr/>
        </p:nvSpPr>
        <p:spPr>
          <a:xfrm>
            <a:off x="1116000" y="227664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227664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/>
          <p:nvPr/>
        </p:nvSpPr>
        <p:spPr>
          <a:xfrm>
            <a:off x="4140360" y="227664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/>
          <p:nvPr/>
        </p:nvSpPr>
        <p:spPr>
          <a:xfrm>
            <a:off x="1979640" y="191628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/>
          <p:nvPr/>
        </p:nvSpPr>
        <p:spPr>
          <a:xfrm>
            <a:off x="1979640" y="263700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/>
          <p:nvPr/>
        </p:nvSpPr>
        <p:spPr>
          <a:xfrm>
            <a:off x="1979640" y="299736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/>
          <p:nvPr/>
        </p:nvSpPr>
        <p:spPr>
          <a:xfrm>
            <a:off x="1979640" y="335772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1979640" y="371628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4140360" y="407664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/>
          <p:nvPr/>
        </p:nvSpPr>
        <p:spPr>
          <a:xfrm>
            <a:off x="1979640" y="407664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/>
          <p:nvPr/>
        </p:nvSpPr>
        <p:spPr>
          <a:xfrm>
            <a:off x="2411280" y="407664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/>
          <p:nvPr/>
        </p:nvSpPr>
        <p:spPr>
          <a:xfrm>
            <a:off x="2843280" y="407664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407664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407664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708360" y="443700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708360" y="479736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708360" y="515772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1979640" y="227664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1547640" y="587700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1979640" y="587700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2411280" y="587700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2843280" y="587700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/>
          <p:nvPr/>
        </p:nvSpPr>
        <p:spPr>
          <a:xfrm>
            <a:off x="3276720" y="587700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/>
          <p:nvPr/>
        </p:nvSpPr>
        <p:spPr>
          <a:xfrm>
            <a:off x="3708360" y="551664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/>
          <p:nvPr/>
        </p:nvSpPr>
        <p:spPr>
          <a:xfrm>
            <a:off x="3708360" y="587700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587700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/>
          <p:nvPr/>
        </p:nvSpPr>
        <p:spPr>
          <a:xfrm>
            <a:off x="684360" y="587700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1116000" y="587700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250920" y="53737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3708360" y="35733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2843280" y="7650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3333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250920" y="21337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1979640" y="14130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1547640" y="40053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7451640" y="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5003640" y="148428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788000" y="3284640"/>
            <a:ext cx="4105080" cy="327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Молодое растеньице появившееся при прорастании сем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788000" y="3284640"/>
            <a:ext cx="4176720" cy="37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2. След от семяножки на сем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/>
          <p:nvPr/>
        </p:nvSpPr>
        <p:spPr>
          <a:xfrm>
            <a:off x="4788000" y="3284640"/>
            <a:ext cx="4176720" cy="37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3. Защищает семя от повреждения и высых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788000" y="3284640"/>
            <a:ext cx="4176720" cy="324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4. Из него формируется главный корень раст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788000" y="3352680"/>
            <a:ext cx="4176720" cy="320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5. «хранилище питательных веществ» семян многих раст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716360" y="3213000"/>
            <a:ext cx="4249800" cy="35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6. Выносит почечку над поверхностью поч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/>
          <p:nvPr/>
        </p:nvSpPr>
        <p:spPr>
          <a:xfrm>
            <a:off x="4788000" y="3382920"/>
            <a:ext cx="3998880" cy="35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7. Отверстие для входа воды и воздуха в сем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716360" y="3141720"/>
            <a:ext cx="4176720" cy="352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8. Из нее развивается верхушечная почка побе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716360" y="3141720"/>
            <a:ext cx="4033800" cy="35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9. Часть семени с запасом питательных веществ, при прорастании образует первые листь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788000" y="3284640"/>
            <a:ext cx="3998880" cy="352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10. Главная часть семени, зачаток будущего раст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24000" y="4869000"/>
            <a:ext cx="952200" cy="9046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258920" y="1052640"/>
            <a:ext cx="952560" cy="9046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3635280" y="0"/>
            <a:ext cx="952560" cy="905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2268360" y="333360"/>
            <a:ext cx="952560" cy="9050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6"/>
          <a:stretch/>
        </p:blipFill>
        <p:spPr>
          <a:xfrm>
            <a:off x="6300720" y="189000"/>
            <a:ext cx="952560" cy="9046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7"/>
          <a:stretch/>
        </p:blipFill>
        <p:spPr>
          <a:xfrm>
            <a:off x="4140360" y="1341360"/>
            <a:ext cx="952200" cy="9050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8"/>
          <a:stretch/>
        </p:blipFill>
        <p:spPr>
          <a:xfrm>
            <a:off x="7956720" y="189000"/>
            <a:ext cx="952200" cy="9046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9"/>
          <a:stretch/>
        </p:blipFill>
        <p:spPr>
          <a:xfrm>
            <a:off x="179280" y="1484280"/>
            <a:ext cx="952560" cy="9050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0"/>
          <a:stretch/>
        </p:blipFill>
        <p:spPr>
          <a:xfrm>
            <a:off x="900000" y="3573360"/>
            <a:ext cx="952560" cy="905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1"/>
          <a:stretch/>
        </p:blipFill>
        <p:spPr>
          <a:xfrm>
            <a:off x="3780000" y="3141720"/>
            <a:ext cx="95220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52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Список использованных источнико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55280" y="191628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mbria"/>
              </a:rPr>
              <a:t>Бодрова Н.Ф. Хрыпова Р.Н.  Биология. Растения. Бактерии. Грибы. Лишайники. 5-6 классы: метод. пособие. – М.: Мнемозина, 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mbria"/>
              </a:rPr>
              <a:t>Учебное пособие: Трайтак Д.И., Трайтак Н.Д. Биология 6 класс. М., Мнемозина, 20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mbria"/>
                <a:hlinkClick r:id="rId2"/>
              </a:rPr>
              <a:t>http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mbria"/>
                <a:hlinkClick r:id="rId3"/>
              </a:rPr>
              <a:t>://office.microsoft.com/ru-ru/templates</a:t>
            </a:r>
            <a:r>
              <a:rPr b="0" lang="ru-RU" sz="1800" spc="-1" strike="noStrike">
                <a:solidFill>
                  <a:srgbClr val="0000ff"/>
                </a:solidFill>
                <a:latin typeface="Cambria"/>
              </a:rPr>
              <a:t> -шаблон оформл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mbria"/>
                <a:hlinkClick r:id="rId4"/>
              </a:rPr>
              <a:t>http://school-collection.edu.ru</a:t>
            </a:r>
            <a:r>
              <a:rPr b="0" lang="ru-RU" sz="1800" spc="-1" strike="noStrike">
                <a:solidFill>
                  <a:srgbClr val="0000ff"/>
                </a:solidFill>
                <a:latin typeface="Cambria"/>
              </a:rPr>
              <a:t> – строение семе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mbria"/>
                <a:hlinkClick r:id="rId5"/>
              </a:rPr>
              <a:t>http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mbria"/>
                <a:hlinkClick r:id="rId6"/>
              </a:rPr>
              <a:t>://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mbria"/>
                <a:hlinkClick r:id="rId7"/>
              </a:rPr>
              <a:t>www.livegif.ru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mbria"/>
                <a:hlinkClick r:id="rId8"/>
              </a:rPr>
              <a:t>/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mbria"/>
                <a:hlinkClick r:id="rId9"/>
              </a:rPr>
              <a:t>archive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mbria"/>
                <a:hlinkClick r:id="rId10"/>
              </a:rPr>
              <a:t>/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mbria"/>
                <a:hlinkClick r:id="rId11"/>
              </a:rPr>
              <a:t>plants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mbria"/>
                <a:hlinkClick r:id="rId12"/>
              </a:rPr>
              <a:t>/87_1.html</a:t>
            </a:r>
            <a:r>
              <a:rPr b="0" lang="ru-RU" sz="1800" spc="-1" strike="noStrike">
                <a:solidFill>
                  <a:srgbClr val="0000ff"/>
                </a:solidFill>
                <a:latin typeface="Cambria"/>
              </a:rPr>
              <a:t> - анимированный цвет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3T11:23:10Z</dcterms:created>
  <dc:creator>Admin</dc:creator>
  <dc:description/>
  <cp:keywords/>
  <dc:language>en-US</dc:language>
  <cp:lastModifiedBy>Admin</cp:lastModifiedBy>
  <dcterms:modified xsi:type="dcterms:W3CDTF">2013-10-15T15:09:16Z</dcterms:modified>
  <cp:revision>7</cp:revision>
  <dc:subject/>
  <dc:title>Анимированный кроссворд «Строение семян растений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1229990</vt:lpwstr>
  </property>
</Properties>
</file>