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6C40-D3A8-4751-AFA6-A00E34B9C8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4676-B41A-4698-AD9E-88B7A12B6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на слайдов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C96-6646-4509-921D-007D0582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AB0-B347-4BF9-8197-FBD5CF08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415-F196-4853-85F3-8BF97352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AA7-114B-4B52-BEFF-125C9DE8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A09-3758-4343-A02E-1D124607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5F4-4C98-4EAB-988E-93984C6A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51B-C549-4B7A-97FC-B0A4881F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568-1D7C-480E-A01F-6CE5CB1C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BEA-F777-463E-8779-C1D66673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EDA-67F2-458A-87B4-F1714F3A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A4B-7483-4871-804C-02EBA77E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095-5372-4AA5-A1BF-8F5940CF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8E15-B4AF-4EE0-BA3A-194D5F1F13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9298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 Что обозначае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мя прилагательно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а) предмет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с) признак предмета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в) действие предм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4200"/>
                </a:solidFill>
                <a:latin typeface="Times New Roman"/>
              </a:rPr>
              <a:t>НЕВС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200"/>
                </a:solidFill>
                <a:latin typeface="Times New Roman"/>
              </a:rPr>
              <a:t>ВЕС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Содержимое 5" descr="весна.jpg"/>
          <p:cNvPicPr/>
          <p:nvPr/>
        </p:nvPicPr>
        <p:blipFill>
          <a:blip r:embed="rId1"/>
          <a:stretch/>
        </p:blipFill>
        <p:spPr>
          <a:xfrm>
            <a:off x="714240" y="1600200"/>
            <a:ext cx="7929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3880" y="1642680"/>
            <a:ext cx="764388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200"/>
                </a:solidFill>
                <a:latin typeface="Times New Roman"/>
                <a:ea typeface="Aharoni"/>
              </a:rPr>
              <a:t>Склонени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200"/>
                </a:solidFill>
                <a:latin typeface="Times New Roman"/>
                <a:ea typeface="Aharoni"/>
              </a:rPr>
              <a:t>       </a:t>
            </a:r>
            <a:r>
              <a:rPr b="1" i="1" lang="ru-RU" sz="4800" spc="-1" strike="noStrike">
                <a:solidFill>
                  <a:srgbClr val="004200"/>
                </a:solidFill>
                <a:latin typeface="Times New Roman"/>
                <a:ea typeface="Aharoni"/>
              </a:rPr>
              <a:t>имён прилагательных               женского род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 определить падеж имени прилагательного женского род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2160" y="228564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200"/>
                </a:solidFill>
                <a:latin typeface="Times New Roman"/>
              </a:rPr>
              <a:t>1.Найти существительное, к которому относится прилагательно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200"/>
                </a:solidFill>
                <a:latin typeface="Times New Roman"/>
              </a:rPr>
              <a:t>2.Определить падеж существительн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200"/>
                </a:solidFill>
                <a:latin typeface="Times New Roman"/>
              </a:rPr>
              <a:t>3.По падежу существительного определить падеж прилагательн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солнечко"/>
          <p:cNvPicPr/>
          <p:nvPr/>
        </p:nvPicPr>
        <p:blipFill>
          <a:blip r:embed="rId1"/>
          <a:stretch/>
        </p:blipFill>
        <p:spPr>
          <a:xfrm>
            <a:off x="2819520" y="1600200"/>
            <a:ext cx="3429000" cy="3292560"/>
          </a:xfrm>
          <a:prstGeom prst="rect">
            <a:avLst/>
          </a:prstGeom>
          <a:ln w="0">
            <a:noFill/>
          </a:ln>
        </p:spPr>
      </p:pic>
      <p:pic>
        <p:nvPicPr>
          <p:cNvPr id="74" name="381_Muzyka_titry.mp3" descr=""/>
          <p:cNvPicPr/>
          <p:nvPr/>
        </p:nvPicPr>
        <p:blipFill>
          <a:blip r:embed="rId2"/>
          <a:stretch/>
        </p:blipFill>
        <p:spPr>
          <a:xfrm>
            <a:off x="8153280" y="62118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208 C 0.07292 0.00208 0.34584 0.07685 0.34584 0.16875 C 0.34584 0.26065 0.06875 0.33333 -3.33333E-006 0.33333 C -0.06892 0.33333 -0.3309 0.25625 -0.3309 0.16435 C -0.3309 0.07245 -0.06475 0.00208 0.00417 0.00208 Z">
                                      <p:cBhvr>
                                        <p:cTn id="90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2" nodeType="afterEffect" fill="hold" presetClass="path" presetID="5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-0.07801 C 0.004 -0.22014 -0.07777 -0.34329 -0.18715 -0.35162 C -0.29166 -0.36227 -0.38958 -0.2669 -0.396 -0.12894 C -0.40416 -0.00184999999999999 -0.33559 0.11713 -0.23767 0.12546 C -0.14809 0.13194 -0.06302 0.05347 -0.05642 -0.06528 C -0.05 -0.17338 -0.10711 -0.27546 -0.19027 -0.28403 C -0.26701 -0.29028 -0.33906 -0.22431 -0.34392 -0.12477 C -0.34878 -0.03565 -0.30312 0.05116 -0.23455 0.05556 C -0.17239 0.06181 -0.11371 0.01111 -0.10868 -0.06968 C -0.10555 -0.1419 -0.13975 -0.21181 -0.19357 -0.21574 C -0.24097 -0.22014 -0.28836 -0.18194 -0.29166 -0.12037 C -0.29479 -0.06736 -0.27048 -0.01667 -0.23107 -0.01227 C -0.19843 -0.0081 -0.16423 -0.03125 -0.1625 -0.07361 C -0.15937 -0.10787 -0.17239 -0.14398 -0.1967 -0.14815 C -0.21666 -0.14815 -0.23611 -0.13958 -0.23923 -0.11644 C -0.24097 -0.10139 -0.23767 -0.08657 -0.22795 -0.08032 C -0.22309 -0.07801 -0.21979 -0.07801 -0.21493 -0.08032 E">
                                      <p:cBhvr>
                                        <p:cTn id="93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солнечко"/>
          <p:cNvPicPr/>
          <p:nvPr/>
        </p:nvPicPr>
        <p:blipFill>
          <a:blip r:embed="rId1"/>
          <a:stretch/>
        </p:blipFill>
        <p:spPr>
          <a:xfrm>
            <a:off x="762120" y="228600"/>
            <a:ext cx="2666880" cy="25606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4"/>
          <p:cNvSpPr/>
          <p:nvPr/>
        </p:nvSpPr>
        <p:spPr>
          <a:xfrm>
            <a:off x="228600" y="762120"/>
            <a:ext cx="3505320" cy="1447560"/>
          </a:xfrm>
          <a:prstGeom prst="cloudCallout">
            <a:avLst>
              <a:gd name="adj1" fmla="val -4166"/>
              <a:gd name="adj2" fmla="val 5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2514600" y="3505320"/>
            <a:ext cx="3505320" cy="1447560"/>
          </a:xfrm>
          <a:prstGeom prst="cloudCallout">
            <a:avLst>
              <a:gd name="adj1" fmla="val -4166"/>
              <a:gd name="adj2" fmla="val 5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5181480" y="762120"/>
            <a:ext cx="3505320" cy="1447560"/>
          </a:xfrm>
          <a:prstGeom prst="cloudCallout">
            <a:avLst>
              <a:gd name="adj1" fmla="val -4166"/>
              <a:gd name="adj2" fmla="val 5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0.13507 0.05324 C 0.16336 0.06528 0.20573 0.07199 0.24982 0.07199 C 0.30034 0.07199 0.34062 0.06528 0.36892 0.05324 L 0.50416 2.59259E-006 E">
                                      <p:cBhvr>
                                        <p:cTn id="148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16 -1.11111E-006 L 0.36545 0.05787 C 0.33628 0.07083 0.29288 0.07847 0.24757 0.07847 C 0.19618 0.07847 0.15486 0.07083 0.12569 0.05787 L -0.0125 -1.11111E-006 E">
                                      <p:cBhvr>
                                        <p:cTn id="15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2.59259E-006 L 0.2 0.41342 E">
                                      <p:cBhvr>
                                        <p:cTn id="154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0.41342 L -0.0125 0.00231 E">
                                      <p:cBhvr>
                                        <p:cTn id="157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2.59259E-006 L 0.19166 0.42453 E">
                                      <p:cBhvr>
                                        <p:cTn id="160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0.41342 L 0.49583 0.01342 E">
                                      <p:cBhvr>
                                        <p:cTn id="163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6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16 2.59259E-006 L 0.1875 0.42453 E">
                                      <p:cBhvr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6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солнечко"/>
          <p:cNvPicPr/>
          <p:nvPr/>
        </p:nvPicPr>
        <p:blipFill>
          <a:blip r:embed="rId1"/>
          <a:stretch/>
        </p:blipFill>
        <p:spPr>
          <a:xfrm>
            <a:off x="2971800" y="1752480"/>
            <a:ext cx="3124080" cy="300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солнечко"/>
          <p:cNvPicPr/>
          <p:nvPr/>
        </p:nvPicPr>
        <p:blipFill>
          <a:blip r:embed="rId2"/>
          <a:stretch/>
        </p:blipFill>
        <p:spPr>
          <a:xfrm>
            <a:off x="304920" y="152280"/>
            <a:ext cx="3124080" cy="3000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солнечко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0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солнечко"/>
          <p:cNvPicPr/>
          <p:nvPr/>
        </p:nvPicPr>
        <p:blipFill>
          <a:blip r:embed="rId4"/>
          <a:stretch/>
        </p:blipFill>
        <p:spPr>
          <a:xfrm>
            <a:off x="0" y="3857760"/>
            <a:ext cx="3124080" cy="3000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солнечко"/>
          <p:cNvPicPr/>
          <p:nvPr/>
        </p:nvPicPr>
        <p:blipFill>
          <a:blip r:embed="rId5"/>
          <a:stretch/>
        </p:blipFill>
        <p:spPr>
          <a:xfrm>
            <a:off x="6019920" y="3857760"/>
            <a:ext cx="3124080" cy="3000240"/>
          </a:xfrm>
          <a:prstGeom prst="rect">
            <a:avLst/>
          </a:prstGeom>
          <a:ln w="0">
            <a:noFill/>
          </a:ln>
        </p:spPr>
      </p:pic>
      <p:sp>
        <p:nvSpPr>
          <p:cNvPr id="84" name="WordArt 9"/>
          <p:cNvSpPr txBox="1"/>
          <p:nvPr/>
        </p:nvSpPr>
        <p:spPr>
          <a:xfrm>
            <a:off x="1676520" y="5181480"/>
            <a:ext cx="5790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Будьте  здоров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3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1800" y="1499760"/>
            <a:ext cx="8207640" cy="400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200"/>
                </a:solidFill>
                <a:latin typeface="Times New Roman"/>
              </a:rPr>
              <a:t>Оживает… роща. На … берёзе поёт иволга. По стволу… ели пробежала…белка. Вот проскакала… зайчиха. А за кустом спряталась …лисиц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200"/>
                </a:solidFill>
                <a:latin typeface="Times New Roman"/>
              </a:rPr>
              <a:t>( Стройная, колючая, испуганная,  берёзовая, рыжая, скрытна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571680"/>
            <a:ext cx="777240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На какой вопрос отвечает имя прилагательно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235692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т) кто? что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л) что делает? что сделает?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к) какой? какая? каки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. Как определить род имени прилагательного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342900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м) по вопрос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к) по смыслу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л) по существительному с ним связанном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Какие окончания имеют прилагательные в Р.п.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2214360"/>
            <a:ext cx="7772400" cy="35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а) –ом, -ем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о) –ого, -его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и) –ый, -ий, -о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5716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.С какими предлогами употребляются прилагательные П.п.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н) в, на, 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т) с, за, у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д) к, по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78552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. Какого признака нет у прилагательных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207144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а) рода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е) времени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о) падежа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п)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. С какой частью речи связано прилагательное в предложени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960" y="192888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н) с существительным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т) с глаголом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с) с наречи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78588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8. Укажите ошибку в определении падежа имени прилагательног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2160" y="278604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а) утром солнечным (Т.п.)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и) о верном друге (В.п.)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е) от большого безделья (Р.п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9. Прилагательное это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о) часть слова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и) член предложения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4200"/>
                </a:solidFill>
                <a:latin typeface="Times New Roman"/>
              </a:rPr>
              <a:t>е) часть ре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 Windows</cp:lastModifiedBy>
  <dcterms:modified xsi:type="dcterms:W3CDTF">2013-03-04T17:10:10Z</dcterms:modified>
  <cp:revision>42</cp:revision>
  <dc:subject/>
  <dc:title>Слайд 1</dc:title>
</cp:coreProperties>
</file>