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7.wmf" ContentType="image/x-wmf"/>
  <Override PartName="/ppt/media/image20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A4F1-18EE-422E-81B8-8C8C2D8F0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AC3F-F2FC-459F-8475-7B148FAD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887E-78DF-4F44-B6A3-17DE488B5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11E0-53C4-4FA3-9A6C-506E70B61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7086-AED4-411E-A522-ADA714B17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3A13-764E-40DE-AF85-FE1E0E19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1FB6-5F59-4965-A79B-A2C34E57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556A-A722-4364-85C3-655F9186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34CC-4BA7-43A1-B938-073138EA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BB0C-AFC0-44EE-A4FB-3D9BF54A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2ADE-E355-4232-A31D-F36F9B6C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3AA1-27FE-47DD-98A5-D0EFA684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6453-BDD2-4409-8279-A4AA5A1F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EBD0-DF89-450E-B726-8C25D223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7F65-954F-4BC1-BD7F-98F78262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5151-C176-4FE0-A9F5-A053EFFC7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ACA9-BB60-4D53-87CF-D35FAB7A6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4FE3-62D0-403D-8C37-6A2F21CA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0078-905B-43C9-ABAA-16E9C5C4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4F60-31D8-41DA-A0A6-D9329E1F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B2C7-8B22-47C9-B846-53656E12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D8F8-72E5-486F-95EA-4B1C38B2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F5CD-C022-46C4-9D15-D3626A4E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DACE-4BA6-4F92-AEAD-D1753F50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My Documents\bits\Expbanna.png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F313-3DE7-46C8-9AC1-86CFCC276DD9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:\!Themes\Expedition\EXPHORSA.GIF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C:\My Documents\bits\Expbanna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D:\FRONTPAGE THEMES\EXPEDITN\EXPHORSA.PNG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P:\!Themes\Expedition\EXPHORSA.GIF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1751-D086-466C-A8CE-2964BBFBC62E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662940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Повседневная жизнь европейцев в начале нового времени.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2400"/>
                </a:solidFill>
                <a:latin typeface="Times New Roman"/>
              </a:rPr>
              <a:t>На улицах городов и в домах горожан.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 Комната в голландско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ме» картина голландского художника Питера Элинга Янсенс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022360" y="1766880"/>
            <a:ext cx="3808440" cy="4113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F:\wulic-lydvig-ansens_elinga,_piter_-_komnata_v_gollandskom_dome[1].jpg"/>
          <p:cNvPicPr/>
          <p:nvPr/>
        </p:nvPicPr>
        <p:blipFill>
          <a:blip r:embed="rId3"/>
          <a:stretch/>
        </p:blipFill>
        <p:spPr>
          <a:xfrm>
            <a:off x="4724280" y="1600200"/>
            <a:ext cx="4419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2400"/>
                </a:solidFill>
                <a:latin typeface="Times New Roman"/>
              </a:rPr>
              <a:t>На улицах и в домах горожан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ртина знаменитого голландского художни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на ван Эй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 Портрет супругов Арнольфини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7" descr="F:\van_eyck7_small[1].jpg"/>
          <p:cNvPicPr/>
          <p:nvPr/>
        </p:nvPicPr>
        <p:blipFill>
          <a:blip r:embed="rId2"/>
          <a:stretch/>
        </p:blipFill>
        <p:spPr>
          <a:xfrm>
            <a:off x="762120" y="1752480"/>
            <a:ext cx="41893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82400"/>
                </a:solidFill>
                <a:latin typeface="Times New Roman"/>
              </a:rPr>
              <a:t>Во дворцах знати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терьер во дворце французских коро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альня коро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7" descr="F:\галерея\image_25-300x212[1].jpg"/>
          <p:cNvPicPr/>
          <p:nvPr/>
        </p:nvPicPr>
        <p:blipFill>
          <a:blip r:embed="rId3"/>
          <a:stretch/>
        </p:blipFill>
        <p:spPr>
          <a:xfrm>
            <a:off x="4648320" y="1760400"/>
            <a:ext cx="418932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« Скажи мне, что ты ешь и я скажу, кто ты есть»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еспеченные жители Европы употребляли в пищу много мясных продуктов: свинину. Говядину, телятину, дикое мясо, птиц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тюрморт Ф. Снейдер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7" descr="F:\24[1].jpg"/>
          <p:cNvPicPr/>
          <p:nvPr/>
        </p:nvPicPr>
        <p:blipFill>
          <a:blip r:embed="rId3"/>
          <a:stretch/>
        </p:blipFill>
        <p:spPr>
          <a:xfrm>
            <a:off x="914400" y="1752480"/>
            <a:ext cx="380844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« Скажи мне, что ты ешь и я скажу, кто ты есть»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061640" y="1766880"/>
            <a:ext cx="3808440" cy="41133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ртина испанского живописца Диего Веласкеса « Завтрак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6" descr="F:\13[1].jpg"/>
          <p:cNvPicPr/>
          <p:nvPr/>
        </p:nvPicPr>
        <p:blipFill>
          <a:blip r:embed="rId3"/>
          <a:stretch/>
        </p:blipFill>
        <p:spPr>
          <a:xfrm>
            <a:off x="990720" y="1523880"/>
            <a:ext cx="4101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Мода нового времени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льнее всего капризы моды сказывались на костюм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Каждый год менялись фасоны платьев и костюмов, то воротники вырастали до огромных  размеров, то суживались до тонкой полоски, рукава из узких превращались в широкие, штаны и плащи то удлинялись, то  укорачивались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Целые армии портных, башмачников,шляпников зарабатывали себе на жизнь благодаря изменениям мод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7" descr="F:\галерея\106px-Holbein%2C_Hans_-_Georg_Gisze%2C_a_German_merchant_in_London[1].jpg"/>
          <p:cNvPicPr/>
          <p:nvPr/>
        </p:nvPicPr>
        <p:blipFill>
          <a:blip r:embed="rId4"/>
          <a:stretch/>
        </p:blipFill>
        <p:spPr>
          <a:xfrm>
            <a:off x="4952880" y="2057400"/>
            <a:ext cx="36324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Мода нового времени.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да распространялась не только на одежду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ало модным курить табак – появилась мода на табакерки и курительные труб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рфюмеры трудились над созданием новых арома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пространялись новинки и лучшие достижения европейских мастеров: венецианские зеркала. Стекло. Итальянские шелковые чулки. Французские кружева. Испанские клинки и кинжал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7" descr="F:\галерея\120px-Holbein-ambassadors[1].jpg"/>
          <p:cNvPicPr/>
          <p:nvPr/>
        </p:nvPicPr>
        <p:blipFill>
          <a:blip r:embed="rId5"/>
          <a:stretch/>
        </p:blipFill>
        <p:spPr>
          <a:xfrm>
            <a:off x="4952880" y="1676520"/>
            <a:ext cx="3808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-15228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82400"/>
                </a:solidFill>
                <a:latin typeface="Times New Roman"/>
              </a:rPr>
              <a:t>Женская мода 15-16 веков</a:t>
            </a:r>
            <a:r>
              <a:rPr b="0" lang="ru-RU" sz="2800" spc="-1" strike="noStrike">
                <a:solidFill>
                  <a:srgbClr val="4824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картине представительница  крестьянства. Как мы видим одета просто и без излишеств. Одежда удобная для любой рабо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7" descr="F:\галерея\kirtle_laced_shepherdanceXV[1].jpg"/>
          <p:cNvPicPr/>
          <p:nvPr/>
        </p:nvPicPr>
        <p:blipFill>
          <a:blip r:embed="rId2"/>
          <a:stretch/>
        </p:blipFill>
        <p:spPr>
          <a:xfrm>
            <a:off x="1219320" y="1752480"/>
            <a:ext cx="25905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82400"/>
                </a:solidFill>
                <a:latin typeface="Times New Roman"/>
              </a:rPr>
              <a:t>Женская мода 15-16 веков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данной картине мы видим представительниц города. Эти дамы из семьи богатого горожанина. Так как  видно. Что они одеты по моде того времен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7" descr="F:\галерея\Fdress_lXV_Curing_of_a_hemiplegic[1].jpg"/>
          <p:cNvPicPr/>
          <p:nvPr/>
        </p:nvPicPr>
        <p:blipFill>
          <a:blip r:embed="rId2"/>
          <a:stretch/>
        </p:blipFill>
        <p:spPr>
          <a:xfrm>
            <a:off x="1143000" y="1676520"/>
            <a:ext cx="3533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Женская мода 15-16 веков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09120" y="1676160"/>
            <a:ext cx="3808440" cy="4113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женщине  модное испанское платье.  Видно, что она принадлежит к представителям высшей знати Испа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6" descr="F:\галерея\1599-spanish[1].jpg"/>
          <p:cNvPicPr/>
          <p:nvPr/>
        </p:nvPicPr>
        <p:blipFill>
          <a:blip r:embed="rId3"/>
          <a:stretch/>
        </p:blipFill>
        <p:spPr>
          <a:xfrm>
            <a:off x="1206360" y="1295280"/>
            <a:ext cx="32133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2400"/>
                </a:solidFill>
                <a:latin typeface="Times New Roman"/>
              </a:rPr>
              <a:t>                             </a:t>
            </a: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Цели урока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репить знания учащихся об основных слоях населения Европы в 15-16 век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ть образное представление у учащихся о повседневной жизни людей того време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вать у учащихся любознательность, интерес к истории, формировать умение воспринимать и анализировать художественные произведения как источники знаний по истор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82400"/>
                </a:solidFill>
                <a:latin typeface="Times New Roman"/>
              </a:rPr>
              <a:t>Женская мода 15-16 веков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данной картине мы видим представительницу высшего класс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ма одета по последней  испанской моде, она из  королевской семьи: инфанта Изабел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7" descr="F:\галерея\1560-isabel[1].jpg"/>
          <p:cNvPicPr/>
          <p:nvPr/>
        </p:nvPicPr>
        <p:blipFill>
          <a:blip r:embed="rId3"/>
          <a:stretch/>
        </p:blipFill>
        <p:spPr>
          <a:xfrm>
            <a:off x="5629320" y="990720"/>
            <a:ext cx="2828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82400"/>
                </a:solidFill>
                <a:latin typeface="Times New Roman"/>
              </a:rPr>
              <a:t>Мужская мода 15-16 веков.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ставитель высшего общества: одет по последней мод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мужчине короткий плащ, подбитый мехом, короткие штаны, шляпа с пер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7" descr="F:\галерея\1532[1].jpg"/>
          <p:cNvPicPr/>
          <p:nvPr/>
        </p:nvPicPr>
        <p:blipFill>
          <a:blip r:embed="rId3"/>
          <a:stretch/>
        </p:blipFill>
        <p:spPr>
          <a:xfrm>
            <a:off x="5562720" y="1066680"/>
            <a:ext cx="3581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82400"/>
                </a:solidFill>
                <a:latin typeface="Times New Roman"/>
              </a:rPr>
              <a:t>Мужская мода 15-16 веков.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ипичный представитель  буржуазии: одет скромно, без излишеств, но в добротную одежд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7" descr="F:\23[1].jpg"/>
          <p:cNvPicPr/>
          <p:nvPr/>
        </p:nvPicPr>
        <p:blipFill>
          <a:blip r:embed="rId2"/>
          <a:stretch/>
        </p:blipFill>
        <p:spPr>
          <a:xfrm>
            <a:off x="1062000" y="1884240"/>
            <a:ext cx="380844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2400"/>
                </a:solidFill>
                <a:latin typeface="Times New Roman"/>
              </a:rPr>
              <a:t>Прочитайте отрывок из свода полицейских законов г. Нюренберга (15в) . Какую цель преследовали авторы этого закона?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… наши бюргеры , члены совета, постановили, что запрещается бюргерам , молодым и старым,носить серебряные пояса стоимостью больше, чем в полмарки серебром.Запрещается им носить серебряные карманы, серебряные итальянские ножи,обувь с разрезом, сюртуки с разрезом внизу или у рукавов…Запрещается также мужчинам и женщинам носить застежки, пряжки, кольца и пуговки у рукавов выше локтя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прещается также бюргершам, женам и вдовам или молодым девушкам носить платье из цендаля или шелковое платье, или платье с серебряной или золотой оторочкой. Запрещается также бюргершам иметь больше двух цельных меховых одежд, носить горностаевые шубы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прещается также женам , вдовам или дочерям бюргеров переплетать волосы золотом, серебром, жемчугом или драгоценными камнями…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План нового материала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 Избави  нас, Господи , от чумы, голода и войны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упнейшие города Европ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улицах городов и в домах горож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 Скажи мне , что ты ешь, и я скажу кто ты есть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да нового времен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-53388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Прочтите стихотворение  французского поэта Поля </a:t>
            </a:r>
            <a:br>
              <a:rPr sz="2400"/>
            </a:b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Скаррона «Париж» и укажите , какие слои населения </a:t>
            </a:r>
            <a:br>
              <a:rPr sz="2400"/>
            </a:b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жили в столице Франции в раннее новое время?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зде на улицах навоз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зде прохожих вереницы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лавки, грязь из-под колес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настыри , дворцы, темницы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рюнеты, старцы без волос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Ханжи, продажные девиц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го-то тащат на допрос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мены, драки, злые лица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кеи, франты без гроша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сак продажная душа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жи, карманники, вельмож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громождение домов, кареты, кони, стук подков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т вам Париж. Ну как, похоже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2400"/>
                </a:solidFill>
                <a:latin typeface="Times New Roman"/>
              </a:rPr>
              <a:t>Вопросы на закрепление ранее изученного материала</a:t>
            </a: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ъясните, что такое «сословие» и какие сословия проживали в европейских странах в 15-16 веках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ие из них имели привилегии, а какие не имел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ие новые классы появились в Европе  в 15-16 веках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Как вы думаете представители какого слоя общества изображены на картине « Игра в карты»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2000" y="1980720"/>
            <a:ext cx="251928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ртина художника Теодора Ромбоутса  «Игра в карты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5022720" y="3529080"/>
          <a:ext cx="3808440" cy="58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22720" y="3529080"/>
                    <a:ext cx="380844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Picture 7" descr="C:\Documents and Settings\Директор\Local Settings\Temp\PKGC.JPG"/>
          <p:cNvPicPr/>
          <p:nvPr/>
        </p:nvPicPr>
        <p:blipFill>
          <a:blip r:embed="rId4"/>
          <a:stretch/>
        </p:blipFill>
        <p:spPr>
          <a:xfrm>
            <a:off x="3657600" y="1905120"/>
            <a:ext cx="53341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Представители какого слоя общества изображены на данной картине? Почему вы так думаете?</a:t>
            </a:r>
            <a:r>
              <a:rPr b="0" lang="ru-RU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66320" y="1752480"/>
            <a:ext cx="3808440" cy="41133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486040" y="1904760"/>
            <a:ext cx="380844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ртина Арта Скаума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 Башмачник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6" descr="F:\robertson-kristina-shauman,_art_-_bawmacnik[1].jpg"/>
          <p:cNvPicPr/>
          <p:nvPr/>
        </p:nvPicPr>
        <p:blipFill>
          <a:blip r:embed="rId3"/>
          <a:stretch/>
        </p:blipFill>
        <p:spPr>
          <a:xfrm>
            <a:off x="1066680" y="175248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Представитель какого сословия изображены на данной картине?По каким признакам можно это определить ?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ртрет Франциска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боты Ф. Клуэ 1525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7" descr="F:\галерея\1525-30-french[1].jpg"/>
          <p:cNvPicPr/>
          <p:nvPr/>
        </p:nvPicPr>
        <p:blipFill>
          <a:blip r:embed="rId3"/>
          <a:stretch/>
        </p:blipFill>
        <p:spPr>
          <a:xfrm>
            <a:off x="5313240" y="1766880"/>
            <a:ext cx="32274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82400"/>
                </a:solidFill>
                <a:latin typeface="Times New Roman"/>
              </a:rPr>
              <a:t>На улицах маленьких европейских городов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ногочисленные европейские города мало чем отличались сельской местност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лицы были кривые и грязны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улицах свободно разгуливали свиньи, овцы, кур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нализации в городах не было. Помои выливались прямо на проезжую часть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етом в городах стояло страшное зловони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ной и осенью на улицах тонули карет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7" descr="F:\44[1].jpg"/>
          <p:cNvPicPr/>
          <p:nvPr/>
        </p:nvPicPr>
        <p:blipFill>
          <a:blip r:embed="rId7"/>
          <a:stretch/>
        </p:blipFill>
        <p:spPr>
          <a:xfrm>
            <a:off x="4876920" y="1928880"/>
            <a:ext cx="41130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9:50:54Z</dcterms:created>
  <dc:creator>Директор</dc:creator>
  <dc:description/>
  <dc:language>en-US</dc:language>
  <cp:lastModifiedBy>admin</cp:lastModifiedBy>
  <dcterms:modified xsi:type="dcterms:W3CDTF">2013-10-14T15:44:24Z</dcterms:modified>
  <cp:revision>3</cp:revision>
  <dc:subject/>
  <dc:title>Повседневная жизнь европейцев в начале нового времени.</dc:title>
</cp:coreProperties>
</file>