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706-C68F-4B7E-9E40-DBABE0E1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548-3F61-4931-BB0D-415B0878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DFB6-947B-4632-B451-74A71181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05FC-7486-4D93-8636-3ABE6247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7CD4-CE25-4789-9AE7-043FF40B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4470-10FF-4CF8-94FB-4F8C1C2F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393D-782C-4AC5-83F9-4B0F80F6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B37C-D724-4528-A271-3A37C094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18E2-9E8A-4129-B968-5744E048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4DEA-AA9E-4999-83A1-FA2C6872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3250-51E4-49BF-B0BA-FF636394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342D-9862-4ADB-99A3-27E551D8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8EF1-FBB9-48F5-8291-64ED5D73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6B17-CEC6-4B1C-A999-C2065608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ADA4-464E-42C4-BE89-B8B5756C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53F8-AEAE-4D08-93FB-76E69365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7388-F160-48BE-B38B-A85BFEF4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446F-7DAB-4684-83E9-E18AE006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DB35-BE41-48A4-83D3-D39ED836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54E7-588A-4E87-A055-3AD7CDF7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4972-A66C-484D-9C8A-E1DFBA96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4B09-1228-4C98-BB35-C5DD3D3F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E9A-4863-4D61-AB30-1587DC5B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878F-0CD0-4516-B892-0687DAB9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7B30-DCE8-4CEF-92C8-3B24555350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6ECD-6785-4A80-88A9-58A5D30E9BA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68360" y="404640"/>
            <a:ext cx="8675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ниципальное бюджетное общеобразовательное учрежд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новная общеобразовательная школа с. Казар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икольского района Пензенской обла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2340000" y="2205000"/>
            <a:ext cx="4753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ИЗНЕС-ПРОЕК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" name="WordArt 6"/>
          <p:cNvSpPr txBox="1"/>
          <p:nvPr/>
        </p:nvSpPr>
        <p:spPr>
          <a:xfrm>
            <a:off x="468360" y="3716280"/>
            <a:ext cx="8351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Производство продукции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з березы обыкновенной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30412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816360" cy="244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4643280" y="260280"/>
            <a:ext cx="3961080" cy="244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250920" y="3284640"/>
            <a:ext cx="3813120" cy="280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4"/>
          <a:stretch/>
        </p:blipFill>
        <p:spPr>
          <a:xfrm>
            <a:off x="4643280" y="3284640"/>
            <a:ext cx="3961080" cy="2808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"/>
          <p:cNvSpPr/>
          <p:nvPr/>
        </p:nvSpPr>
        <p:spPr>
          <a:xfrm>
            <a:off x="611280" y="2637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 а г 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539640" y="602136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ерезовые поч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716360" y="263700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ерезовы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643280" y="60213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тки берез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2880000" cy="3168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3056040" y="1844640"/>
            <a:ext cx="2935080" cy="295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5580000" y="3429000"/>
            <a:ext cx="2737080" cy="2952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8"/>
          <p:cNvSpPr/>
          <p:nvPr/>
        </p:nvSpPr>
        <p:spPr>
          <a:xfrm>
            <a:off x="3708360" y="260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  у  в  е  н  и  р  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50920" y="5516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  з    б  е  р  е  с  т  ы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179280" y="11592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   и   н   а   н   с   о   в   ы   й             п   л   а   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8000" y="620640"/>
          <a:ext cx="8928000" cy="5977080"/>
        </p:xfrm>
        <a:graphic>
          <a:graphicData uri="http://schemas.openxmlformats.org/drawingml/2006/table">
            <a:tbl>
              <a:tblPr/>
              <a:tblGrid>
                <a:gridCol w="3887640"/>
                <a:gridCol w="2160720"/>
                <a:gridCol w="1440000"/>
                <a:gridCol w="143964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затра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чатые мешоч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шт. 20х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мажные мешоч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шт.20х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пага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шт. 100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ки  1 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шки для консерв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шт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 ру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шки тканные (50 кг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ей П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2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жни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ле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ак по дерев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рилка по дерев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468360" y="981000"/>
          <a:ext cx="8213760" cy="5634000"/>
        </p:xfrm>
        <a:graphic>
          <a:graphicData uri="http://schemas.openxmlformats.org/drawingml/2006/table">
            <a:tbl>
              <a:tblPr/>
              <a:tblGrid>
                <a:gridCol w="574560"/>
                <a:gridCol w="2952720"/>
                <a:gridCol w="781200"/>
                <a:gridCol w="780840"/>
                <a:gridCol w="781200"/>
                <a:gridCol w="781200"/>
                <a:gridCol w="780840"/>
                <a:gridCol w="781200"/>
              </a:tblGrid>
              <a:tr h="561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родук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-20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-20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-20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рёзов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ч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кг. 500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кг. 500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к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рёзов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сть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к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к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к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рёзов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 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рёзовы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 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вениры из берес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шт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81"/>
          <p:cNvSpPr/>
          <p:nvPr/>
        </p:nvSpPr>
        <p:spPr>
          <a:xfrm>
            <a:off x="611280" y="40464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82"/>
          <p:cNvSpPr/>
          <p:nvPr/>
        </p:nvSpPr>
        <p:spPr>
          <a:xfrm>
            <a:off x="611280" y="404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   р   о   и   з   в   о   д   с  т   в   е   н   н   ы   й      п   л    а   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3016440" cy="37972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1258920" y="2133720"/>
            <a:ext cx="21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резовый с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6227640" y="465300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3851280" y="476280"/>
            <a:ext cx="5292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 у д ь т е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 д о р о в ы !              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4859280" y="2852640"/>
            <a:ext cx="317196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6:46:14Z</dcterms:created>
  <dc:creator>Александр</dc:creator>
  <dc:description/>
  <dc:language>en-US</dc:language>
  <cp:lastModifiedBy>User</cp:lastModifiedBy>
  <dcterms:modified xsi:type="dcterms:W3CDTF">2013-10-15T14:01:29Z</dcterms:modified>
  <cp:revision>12</cp:revision>
  <dc:subject/>
  <dc:title>Слайд 1</dc:title>
</cp:coreProperties>
</file>