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B41-7CC1-4F3F-9ABD-157240C1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FB6-6003-4437-BB01-D534CC0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82B78-BFD8-4651-AD3C-F3C2A06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37E72-817F-4865-B522-5672978B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51B43-88E8-44B0-BD01-85B50DD2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72D88-8EF6-4ABB-A792-4A1BFAF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DC193-5480-48A2-8FCF-FC35C1B3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07895-7C66-4E40-BAE3-C22AC51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B7BEB-61EC-4CE2-8D28-27E956B7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E1CE5-2577-4565-B2ED-E2099B45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ABA58-B9F9-488F-BC1D-D568322B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12605-8722-4F87-B44B-5C0FA10D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720-E58E-42FD-B0E9-8F8EB8EB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36F0B-EB86-442A-9898-8B4A81E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080BD-FD91-49D9-BD40-CFEBDC01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C2152-B8DB-4220-B84B-8A753BE7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530CB-F344-40CA-B837-C9A6A07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AC58E-9418-4E82-BEE1-14F13F6D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3EA9F-C4FB-4205-A53D-1051EBF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AB38A-0205-4D79-9F95-A67B8D7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B3295-C9B7-4E98-8F16-4BDA50F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54AD4-5DD5-4EDA-B020-9AF6A50B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747AE-415A-45E5-9158-DD530F08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CEA-0A22-4C51-AF12-19E5770F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5EDE7-025D-43CF-A161-D2E64462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CCA1A-7F1E-4B61-86EE-7B61D9CD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F5710-172D-474E-9D3B-809927E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7C71B-5AD3-47BA-B5AC-68444FF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9D7E0-DE26-4DCB-AD23-EF76992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20672-AAF5-4163-AAFD-BE45E4B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30E20-A4C6-4957-9337-D9312A1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942CC-DD76-4CDD-965C-8ADF8BE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06FC5-1819-469E-9B1F-7DFAE55F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43303-9C00-4C31-8772-A0B7B60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034-C691-4533-9AC4-721CE738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D5050-D06A-4412-AEF5-06423696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30E22-86B3-446C-864E-5AC00EF5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D660D-289B-4A6C-BF2D-22F6AC44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44B82-CF02-40BD-BADC-503108A1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08D1C-6113-4EDA-B346-C6A5C534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BBB92-4430-43D6-A06C-7AAA247B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3A93A-E275-422C-9D4A-9E1AD3B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ED6F-F987-415C-A737-3FF6994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BE1BB-CDEF-4573-B23F-CEA5875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244BE-6705-48C7-BC8C-21CA0782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AC50-9CFA-40ED-A0A1-E458FC9A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1C48-5E17-4F90-A6E3-75009BF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67049-20D5-4156-9BCD-DDED85D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F741-56F5-4684-9692-99C1FD8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9C256-83EA-423B-A0F8-DFAAB070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E22CD-31B5-4F84-8995-29CCECFC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AEFCF-C364-4AFD-BCF2-CE27AE42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12B0E-3220-4047-A98B-5702A05C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538A2-F235-4B9C-980A-1D12C64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70515-0A47-434C-86EC-C97366E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A8ED0-1177-4603-ACBC-323449B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1C24-6E96-42A0-B25E-F9EC89F3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52481-826F-4FB2-B8DA-04BE62B6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4221E-4F53-470B-8B5D-D63097A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2403B-5C37-47D1-8152-860D24C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A1BB2-C7A3-453B-A751-038D264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BB4F3-9C53-46F7-81A0-4260C9F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473B9-BA26-4835-BA8E-961941FD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16F60-0466-4131-8F2B-C8B479C0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75394-99C9-4E7D-B2B2-AA785CFC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A5935-CFE9-4A0B-AB6E-9B01EF6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C2E99-2232-4AB6-B85F-891DDB8B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CAA-BC91-4BBF-A4C0-5CA8271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E0BE6-883C-4BAC-8368-510C778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8DE21-3322-4B28-8464-02463507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D1665-F3E1-44B3-94C0-80A576C7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468D9-34FE-4A4B-9794-2C91775F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A7AA3-9FB1-45FF-8699-BA67B6D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88061-4565-473E-9022-D259043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341C5-C417-4507-8F8A-0A35FEB5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6145D-B733-4DF4-B589-65B40F6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55338-C541-489A-B398-BB11759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C2B-03FD-49D3-A260-91A6B541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EC0-25FD-4E57-92EC-818DD06C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8B52-7886-4ECF-9B2E-EC308FC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D22-25A0-4845-8B2D-10F3E1B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B44-9CF8-49FF-863C-B2729A0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7F17-A583-4756-A243-6EDF2C7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6349-01F3-4762-A6AE-C84033C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E127-E2AA-430C-A546-859FE914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28A2-4DBF-444B-8C67-76DBD570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DF81-448F-4BC8-9484-E95E31EE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8DB8-1E98-4393-ADED-39D1247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CFC4-12BD-4B8A-A45B-E7722165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1CD8-74AF-4BE4-88F7-830EEFB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0622-8BA0-4484-9644-B774AEB5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F60-C9C9-4CC5-B829-D511730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F3BC-DBC0-48E3-9571-7C9BBFBA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7AC3-BCA4-4475-879F-C41A4DB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84BD-8472-4FB2-B0B2-1DD2576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6BA1-CA2E-48B8-9F00-4DDCE532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CEFC-ED12-4EDA-84B9-20B6A9FD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70EE-D8EC-4BC8-AFA2-856E75BC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0F2E-25DF-4485-91F7-745AF543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6A31-A8C4-4CB5-B47D-DA7BB84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DC0D-ED74-4219-A06A-C2EAFA75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8324-AE1C-4E60-A3CD-34770097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97D-F4F1-4EE4-96EA-DB4D107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AB38-4C7B-4CCE-A650-A868E6FB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D04F-E0E1-45C1-8894-2F47DCF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D496-187E-44C9-BCDC-EB28529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8F18-B342-408C-AE01-1D0663E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7DE6-F637-4B51-B540-DF10B2FB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DF53-A830-497A-81B4-FD52786B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99C9A-E9CC-48E8-A318-65549047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7405-98AE-4877-9D6B-DD14F782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D896-CDA5-4F6C-9A06-9F974CFA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3978-A5B3-47D3-97D9-D127FE0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96E-8EAD-4A07-AB92-F02B5CE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4060-1514-4289-8C4A-A7C0EB7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B813-673C-4E02-98DA-F5752872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16D0-D87E-4020-A3DF-BE43C71A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652D-B55F-49EB-A5FF-94713C4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A184-065C-4226-A470-12913BF1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EA56-C3A1-4E8F-97A9-B63D935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80FF3-24A4-4E93-BA35-56FD105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5B7E-5568-4C1E-89F4-A728519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B693-AA61-4119-9F5C-D888DC0E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6B9B-6840-4F1D-AF9E-E9B59E69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819-C83E-4378-91BD-BE168B4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3627-0F46-4892-AE54-87BBD689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C2FDE-7B1F-4E10-9488-D2683D58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94C7-D37E-4059-9CD9-6D12FBD9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593F-E154-4E6A-BBCC-A733CC5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53554-BD0A-428C-9F9D-09C391B1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F9576-A93B-4441-A3A1-70248B2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35D7-D790-4F6A-BF1B-5881023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E2AE-9146-4F3D-96F5-6D61658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F6169-C273-4018-A2AB-2F0D01E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5336-F3EA-4C29-9B04-284314A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0B2-8DB5-46B3-8CA4-D3E5265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F76E-BF4B-49A3-B915-50090EC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03A7-1F80-4D5E-AFDF-B96B6CDE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0C6A8-E8AA-4642-A47C-A26A1C51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54A4-3D44-48EC-8529-DEA0225D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7626-8424-4195-9F18-C2F72A24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B159B-ADA0-4299-BD15-E19E8BCE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22E3-70DE-40EE-A249-7BE9250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623F-D75A-48D5-9515-9689526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1731-A80A-490A-B6E2-74665A0F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8467-D5D7-44A2-9017-E7A79EF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371-5B54-4C32-BFFF-840FC7A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6F5F-4C45-49B3-82EC-5A6B647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D0855-D2E1-4FFF-AEF8-D92B578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D1F1-A1D2-46DA-91B6-1EB52B1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C002-2158-461F-9953-70E7B63B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9C25-D341-45F6-8FF1-A01473DE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B7FC6-06EC-4E5D-A5AA-E2868DFE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457E-1111-4493-BB9D-854BB339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9BDC-845F-4EC0-BA5D-F2DF208E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561A-C1B1-4525-A00D-418F018D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C6EB6-50E2-4487-A23A-55EC576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AFC-B848-40C6-9B00-C0862CC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F8E4A-74D4-402A-A6BC-E37D2662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CDE9-B774-4A9E-98E1-CD33DDFF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6B57-A277-46C2-984F-F694923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D23F-E124-4FBA-960F-3BEF9AC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A363C-57D7-47E7-BF71-A22900B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0900-36EF-4676-9AFB-6817B8F4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7344-1098-4560-8A9C-65DEB06F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87903-3225-4D1D-86E3-BD3428C8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7E81F-2FE7-4FCC-BF32-BEE6F835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4A3BC-BA98-4A20-810C-8E14933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727A-C04E-42E0-A95E-78F9B580EB1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75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75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5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76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762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76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768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769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70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71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77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77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7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8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8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8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8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78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0184-76A1-472F-8477-5B3CDBD96C3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4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84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4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84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846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84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1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852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853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856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857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8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9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86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6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86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6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86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6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8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8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E5A-A5AA-4998-B85B-DA3A54A5BA0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2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92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2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92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930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93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5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936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937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938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939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940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941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2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3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94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4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94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4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95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3FCA-A4F6-484C-83A1-766C00613B9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0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0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01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14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101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1020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021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022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023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102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2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2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2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2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3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03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BDA-0E46-413E-AE47-19EBBE5CFF2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9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9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9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09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98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109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1104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105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106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107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110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10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1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1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1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1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12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2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3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3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3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3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1533-A632-420A-BD91-5864326DD9E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57600"/>
              <a:ext cx="3622680" cy="6135120"/>
              <a:chOff x="5407200" y="57600"/>
              <a:chExt cx="3622680" cy="61351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8720" y="341640"/>
                <a:ext cx="2108520" cy="2354760"/>
              </a:xfrm>
              <a:custGeom>
                <a:avLst/>
                <a:gdLst>
                  <a:gd name="textAreaLeft" fmla="*/ 0 w 2108520"/>
                  <a:gd name="textAreaRight" fmla="*/ 2108880 w 210852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6080" y="1962720"/>
                <a:ext cx="903240" cy="84168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9920" y="2584080"/>
                <a:ext cx="437760" cy="39420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-360 h 394200"/>
                  <a:gd name="textAreaBottom" fmla="*/ 394200 h 39420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4360" y="668160"/>
                <a:ext cx="387720" cy="54972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7080"/>
                <a:ext cx="162720" cy="3304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280" y="1239120"/>
                <a:ext cx="189720" cy="14256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3640"/>
                <a:ext cx="521640" cy="326484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-360 h 3264840"/>
                  <a:gd name="textAreaBottom" fmla="*/ 3264840 h 32648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94480"/>
              <a:ext cx="897840" cy="820080"/>
              <a:chOff x="5646240" y="294480"/>
              <a:chExt cx="897840" cy="820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78228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6200"/>
                <a:ext cx="311400" cy="300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9672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7080"/>
              <a:ext cx="1059120" cy="833400"/>
              <a:chOff x="968760" y="525708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1988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444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13F-96BD-40A2-8C03-2BE1EF2EF6A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6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7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17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81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2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183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18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8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9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9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74EB-9FA2-48C7-937D-82F9CE9CFAA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5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25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58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25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264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265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66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67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26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26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7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7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7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28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8C19-8CDE-47C6-8D73-E2DD70844CE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3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3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3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4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42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34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348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349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50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51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35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35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5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6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6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6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8548-9C0B-4DD3-880F-FBC1E8AD53C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2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2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42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26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42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1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432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433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34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35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436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437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8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4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4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4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4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4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4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4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44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9CC-644F-493D-965E-F58BAB956E9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0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0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0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0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0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50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51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5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516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517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518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519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520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21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2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3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2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2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2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2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53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C71-5F8F-48D1-ABFE-D3E4E0833E9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8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8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9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59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94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59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00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601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02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03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60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60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0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0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1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1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61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9BE-7F07-4D28-B620-6FD15D6B5EA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7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67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7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7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7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67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678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67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8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8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84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685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86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87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68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68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9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9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9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70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1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1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1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AF3-8FF9-4482-BFCF-7B78945888C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2700000" y="2982600"/>
            <a:ext cx="644364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Этот праздник - праздник вечности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з поколения в поколение для каждого человека мама – самый главный человек в жизни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TextBox 4"/>
          <p:cNvSpPr/>
          <p:nvPr/>
        </p:nvSpPr>
        <p:spPr>
          <a:xfrm>
            <a:off x="6513480" y="6033960"/>
            <a:ext cx="252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 «Б» класс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7" name="Picture 7" descr="C:\Users\Елена\Documents\ЛЕНА\Школа 2012-2013\КлРук 5Б\для Дня Матери 8.jpg"/>
          <p:cNvPicPr/>
          <p:nvPr/>
        </p:nvPicPr>
        <p:blipFill>
          <a:blip r:embed="rId1"/>
          <a:stretch/>
        </p:blipFill>
        <p:spPr>
          <a:xfrm>
            <a:off x="108000" y="3460680"/>
            <a:ext cx="2592360" cy="3353040"/>
          </a:xfrm>
          <a:prstGeom prst="rect">
            <a:avLst/>
          </a:prstGeom>
          <a:ln w="0">
            <a:noFill/>
          </a:ln>
        </p:spPr>
      </p:pic>
      <p:pic>
        <p:nvPicPr>
          <p:cNvPr id="1178" name="Прямоугольник 7" descr=""/>
          <p:cNvPicPr/>
          <p:nvPr/>
        </p:nvPicPr>
        <p:blipFill>
          <a:blip r:embed="rId2"/>
          <a:stretch/>
        </p:blipFill>
        <p:spPr>
          <a:xfrm>
            <a:off x="-285840" y="2614680"/>
            <a:ext cx="3310200" cy="1098360"/>
          </a:xfrm>
          <a:prstGeom prst="rect">
            <a:avLst/>
          </a:prstGeom>
          <a:ln w="0">
            <a:noFill/>
          </a:ln>
        </p:spPr>
      </p:pic>
      <p:pic>
        <p:nvPicPr>
          <p:cNvPr id="1179" name="Прямоугольник 6" descr=""/>
          <p:cNvPicPr/>
          <p:nvPr/>
        </p:nvPicPr>
        <p:blipFill>
          <a:blip r:embed="rId3"/>
          <a:stretch/>
        </p:blipFill>
        <p:spPr>
          <a:xfrm>
            <a:off x="1378080" y="646200"/>
            <a:ext cx="678492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5" descr="C:\Users\Елена\Documents\ЛЕНА\Школа 2012-2013\КлРук 5Б\для Дня Матери 19.jpg"/>
          <p:cNvPicPr/>
          <p:nvPr/>
        </p:nvPicPr>
        <p:blipFill>
          <a:blip r:embed="rId1"/>
          <a:stretch/>
        </p:blipFill>
        <p:spPr>
          <a:xfrm>
            <a:off x="3419640" y="2708280"/>
            <a:ext cx="5597280" cy="396072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993080" cy="201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Новый праздник - День Матери - постепенно приживается в России. 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анный Президентом Российской Федерации 30 января 1998 года</a:t>
            </a: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, он празднуется в последнее воскресенье ноября.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 rot="20565000">
            <a:off x="263160" y="4030200"/>
            <a:ext cx="35528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ам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амый глав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 близкий человек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ля каждого из нас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Официальное объяснение праздника таково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4" name="Rectangle 3"/>
          <p:cNvSpPr/>
          <p:nvPr/>
        </p:nvSpPr>
        <p:spPr>
          <a:xfrm>
            <a:off x="34920" y="620640"/>
            <a:ext cx="79311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нь матери отвечает лучшим традициям отношения россиян к материнству, объединяет все слои российского общества на идеях добра и почитания женщины-Матери. Кроме того, как считают многие, необходимо повышать статус женщины-матери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нь матери - праздник сравнительно молодой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н еще не имеет установившихся традиций, в семейном кругу его мало кто отмечает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 временем значение этого дня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озрастет, потому что по смыслу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содержанию это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амый святой праздник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5" name="Picture 5" descr="C:\Users\Елена\Documents\ЛЕНА\Школа 2012-2013\КлРук 5Б\для Дня Матнри 5.jpg"/>
          <p:cNvPicPr/>
          <p:nvPr/>
        </p:nvPicPr>
        <p:blipFill>
          <a:blip r:embed="rId1"/>
          <a:stretch/>
        </p:blipFill>
        <p:spPr>
          <a:xfrm>
            <a:off x="5089680" y="3981600"/>
            <a:ext cx="39812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Прямоугольник 2"/>
          <p:cNvSpPr/>
          <p:nvPr/>
        </p:nvSpPr>
        <p:spPr>
          <a:xfrm>
            <a:off x="2843280" y="2781360"/>
            <a:ext cx="6192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Милая мама! Родная ты наша!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Нет на земле ни милее, ни краше!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День твой сегодня и все мы любя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Заботой и лаской накроем тебя!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Ты уж по полной за день оторвись —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Делай что хочешь, резвись, веселись.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День матери сегодня — счастливая карта!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Но ночь уж близка! Отдыхать торопись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Далековато,  восьмое марта..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7" name="Picture 2" descr="C:\Users\Елена\Documents\ЛЕНА\Школа 2012-2013\КлРук 5Б\для Дня Матери 4.jpg"/>
          <p:cNvPicPr/>
          <p:nvPr/>
        </p:nvPicPr>
        <p:blipFill>
          <a:blip r:embed="rId1"/>
          <a:stretch/>
        </p:blipFill>
        <p:spPr>
          <a:xfrm>
            <a:off x="2916360" y="71280"/>
            <a:ext cx="4500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826560" y="43920"/>
            <a:ext cx="8137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реди многочисленных праздников, отмечаемых в нашей стране, День Матери занимает особое место. Это праздник, к которому никто не может остаться равнодушным. В этот день хочетс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казать слова благодарност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м Матерям, которые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арят детям любовь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обро, нежность и ласку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9" name="Picture 4" descr="C:\Users\Елена\Documents\ЛЕНА\Школа 2012-2013\КлРук 5Б\длял Дня Матери 2.jpg"/>
          <p:cNvPicPr/>
          <p:nvPr/>
        </p:nvPicPr>
        <p:blipFill>
          <a:blip r:embed="rId1"/>
          <a:stretch/>
        </p:blipFill>
        <p:spPr>
          <a:xfrm>
            <a:off x="5735520" y="2876400"/>
            <a:ext cx="3054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24:30Z</dcterms:created>
  <dc:creator>name</dc:creator>
  <dc:description/>
  <dc:language>en-US</dc:language>
  <cp:lastModifiedBy>Елена</cp:lastModifiedBy>
  <dcterms:modified xsi:type="dcterms:W3CDTF">2013-10-15T14:03:28Z</dcterms:modified>
  <cp:revision>39</cp:revision>
  <dc:subject/>
  <dc:title>День Матери.</dc:title>
</cp:coreProperties>
</file>