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6E6-83A1-456D-94FF-AEB2E9AE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B63-09DC-4E6E-AB1B-37D0BD75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ECA-704E-4F5F-B6F3-D45C5CDC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B19-4521-4A33-A1A6-DE856E27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0887-DDD5-415D-9BD9-61290F20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8B09-0BCC-44DC-8D0A-4A913598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2BE2-1EEC-4A87-AD7F-031C242A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3D63-3CCC-4545-9AEA-2282F038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03D3-6BD2-48C6-980B-991BF10C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73F8-66D0-4050-BCFA-03010132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BA35-9B57-4091-AB99-0F40D25C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6A3-6D8B-41F8-A8CD-DDEC1950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E38F-52EA-4531-B9FE-A19CBB83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58DB-DFC4-4C73-8F82-6D88410E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D5B4-9B63-4BA6-84B6-FE8C57EC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0F95-1EBF-4C30-8B96-B24D74AE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55B1-476A-499E-B021-6FE1909A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288-B5B2-4F8E-ACF2-19D70C60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41A-FFC5-46CD-AB94-8F5239B2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146-5C76-4A72-A6FC-2422F925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AA5-68BD-4146-988D-F033D559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5A2-252D-4948-BE28-7FB88AB7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259-B967-4EEA-81C5-C4F6361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1B3-C86E-4209-BC0C-D0C11654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4CD2-0E5E-4AD4-8F79-AF73D5C5EDE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E49C-A715-4E9B-B511-8F69BDE0874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cc"/>
                </a:solidFill>
                <a:latin typeface="Times New Roman"/>
              </a:rPr>
              <a:t>Психологическая систематика видов спорта и соревновательных упражнений</a:t>
            </a:r>
            <a:br>
              <a:rPr sz="46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Автор Шамарина Екатерина Борисов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85840" y="142560"/>
            <a:ext cx="85723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БОУ СПО  «Торжокский педагогический колледж им. Ф.В. Бадюлина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5840" y="6143760"/>
            <a:ext cx="8572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оржок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1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Непосредственное противоборст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словный физический контак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Гребля                               совместно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мандная гонка              одновременны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еследования                  действ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ату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924360" y="2852640"/>
            <a:ext cx="792000" cy="2376720"/>
          </a:xfrm>
          <a:custGeom>
            <a:avLst/>
            <a:gdLst>
              <a:gd name="textAreaLeft" fmla="*/ 0 w 792000"/>
              <a:gd name="textAreaRight" fmla="*/ 285840 w 792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Непосредственное противоборст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словный физический контак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стафеты (л\а)                     совместно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стафеты (плавание)        последовательны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стафеты (лыжи)                действ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356000" y="2708280"/>
            <a:ext cx="792360" cy="1800360"/>
          </a:xfrm>
          <a:custGeom>
            <a:avLst/>
            <a:gdLst>
              <a:gd name="textAreaLeft" fmla="*/ 0 w 792360"/>
              <a:gd name="textAreaRight" fmla="*/ 286200 w 792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Непосредственное противоборст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словный физический контак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ег                               совместно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Ходьба                     индивидуальны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лавание                     действ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ыжные го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ринт (вел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780000" y="2492280"/>
            <a:ext cx="1512720" cy="3313080"/>
          </a:xfrm>
          <a:custGeom>
            <a:avLst/>
            <a:gdLst>
              <a:gd name="textAreaLeft" fmla="*/ 0 w 1512720"/>
              <a:gd name="textAreaRight" fmla="*/ 546120 w 151272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Опосредственное противоборст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Отсутствие физического контакт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робатика                     совместно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Фигурное катание          взаимосвязанны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портивные танцы         действ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 льд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067280" y="2924280"/>
            <a:ext cx="649080" cy="2233440"/>
          </a:xfrm>
          <a:custGeom>
            <a:avLst/>
            <a:gdLst>
              <a:gd name="textAreaLeft" fmla="*/ 0 w 649080"/>
              <a:gd name="textAreaRight" fmla="*/ 234360 w 64908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Непосредственное противоборст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тсутствие физического контак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портивн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имнасти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кробатика                                совместно-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(прыжки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игурное катание                     индивидуальн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(одиночное)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ыжки и метания                     действ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яжелая атлети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лало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2421000"/>
            <a:ext cx="1224000" cy="3456000"/>
          </a:xfrm>
          <a:custGeom>
            <a:avLst/>
            <a:gdLst>
              <a:gd name="textAreaLeft" fmla="*/ 0 w 1224000"/>
              <a:gd name="textAreaRight" fmla="*/ 442080 w 122400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портивная деятельность осуществляется в условиях открытой, непосредственной коллективно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4" descr="j0298653"/>
          <p:cNvPicPr/>
          <p:nvPr/>
        </p:nvPicPr>
        <p:blipFill>
          <a:blip r:embed="rId1"/>
          <a:stretch/>
        </p:blipFill>
        <p:spPr>
          <a:xfrm>
            <a:off x="1835280" y="3933720"/>
            <a:ext cx="2376360" cy="18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заимодействие спортсмен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по отношению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по отношению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к противнику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к партнерам по команд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(соперничество)               (сотрудничеств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2268000" y="2060640"/>
            <a:ext cx="2087640" cy="863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4572000" y="2060640"/>
            <a:ext cx="1655640" cy="936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332000" y="364500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8" descr="I217"/>
          <p:cNvPicPr/>
          <p:nvPr/>
        </p:nvPicPr>
        <p:blipFill>
          <a:blip r:embed="rId1"/>
          <a:stretch/>
        </p:blipFill>
        <p:spPr>
          <a:xfrm>
            <a:off x="684360" y="4508640"/>
            <a:ext cx="2232000" cy="21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J0078837"/>
          <p:cNvPicPr/>
          <p:nvPr/>
        </p:nvPicPr>
        <p:blipFill>
          <a:blip r:embed="rId2"/>
          <a:stretch/>
        </p:blipFill>
        <p:spPr>
          <a:xfrm>
            <a:off x="5651640" y="4437000"/>
            <a:ext cx="252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Противоборство или соперничество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ямой или косвенный контакт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нфликтность взаимоотношен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4" descr="J0079253"/>
          <p:cNvPicPr/>
          <p:nvPr/>
        </p:nvPicPr>
        <p:blipFill>
          <a:blip r:embed="rId1"/>
          <a:stretch/>
        </p:blipFill>
        <p:spPr>
          <a:xfrm>
            <a:off x="3132000" y="4869000"/>
            <a:ext cx="16941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Взаимодействие или сотрудничество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заимная помощь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огласование совместных усилий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4" descr="J0101867"/>
          <p:cNvPicPr/>
          <p:nvPr/>
        </p:nvPicPr>
        <p:blipFill>
          <a:blip r:embed="rId1"/>
          <a:stretch/>
        </p:blipFill>
        <p:spPr>
          <a:xfrm>
            <a:off x="2987640" y="4724280"/>
            <a:ext cx="27432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Непосредственное противоборст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Жесткий физический контакт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Футбол                              совместно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оккей                               взаимосвязанны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егби                                  действ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учной мяч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аскетбо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одное пол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564000" y="2421000"/>
            <a:ext cx="1655640" cy="3313080"/>
          </a:xfrm>
          <a:custGeom>
            <a:avLst/>
            <a:gdLst>
              <a:gd name="textAreaLeft" fmla="*/ 0 w 1655640"/>
              <a:gd name="textAreaRight" fmla="*/ 597960 w 165564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Непосредственное противоборст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Жесткий физический контакт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окс                                     совместно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орьба                                индивидуальны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Фехтование                        действ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2843280" y="2781360"/>
            <a:ext cx="649080" cy="2087640"/>
          </a:xfrm>
          <a:custGeom>
            <a:avLst/>
            <a:gdLst>
              <a:gd name="textAreaLeft" fmla="*/ 0 w 649080"/>
              <a:gd name="textAreaRight" fmla="*/ 234360 w 6490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Непосредственное противоборст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Физический контак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олейбол                             совместно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еннис                                 взаимосвязанны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админтон                           действ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635280" y="2924280"/>
            <a:ext cx="505080" cy="1512720"/>
          </a:xfrm>
          <a:custGeom>
            <a:avLst/>
            <a:gdLst>
              <a:gd name="textAreaLeft" fmla="*/ 0 w 505080"/>
              <a:gd name="textAreaRight" fmla="*/ 182520 w 505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Непосредственное противоборст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Физический контак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еннис                     совместн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админтон              индивидуальны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действ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32000" y="2708280"/>
            <a:ext cx="1008360" cy="1944720"/>
          </a:xfrm>
          <a:custGeom>
            <a:avLst/>
            <a:gdLst>
              <a:gd name="textAreaLeft" fmla="*/ 0 w 1008360"/>
              <a:gd name="textAreaRight" fmla="*/ 363960 w 1008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3:45:44Z</dcterms:created>
  <dc:creator>User</dc:creator>
  <dc:description/>
  <dc:language>en-US</dc:language>
  <cp:lastModifiedBy>Елена</cp:lastModifiedBy>
  <dcterms:modified xsi:type="dcterms:W3CDTF">2013-10-15T15:25:18Z</dcterms:modified>
  <cp:revision>4</cp:revision>
  <dc:subject/>
  <dc:title>Психологическая систематика видов спорта и соревновательных упражнений</dc:title>
</cp:coreProperties>
</file>