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394-9052-4D6B-8CB2-AB991B26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885F-2E07-4739-9C96-FF64FDD9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4FE6-30DA-4D6C-92EB-9E7E6966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9CE-5556-43D4-95E2-00A1DDDB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EBC5-DBAE-49B3-8C77-EB4E4C91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585-52BE-45CA-B2D3-0EEC7284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55C-0E47-439C-B065-FA469D44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515-8A6D-4759-835B-7B5E7628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3CE-A915-46CD-88E4-38A4331D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04D-0C11-49A8-BCA7-F729FDF2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A5EE-5EC4-45AA-8947-FEACACCB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F73-4335-4C1D-9804-72304868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4A65-3912-4831-88E5-B4E5BB7EE0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шение треугольников</a:t>
            </a:r>
            <a:br>
              <a:rPr sz="4400"/>
            </a:br>
            <a:br>
              <a:rPr sz="44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Автор – учитель математики Фильчакова Е.М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пользуя теорему синусов, найти сторону АВ (далее –с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ahoma"/>
                <a:ea typeface="Tahoma"/>
              </a:rPr>
              <a:t>c = a sin C/ sin 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1066680" y="2895480"/>
            <a:ext cx="16002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1066680" y="2895480"/>
            <a:ext cx="60984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rc 6"/>
          <p:cNvSpPr/>
          <p:nvPr/>
        </p:nvSpPr>
        <p:spPr>
          <a:xfrm>
            <a:off x="1600200" y="4572000"/>
            <a:ext cx="152280" cy="15228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rc 7"/>
          <p:cNvSpPr/>
          <p:nvPr/>
        </p:nvSpPr>
        <p:spPr>
          <a:xfrm>
            <a:off x="1600200" y="4419720"/>
            <a:ext cx="152280" cy="15228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rc 8"/>
          <p:cNvSpPr/>
          <p:nvPr/>
        </p:nvSpPr>
        <p:spPr>
          <a:xfrm flipH="1" flipV="1">
            <a:off x="2361600" y="3428280"/>
            <a:ext cx="152280" cy="3049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46640" y="23194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283760" y="47577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733840" y="32338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2195640" y="40179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1676160" y="3505320"/>
            <a:ext cx="990360" cy="1371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З</a:t>
            </a: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А</a:t>
            </a: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Д</a:t>
            </a: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А</a:t>
            </a: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А</a:t>
            </a: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ДАНО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∆ АВС, ВС=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a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, АС=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b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, АВ=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 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  <a:ea typeface="Tahoma"/>
              </a:rPr>
              <a:t>Найти: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&lt;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А, 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&lt;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В, 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&lt;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6"/>
          <p:cNvSpPr/>
          <p:nvPr/>
        </p:nvSpPr>
        <p:spPr>
          <a:xfrm flipV="1">
            <a:off x="762120" y="2819160"/>
            <a:ext cx="761760" cy="1523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1523880" y="2819520"/>
            <a:ext cx="1676520" cy="1904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762120" y="4343400"/>
            <a:ext cx="251460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1432440" y="23954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668520" y="4376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3111480" y="437688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494080" y="3384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1658520" y="452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821520" y="33084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Р</a:t>
            </a: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е</a:t>
            </a: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ш</a:t>
            </a: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е</a:t>
            </a: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н</a:t>
            </a: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и</a:t>
            </a: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Используя теорему косинусов, найти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os 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4"/>
          <p:cNvSpPr/>
          <p:nvPr/>
        </p:nvSpPr>
        <p:spPr>
          <a:xfrm flipV="1">
            <a:off x="762120" y="2819160"/>
            <a:ext cx="761760" cy="1523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1523880" y="2819520"/>
            <a:ext cx="1676520" cy="1904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762120" y="4343400"/>
            <a:ext cx="251460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432440" y="23954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668520" y="4376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3111480" y="437688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2494080" y="3384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658520" y="452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821520" y="33084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3657600" y="3809880"/>
            <a:ext cx="45720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COS 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(b</a:t>
            </a:r>
            <a:r>
              <a:rPr b="1" lang="en-US" sz="3200" spc="-1" strike="noStrike" baseline="50000">
                <a:solidFill>
                  <a:srgbClr val="ff66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+ c</a:t>
            </a:r>
            <a:r>
              <a:rPr b="1" lang="en-US" sz="3200" spc="-1" strike="noStrike" baseline="50000">
                <a:solidFill>
                  <a:srgbClr val="ff66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 –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</a:t>
            </a:r>
            <a:r>
              <a:rPr b="1" lang="en-US" sz="3200" spc="-1" strike="noStrike" baseline="50000">
                <a:solidFill>
                  <a:srgbClr val="ff66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)/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2b·c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спользуя теорему косинусов, найти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s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2742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 algn="ctr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COS</a:t>
            </a:r>
            <a:r>
              <a:rPr b="1" lang="en-US" sz="40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В </a:t>
            </a:r>
            <a:r>
              <a:rPr b="1" lang="en-US" sz="4000" spc="-1" strike="noStrike">
                <a:solidFill>
                  <a:srgbClr val="ff6600"/>
                </a:solidFill>
                <a:latin typeface="Tahom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 algn="ctr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6600"/>
                </a:solidFill>
                <a:latin typeface="Tahoma"/>
              </a:rPr>
              <a:t>(a</a:t>
            </a:r>
            <a:r>
              <a:rPr b="1" lang="en-US" sz="4000" spc="-1" strike="noStrike" baseline="50000">
                <a:solidFill>
                  <a:srgbClr val="ff6600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f6600"/>
                </a:solidFill>
                <a:latin typeface="Tahoma"/>
              </a:rPr>
              <a:t>+ c</a:t>
            </a:r>
            <a:r>
              <a:rPr b="1" lang="en-US" sz="4000" spc="-1" strike="noStrike" baseline="50000">
                <a:solidFill>
                  <a:srgbClr val="ff6600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f6600"/>
                </a:solidFill>
                <a:latin typeface="Tahoma"/>
              </a:rPr>
              <a:t> –b</a:t>
            </a:r>
            <a:r>
              <a:rPr b="1" lang="en-US" sz="4000" spc="-1" strike="noStrike" baseline="50000">
                <a:solidFill>
                  <a:srgbClr val="ff6600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f6600"/>
                </a:solidFill>
                <a:latin typeface="Tahoma"/>
              </a:rPr>
              <a:t>)/</a:t>
            </a: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(</a:t>
            </a:r>
            <a:r>
              <a:rPr b="1" lang="en-US" sz="4000" spc="-1" strike="noStrike">
                <a:solidFill>
                  <a:srgbClr val="ff6600"/>
                </a:solidFill>
                <a:latin typeface="Tahoma"/>
              </a:rPr>
              <a:t>2a·c</a:t>
            </a: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r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4"/>
          <p:cNvSpPr/>
          <p:nvPr/>
        </p:nvSpPr>
        <p:spPr>
          <a:xfrm flipV="1">
            <a:off x="762120" y="2819160"/>
            <a:ext cx="761760" cy="1523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1523880" y="2819520"/>
            <a:ext cx="1676520" cy="1904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762120" y="4343400"/>
            <a:ext cx="251460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432440" y="23954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668520" y="4376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111480" y="437688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2494080" y="3384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658520" y="452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821520" y="33084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Используя теорему о сумме углов треугольника, найти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&lt;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  <a:ea typeface="Tahoma"/>
              </a:rPr>
              <a:t>С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&lt;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С =180 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°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 – (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&lt;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А + 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&lt;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В)</a:t>
            </a:r>
            <a:br>
              <a:rPr sz="3600"/>
            </a:b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4"/>
          <p:cNvSpPr/>
          <p:nvPr/>
        </p:nvSpPr>
        <p:spPr>
          <a:xfrm flipV="1">
            <a:off x="762120" y="2819160"/>
            <a:ext cx="761760" cy="1523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1523880" y="2819520"/>
            <a:ext cx="1676520" cy="1904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762120" y="4343400"/>
            <a:ext cx="251460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432440" y="23954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68520" y="4376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11480" y="437688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2494080" y="3384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658520" y="452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821520" y="33084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Tahoma"/>
              </a:rPr>
              <a:t>З А М Е Ч А Н И 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ЛЫ ИЗМЕРЯЮТСЯ НИ ТОЛЬКО В ГРАДУСАХ, НО И В РАДИАН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0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ru-RU" sz="3200" spc="-1" strike="noStrike">
                <a:solidFill>
                  <a:srgbClr val="ffffff"/>
                </a:solidFill>
                <a:latin typeface="Viner Hand ITC"/>
              </a:rPr>
              <a:t>П</a:t>
            </a:r>
            <a:r>
              <a:rPr b="1" i="1" lang="ru-RU" sz="3200" spc="-1" strike="noStrike">
                <a:solidFill>
                  <a:srgbClr val="ffffff"/>
                </a:solidFill>
                <a:latin typeface="Viner Hand IT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ДИАН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°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  <a:ea typeface="Tahoma"/>
              </a:rPr>
              <a:t>=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iner Hand ITC"/>
              </a:rPr>
              <a:t>П/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0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ДИА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ДИАН = 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0 / </a:t>
            </a:r>
            <a:r>
              <a:rPr b="1" lang="ru-RU" sz="3200" spc="-1" strike="noStrike">
                <a:solidFill>
                  <a:srgbClr val="ffffff"/>
                </a:solidFill>
                <a:latin typeface="Viner Hand ITC"/>
              </a:rPr>
              <a:t>П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НАХОЖДЕНИЕ УГЛА ПО ЗНАЧЕНИЮ ЕГО КОСИНУСА ЯВЛЯЕТСЯ ВЫЧИСЛЕНИЕМ ОБРАТНОЙ ФУНКЦ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  <a:ea typeface="Tahoma"/>
              </a:rPr>
              <a:t>ARCCOS (_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 и п о в ы е    з а д а ч 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43" name="Organization Chart 9"/>
          <p:cNvGrpSpPr/>
          <p:nvPr/>
        </p:nvGrpSpPr>
        <p:grpSpPr>
          <a:xfrm>
            <a:off x="457200" y="1989000"/>
            <a:ext cx="8228880" cy="4093200"/>
            <a:chOff x="457200" y="1989000"/>
            <a:chExt cx="8228880" cy="4093200"/>
          </a:xfrm>
        </p:grpSpPr>
        <p:cxnSp>
          <p:nvCxnSpPr>
            <p:cNvPr id="44" name="_s1028"/>
            <p:cNvCxnSpPr>
              <a:stCxn id="45" idx="0"/>
              <a:endCxn id="46" idx="2"/>
            </p:cNvCxnSpPr>
            <p:nvPr/>
          </p:nvCxnSpPr>
          <p:spPr>
            <a:xfrm flipV="1" rot="16200000">
              <a:off x="5601960" y="2594880"/>
              <a:ext cx="819360" cy="2880720"/>
            </a:xfrm>
            <a:prstGeom prst="bentConnector3">
              <a:avLst>
                <a:gd name="adj1" fmla="val 127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7" name="_s1029"/>
            <p:cNvCxnSpPr>
              <a:stCxn id="48" idx="0"/>
              <a:endCxn id="46" idx="2"/>
            </p:cNvCxnSpPr>
            <p:nvPr/>
          </p:nvCxnSpPr>
          <p:spPr>
            <a:xfrm flipV="1">
              <a:off x="4571280" y="3625920"/>
              <a:ext cx="3240" cy="819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9" name="_s1030"/>
            <p:cNvCxnSpPr>
              <a:stCxn id="50" idx="0"/>
              <a:endCxn id="46" idx="2"/>
            </p:cNvCxnSpPr>
            <p:nvPr/>
          </p:nvCxnSpPr>
          <p:spPr>
            <a:xfrm flipH="1" flipV="1" rot="5400000">
              <a:off x="2721600" y="2595240"/>
              <a:ext cx="819360" cy="2880720"/>
            </a:xfrm>
            <a:prstGeom prst="bentConnector3">
              <a:avLst>
                <a:gd name="adj1" fmla="val 127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6" name="_s1031"/>
            <p:cNvSpPr/>
            <p:nvPr/>
          </p:nvSpPr>
          <p:spPr>
            <a:xfrm>
              <a:off x="3337200" y="1989000"/>
              <a:ext cx="2468520" cy="1637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Arial"/>
                </a:rPr>
                <a:t>Решить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Arial"/>
                </a:rPr>
                <a:t>треугольник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Arial"/>
                </a:rPr>
                <a:t>по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_s1032"/>
            <p:cNvSpPr/>
            <p:nvPr/>
          </p:nvSpPr>
          <p:spPr>
            <a:xfrm>
              <a:off x="457200" y="4444920"/>
              <a:ext cx="2468520" cy="1637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двум сторонам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и углу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между ним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_s1033"/>
            <p:cNvSpPr/>
            <p:nvPr/>
          </p:nvSpPr>
          <p:spPr>
            <a:xfrm>
              <a:off x="3337200" y="4444920"/>
              <a:ext cx="2468520" cy="1637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стороне 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прилежащим к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ней углам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" name="_s1034"/>
            <p:cNvSpPr/>
            <p:nvPr/>
          </p:nvSpPr>
          <p:spPr>
            <a:xfrm>
              <a:off x="6217560" y="4444920"/>
              <a:ext cx="2468520" cy="1637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трем сторонам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З а д а ч а   1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ано: 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  <a:ea typeface="Tahoma"/>
              </a:rPr>
              <a:t>∆ АВС, АС=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  <a:ea typeface="Tahoma"/>
              </a:rPr>
              <a:t>b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  <a:ea typeface="Tahoma"/>
              </a:rPr>
              <a:t>, ВС=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  <a:ea typeface="Tahoma"/>
              </a:rPr>
              <a:t>a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  <a:ea typeface="Tahoma"/>
              </a:rPr>
              <a:t>,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  <a:ea typeface="Tahoma"/>
              </a:rPr>
              <a:t>&lt;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  <a:ea typeface="Tahoma"/>
              </a:rPr>
              <a:t>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Найти: 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  <a:ea typeface="Tahoma"/>
              </a:rPr>
              <a:t>АВ,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  <a:ea typeface="Tahoma"/>
              </a:rPr>
              <a:t>&lt;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  <a:ea typeface="Tahoma"/>
              </a:rPr>
              <a:t>А,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  <a:ea typeface="Tahoma"/>
              </a:rPr>
              <a:t>&lt;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  <a:ea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898560" y="2698920"/>
            <a:ext cx="1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" name="Group 24"/>
          <p:cNvGrpSpPr/>
          <p:nvPr/>
        </p:nvGrpSpPr>
        <p:grpSpPr>
          <a:xfrm>
            <a:off x="898920" y="2243160"/>
            <a:ext cx="3376440" cy="2102760"/>
            <a:chOff x="898920" y="2243160"/>
            <a:chExt cx="3376440" cy="2102760"/>
          </a:xfrm>
        </p:grpSpPr>
        <p:sp>
          <p:nvSpPr>
            <p:cNvPr id="55" name="Line 13"/>
            <p:cNvSpPr/>
            <p:nvPr/>
          </p:nvSpPr>
          <p:spPr>
            <a:xfrm flipV="1">
              <a:off x="990720" y="2666880"/>
              <a:ext cx="2514600" cy="609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>
              <a:off x="3505320" y="2666880"/>
              <a:ext cx="457200" cy="15242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Line 16"/>
            <p:cNvSpPr/>
            <p:nvPr/>
          </p:nvSpPr>
          <p:spPr>
            <a:xfrm>
              <a:off x="990720" y="3276720"/>
              <a:ext cx="304776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Text Box 18"/>
            <p:cNvSpPr/>
            <p:nvPr/>
          </p:nvSpPr>
          <p:spPr>
            <a:xfrm>
              <a:off x="898920" y="277668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Text Box 19"/>
            <p:cNvSpPr/>
            <p:nvPr/>
          </p:nvSpPr>
          <p:spPr>
            <a:xfrm>
              <a:off x="3890520" y="38862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Text Box 20"/>
            <p:cNvSpPr/>
            <p:nvPr/>
          </p:nvSpPr>
          <p:spPr>
            <a:xfrm>
              <a:off x="3495960" y="224316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Arc 23"/>
            <p:cNvSpPr/>
            <p:nvPr/>
          </p:nvSpPr>
          <p:spPr>
            <a:xfrm flipH="1" flipV="1" rot="20139000">
              <a:off x="3200040" y="2742480"/>
              <a:ext cx="380880" cy="29520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2" name="Text Box 25"/>
          <p:cNvSpPr/>
          <p:nvPr/>
        </p:nvSpPr>
        <p:spPr>
          <a:xfrm>
            <a:off x="2209680" y="27432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26"/>
          <p:cNvSpPr/>
          <p:nvPr/>
        </p:nvSpPr>
        <p:spPr>
          <a:xfrm>
            <a:off x="3794760" y="3156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Р е ш е н и е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теореме косинусов найти АВ </a:t>
            </a:r>
            <a:r>
              <a:rPr b="1" lang="ru-RU" sz="3200" spc="-1" strike="noStrike" baseline="5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АВ </a:t>
            </a:r>
            <a:r>
              <a:rPr b="0" lang="ru-RU" sz="3600" spc="-1" strike="noStrike" baseline="50000">
                <a:solidFill>
                  <a:srgbClr val="ff6600"/>
                </a:solidFill>
                <a:latin typeface="Tahoma"/>
              </a:rPr>
              <a:t>2</a:t>
            </a:r>
            <a:r>
              <a:rPr b="0" lang="ru-RU" sz="3600" spc="-1" strike="noStrike" baseline="60000">
                <a:solidFill>
                  <a:srgbClr val="ff66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= </a:t>
            </a: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a</a:t>
            </a:r>
            <a:r>
              <a:rPr b="0" lang="ru-RU" sz="3600" spc="-1" strike="noStrike" baseline="50000">
                <a:solidFill>
                  <a:srgbClr val="ff6600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 +</a:t>
            </a: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b</a:t>
            </a:r>
            <a:r>
              <a:rPr b="0" lang="ru-RU" sz="3600" spc="-1" strike="noStrike" baseline="50000">
                <a:solidFill>
                  <a:srgbClr val="ff6600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 –  </a:t>
            </a: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2 </a:t>
            </a: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a</a:t>
            </a:r>
            <a:r>
              <a:rPr b="0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·b</a:t>
            </a: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cos </a:t>
            </a: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С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ИЗВЛЕЧ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ВАДРАТНЫЙ КОРЕНЬ ИЗ ПОЛУЧЕННОГО РЕЗУЛЬТАТА, ОБОЗНАЧИТЬ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6" name="Group 6"/>
          <p:cNvGrpSpPr/>
          <p:nvPr/>
        </p:nvGrpSpPr>
        <p:grpSpPr>
          <a:xfrm>
            <a:off x="894240" y="2243160"/>
            <a:ext cx="3381120" cy="2102760"/>
            <a:chOff x="894240" y="2243160"/>
            <a:chExt cx="3381120" cy="2102760"/>
          </a:xfrm>
        </p:grpSpPr>
        <p:sp>
          <p:nvSpPr>
            <p:cNvPr id="67" name="Line 7"/>
            <p:cNvSpPr/>
            <p:nvPr/>
          </p:nvSpPr>
          <p:spPr>
            <a:xfrm flipV="1">
              <a:off x="990720" y="2666880"/>
              <a:ext cx="2514600" cy="609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Line 8"/>
            <p:cNvSpPr/>
            <p:nvPr/>
          </p:nvSpPr>
          <p:spPr>
            <a:xfrm>
              <a:off x="3505320" y="2666880"/>
              <a:ext cx="457200" cy="15242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Line 9"/>
            <p:cNvSpPr/>
            <p:nvPr/>
          </p:nvSpPr>
          <p:spPr>
            <a:xfrm>
              <a:off x="990720" y="3276720"/>
              <a:ext cx="304776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894240" y="27766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3890520" y="38862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Text Box 12"/>
            <p:cNvSpPr/>
            <p:nvPr/>
          </p:nvSpPr>
          <p:spPr>
            <a:xfrm>
              <a:off x="3495960" y="224316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Arc 13"/>
            <p:cNvSpPr/>
            <p:nvPr/>
          </p:nvSpPr>
          <p:spPr>
            <a:xfrm flipH="1" flipV="1" rot="20139000">
              <a:off x="3200040" y="2742480"/>
              <a:ext cx="380880" cy="29520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4" name="Text Box 14"/>
          <p:cNvSpPr/>
          <p:nvPr/>
        </p:nvSpPr>
        <p:spPr>
          <a:xfrm>
            <a:off x="2043000" y="2622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3718440" y="30034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4"/>
          <p:cNvGrpSpPr/>
          <p:nvPr/>
        </p:nvGrpSpPr>
        <p:grpSpPr>
          <a:xfrm>
            <a:off x="894240" y="2243160"/>
            <a:ext cx="3381120" cy="2102760"/>
            <a:chOff x="894240" y="2243160"/>
            <a:chExt cx="3381120" cy="2102760"/>
          </a:xfrm>
        </p:grpSpPr>
        <p:sp>
          <p:nvSpPr>
            <p:cNvPr id="77" name="Line 5"/>
            <p:cNvSpPr/>
            <p:nvPr/>
          </p:nvSpPr>
          <p:spPr>
            <a:xfrm flipV="1">
              <a:off x="990720" y="2666880"/>
              <a:ext cx="2514600" cy="609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Line 6"/>
            <p:cNvSpPr/>
            <p:nvPr/>
          </p:nvSpPr>
          <p:spPr>
            <a:xfrm>
              <a:off x="3505320" y="2666880"/>
              <a:ext cx="457200" cy="15242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Line 7"/>
            <p:cNvSpPr/>
            <p:nvPr/>
          </p:nvSpPr>
          <p:spPr>
            <a:xfrm>
              <a:off x="990720" y="3276720"/>
              <a:ext cx="304776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Text Box 8"/>
            <p:cNvSpPr/>
            <p:nvPr/>
          </p:nvSpPr>
          <p:spPr>
            <a:xfrm>
              <a:off x="894240" y="27766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Text Box 9"/>
            <p:cNvSpPr/>
            <p:nvPr/>
          </p:nvSpPr>
          <p:spPr>
            <a:xfrm>
              <a:off x="3890520" y="38862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Text Box 10"/>
            <p:cNvSpPr/>
            <p:nvPr/>
          </p:nvSpPr>
          <p:spPr>
            <a:xfrm>
              <a:off x="3495960" y="224316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Arc 11"/>
            <p:cNvSpPr/>
            <p:nvPr/>
          </p:nvSpPr>
          <p:spPr>
            <a:xfrm flipH="1" flipV="1" rot="20139000">
              <a:off x="3200040" y="2742480"/>
              <a:ext cx="380880" cy="29520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пользуя теорему косинусов, найти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s 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76920" y="20574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COS A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(b</a:t>
            </a:r>
            <a:r>
              <a:rPr b="1" lang="en-US" sz="2800" spc="-1" strike="noStrike" baseline="50000">
                <a:solidFill>
                  <a:srgbClr val="ff66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+ c</a:t>
            </a:r>
            <a:r>
              <a:rPr b="1" lang="en-US" sz="2800" spc="-1" strike="noStrike" baseline="50000">
                <a:solidFill>
                  <a:srgbClr val="ff66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 – a</a:t>
            </a:r>
            <a:r>
              <a:rPr b="1" lang="en-US" sz="2800" spc="-1" strike="noStrike" baseline="50000">
                <a:solidFill>
                  <a:srgbClr val="ff66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)/</a:t>
            </a: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2b</a:t>
            </a:r>
            <a:r>
              <a:rPr b="1" lang="en-US" sz="2800" spc="-1" strike="noStrike">
                <a:solidFill>
                  <a:srgbClr val="ff6600"/>
                </a:solidFill>
                <a:latin typeface="Tahoma"/>
                <a:ea typeface="Tahoma"/>
              </a:rPr>
              <a:t>·</a:t>
            </a: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c</a:t>
            </a: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найденному значению косинуса найт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2195280" y="2546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3718440" y="30798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пользуя теорему о сумме углов треугольника, найти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  <a:ea typeface="Tahoma"/>
              </a:rPr>
              <a:t>&lt;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  <a:ea typeface="Tahoma"/>
              </a:rPr>
              <a:t>В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&lt;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В = 180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°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 –        - (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&lt;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А+ 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&lt;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С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894240" y="2243160"/>
            <a:ext cx="3381120" cy="2102760"/>
            <a:chOff x="894240" y="2243160"/>
            <a:chExt cx="3381120" cy="2102760"/>
          </a:xfrm>
        </p:grpSpPr>
        <p:sp>
          <p:nvSpPr>
            <p:cNvPr id="91" name="Line 8"/>
            <p:cNvSpPr/>
            <p:nvPr/>
          </p:nvSpPr>
          <p:spPr>
            <a:xfrm flipV="1">
              <a:off x="990720" y="2666880"/>
              <a:ext cx="2514600" cy="609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Line 9"/>
            <p:cNvSpPr/>
            <p:nvPr/>
          </p:nvSpPr>
          <p:spPr>
            <a:xfrm>
              <a:off x="3505320" y="2666880"/>
              <a:ext cx="457200" cy="15242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>
              <a:off x="990720" y="3276720"/>
              <a:ext cx="304776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Text Box 11"/>
            <p:cNvSpPr/>
            <p:nvPr/>
          </p:nvSpPr>
          <p:spPr>
            <a:xfrm>
              <a:off x="894240" y="27766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Text Box 12"/>
            <p:cNvSpPr/>
            <p:nvPr/>
          </p:nvSpPr>
          <p:spPr>
            <a:xfrm>
              <a:off x="3890520" y="38862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3495960" y="224316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Arc 14"/>
            <p:cNvSpPr/>
            <p:nvPr/>
          </p:nvSpPr>
          <p:spPr>
            <a:xfrm flipH="1" flipV="1" rot="20139000">
              <a:off x="3200040" y="2742480"/>
              <a:ext cx="380880" cy="29520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8" name="Text Box 15"/>
          <p:cNvSpPr/>
          <p:nvPr/>
        </p:nvSpPr>
        <p:spPr>
          <a:xfrm>
            <a:off x="2043000" y="2546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3642480" y="3156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 а д а ч а   2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38120" y="19051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Дано: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∆ АВС, ВС=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a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, 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&lt;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 В, 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&lt;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С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  <a:ea typeface="Tahoma"/>
              </a:rPr>
              <a:t>Найти: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&lt;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А, АС, А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1066680" y="2895480"/>
            <a:ext cx="16002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1066680" y="2895480"/>
            <a:ext cx="60984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8"/>
          <p:cNvSpPr/>
          <p:nvPr/>
        </p:nvSpPr>
        <p:spPr>
          <a:xfrm flipH="1">
            <a:off x="1676160" y="3505320"/>
            <a:ext cx="990360" cy="1371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rc 10"/>
          <p:cNvSpPr/>
          <p:nvPr/>
        </p:nvSpPr>
        <p:spPr>
          <a:xfrm>
            <a:off x="1600200" y="4572000"/>
            <a:ext cx="152280" cy="15228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rc 11"/>
          <p:cNvSpPr/>
          <p:nvPr/>
        </p:nvSpPr>
        <p:spPr>
          <a:xfrm>
            <a:off x="1600200" y="4419720"/>
            <a:ext cx="152280" cy="15228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rc 13"/>
          <p:cNvSpPr/>
          <p:nvPr/>
        </p:nvSpPr>
        <p:spPr>
          <a:xfrm flipH="1" flipV="1">
            <a:off x="2361600" y="3428280"/>
            <a:ext cx="152280" cy="3049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746640" y="23194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1283760" y="47577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2733840" y="32338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2195640" y="40179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ahoma"/>
              </a:rPr>
              <a:t>Р Е Ш Е Н И 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 algn="r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ТЕОРЕМЕ О СУММЕ УГЛОВ ТРЕУГОЛЬНИКА НАЙТИ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&lt;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&lt;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А = 180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°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 - (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&lt;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В+ 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Tahoma"/>
              </a:rPr>
              <a:t>&lt;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  <a:ea typeface="Tahoma"/>
              </a:rPr>
              <a:t>С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1066680" y="2895480"/>
            <a:ext cx="16002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1066680" y="2895480"/>
            <a:ext cx="60984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rc 6"/>
          <p:cNvSpPr/>
          <p:nvPr/>
        </p:nvSpPr>
        <p:spPr>
          <a:xfrm>
            <a:off x="1600200" y="4572000"/>
            <a:ext cx="152280" cy="15228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rc 7"/>
          <p:cNvSpPr/>
          <p:nvPr/>
        </p:nvSpPr>
        <p:spPr>
          <a:xfrm>
            <a:off x="1600200" y="4419720"/>
            <a:ext cx="152280" cy="15228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rc 8"/>
          <p:cNvSpPr/>
          <p:nvPr/>
        </p:nvSpPr>
        <p:spPr>
          <a:xfrm flipH="1" flipV="1">
            <a:off x="2361600" y="3428280"/>
            <a:ext cx="152280" cy="3049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746640" y="23194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283760" y="47577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2733840" y="32338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195640" y="40179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3"/>
          <p:cNvSpPr/>
          <p:nvPr/>
        </p:nvSpPr>
        <p:spPr>
          <a:xfrm flipV="1">
            <a:off x="1676520" y="3505320"/>
            <a:ext cx="990360" cy="1371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Используя теорему синусов, найти сторону АС (далее –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b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ahoma"/>
                <a:ea typeface="Tahoma"/>
              </a:rPr>
              <a:t>b = a sin B/ sin 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066680" y="2895480"/>
            <a:ext cx="16002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1066680" y="2895480"/>
            <a:ext cx="60984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rc 7"/>
          <p:cNvSpPr/>
          <p:nvPr/>
        </p:nvSpPr>
        <p:spPr>
          <a:xfrm>
            <a:off x="1600200" y="4572000"/>
            <a:ext cx="152280" cy="15228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rc 8"/>
          <p:cNvSpPr/>
          <p:nvPr/>
        </p:nvSpPr>
        <p:spPr>
          <a:xfrm>
            <a:off x="1600200" y="4419720"/>
            <a:ext cx="152280" cy="15228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Arc 9"/>
          <p:cNvSpPr/>
          <p:nvPr/>
        </p:nvSpPr>
        <p:spPr>
          <a:xfrm flipH="1" flipV="1">
            <a:off x="2361600" y="3428280"/>
            <a:ext cx="152280" cy="3049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746640" y="23194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283760" y="47577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2733840" y="32338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195640" y="40179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1676160" y="3505320"/>
            <a:ext cx="990360" cy="1371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3-10-15T18:23:5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