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763-872B-4619-B267-36756D7A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979-DB72-4EA1-9AD5-2FC54440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470-DFEA-4A2B-A9B6-58E70E56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675-F080-41C2-9E2A-4BAC34D4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952-9C06-4C0C-88B1-4E249BD4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192-C4EB-4032-BDF2-83E39AB4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0CF-BE76-45D8-9BB8-895F74C5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15B-DA2C-40B2-8CF0-1FC433E8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6BA-8E12-4462-9630-C92467FB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3A2-B2D6-416D-8BDB-FD030A1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EA3-0E56-4122-8768-2B9CA4E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56F-F98C-4C52-A716-F47419D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FAE7-52F5-4C52-926C-BAA835748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50920" y="476280"/>
            <a:ext cx="85690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2556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35712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«Средняя общеобразовательная школа №3 г. Юрьев - Польского» Владимир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4"/>
          <a:stretch/>
        </p:blipFill>
        <p:spPr>
          <a:xfrm>
            <a:off x="-274680" y="1494000"/>
            <a:ext cx="9210600" cy="23288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7"/>
          <p:cNvSpPr/>
          <p:nvPr/>
        </p:nvSpPr>
        <p:spPr>
          <a:xfrm>
            <a:off x="2857680" y="5934240"/>
            <a:ext cx="60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Выполнила: ученица 8-Б класса Кулинская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Руководитель: учитель технологии высшей квалификационн</a:t>
            </a:r>
            <a:r>
              <a:rPr b="1" i="1" lang="ru-RU" sz="1800" spc="-1" strike="noStrike">
                <a:solidFill>
                  <a:srgbClr val="ffff00"/>
                </a:solidFill>
                <a:latin typeface="Comic Sans MS"/>
              </a:rPr>
              <a:t>ой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категории Гарьянова И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kylich2"/>
          <p:cNvPicPr/>
          <p:nvPr/>
        </p:nvPicPr>
        <p:blipFill>
          <a:blip r:embed="rId5"/>
          <a:stretch/>
        </p:blipFill>
        <p:spPr>
          <a:xfrm>
            <a:off x="6215040" y="2786040"/>
            <a:ext cx="2214720" cy="2208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kylich2"/>
          <p:cNvPicPr/>
          <p:nvPr/>
        </p:nvPicPr>
        <p:blipFill>
          <a:blip r:embed="rId1"/>
          <a:stretch/>
        </p:blipFill>
        <p:spPr>
          <a:xfrm>
            <a:off x="6500880" y="3786120"/>
            <a:ext cx="2228760" cy="2551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643120" y="21420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Рекламный брен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2" descr=""/>
          <p:cNvPicPr/>
          <p:nvPr/>
        </p:nvPicPr>
        <p:blipFill>
          <a:blip r:embed="rId2"/>
          <a:stretch/>
        </p:blipFill>
        <p:spPr>
          <a:xfrm>
            <a:off x="-73080" y="1981080"/>
            <a:ext cx="8888400" cy="232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pirogi1"/>
          <p:cNvPicPr/>
          <p:nvPr/>
        </p:nvPicPr>
        <p:blipFill>
          <a:blip r:embed="rId3"/>
          <a:stretch/>
        </p:blipFill>
        <p:spPr>
          <a:xfrm>
            <a:off x="285840" y="285840"/>
            <a:ext cx="2066760" cy="16430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285920" y="214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Самоана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357200" y="1571760"/>
            <a:ext cx="6286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Совместный труд со своей бабушкой мне всегда нравится, и всегда меня учит чему-то новому. Поэтому я с удовольствием приготовила кулич к пасхе. Все мои домочадцы его оценили, и он пришелся им  по душе. Я всегда любила готовить, а теперь еще люблю печ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kylich"/>
          <p:cNvPicPr/>
          <p:nvPr/>
        </p:nvPicPr>
        <p:blipFill>
          <a:blip r:embed="rId1"/>
          <a:stretch/>
        </p:blipFill>
        <p:spPr>
          <a:xfrm>
            <a:off x="5357880" y="3929040"/>
            <a:ext cx="2143080" cy="23684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2268360" y="404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2143080" y="21420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Используемая 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71680" y="1500120"/>
            <a:ext cx="750060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«100 лучших рецептов домашней </a:t>
            </a:r>
            <a:r>
              <a:rPr b="1" i="1" lang="ru-RU" sz="2000" spc="-1" strike="noStrike">
                <a:solidFill>
                  <a:srgbClr val="333399"/>
                </a:solidFill>
                <a:latin typeface="Comic Sans MS"/>
              </a:rPr>
              <a:t>выпечки»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Автор: Г.С.Выдревич Издательство: Эксмо, Терция Год: 2008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"Энциклопедия домашней </a:t>
            </a:r>
            <a:r>
              <a:rPr b="1" i="1" lang="ru-RU" sz="2000" spc="-1" strike="noStrike">
                <a:solidFill>
                  <a:srgbClr val="333399"/>
                </a:solidFill>
                <a:latin typeface="Comic Sans MS"/>
              </a:rPr>
              <a:t>выпечки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" Тойбнер Х., Вольтер А. Москва, изд. АСТ-Астрель, 200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«Сладкая фантазия» Издательство: Рипол Классик, 201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5"/>
          <p:cNvSpPr/>
          <p:nvPr/>
        </p:nvSpPr>
        <p:spPr>
          <a:xfrm>
            <a:off x="2071800" y="28584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Обоснование ид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214200" y="135720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Скоро праздник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вятой ПАСХИ!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Пасха для нашей семьи – праздник значимый, долгожданный. В нашей семье встречают его радостно, гостеприимно, соблюдая все традиции. В день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ветлого Воскресения Христова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 к столу подают особые блюда, которые готовят только раз в году, пасхальный кулич - одно из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Свой проект по технологии я посвящаю этому Христианскому празднику , представлю свой рецепт приготовления кули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000160" y="14292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Звездочка обдум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хема 2" descr=""/>
          <p:cNvPicPr/>
          <p:nvPr/>
        </p:nvPicPr>
        <p:blipFill>
          <a:blip r:embed="rId1"/>
          <a:stretch/>
        </p:blipFill>
        <p:spPr>
          <a:xfrm>
            <a:off x="-291960" y="1268280"/>
            <a:ext cx="9154800" cy="5168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4000680" y="17859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авославная Пас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42920" y="1189800"/>
            <a:ext cx="864396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Пасха - самый большой и светлый православный праздник. Слово "Пасха" означает "освобождение", "избавление", "искупление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По традиции, в первый день Пасхи жены остаются дома, а мужчины ходят по домам и поздравляют своих близких и знакомых. Столы всюду накрыты весь день. На столах уже все не постное. Обязательно нужно посетить всех родственников, потом хороших знакомых в особенности старших и пожилых. На второй день Пасхи полагается, чтобы жены ходили по домам, а мужья сидели дома, но это не практикуется. В наше время, в дни пасхи, многие просто ходят друг к другу в гости или устраивают праздничный уж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Традиционное меню пасхального стола - это крашенные яйца, пасха, кулич, утка с яблоками, студень. На Пасху принято дарить подарки, и всегда они должны хоть чем-нибудь напоминать о воскресении, обновлении, плодоро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214720" y="214200"/>
            <a:ext cx="48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равославная Пас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845000" y="3240"/>
            <a:ext cx="571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Как отмечают Пасху 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и что подарить на Пасх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55680" y="142884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252520" y="228744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  <a:ea typeface="Times New Roman"/>
              </a:rPr>
              <a:t>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751920" y="293040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Слов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309000" y="378756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Анг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399000" y="564516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  <a:ea typeface="Times New Roman"/>
              </a:rPr>
              <a:t>Исла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183560" y="48592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eorgia"/>
                <a:ea typeface="Times New Roman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380320" y="40021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Georgia"/>
                <a:ea typeface="Times New Roman"/>
              </a:rPr>
              <a:t>Кан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714240" y="1166760"/>
            <a:ext cx="771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В Пасху нельзя ходить на кладбище, потому что Христово Воскресение - это праздник живых, а не мертвых. Для поминовения усопших существуют специальные дни - Родительская суббота и Радуница - ее отмечают на десятый день после Пасх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асха - это семейный праздник, в течение всего дня родственники приходят поздравить друг друг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2" descr=""/>
          <p:cNvPicPr/>
          <p:nvPr/>
        </p:nvPicPr>
        <p:blipFill>
          <a:blip r:embed="rId1"/>
          <a:stretch/>
        </p:blipFill>
        <p:spPr>
          <a:xfrm>
            <a:off x="1871640" y="176040"/>
            <a:ext cx="6138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5"/>
          <p:cNvSpPr/>
          <p:nvPr/>
        </p:nvSpPr>
        <p:spPr>
          <a:xfrm>
            <a:off x="285840" y="1285920"/>
            <a:ext cx="757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Comic Sans MS"/>
              </a:rPr>
              <a:t>Пасхальный кулич выпекают вечером в чистый четверг. Освящают вместе с пасхой и яйцами в ночь на воскресенье во время пасхальной литургии. После этого пища считается благословленной, и именно ею нужно заканчивать подвиг поста. И лишь после того, как верующие попробуют освященные пасхи, куличи и яйца, можно приступать к другим праздничным блюдам. Кстати, пасхальный кулич принято есть в течение всей Светлой Седмицы, то есть целую неделю после Светлого Христова Воскрес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2000160" y="214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Соблюдаем трад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Documents and Settings\i.v.garianova.MOU3\Local Settings\Temporary Internet Files\Content.IE5\QPNOXCVY\MCj04357990000[1].wmf"/>
          <p:cNvPicPr/>
          <p:nvPr/>
        </p:nvPicPr>
        <p:blipFill>
          <a:blip r:embed="rId1"/>
          <a:stretch/>
        </p:blipFill>
        <p:spPr>
          <a:xfrm>
            <a:off x="6929280" y="4643280"/>
            <a:ext cx="1863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2928960" y="285840"/>
            <a:ext cx="50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Рецепт кул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85840" y="500040"/>
            <a:ext cx="86439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Норма продуктов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 10 стаканов муки, 3 стакана теплого молока, 50 г дрожжей, 2 стакана сахара, 7 яиц, 0,5 стакана топленого масла, 1,5 стакана изюма, 1 чайная ложка соли, кондитерские приправы (ваниль, кардамон) по вку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Способ приготовления: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. Разводим опару на 3 стаканах молока, 6 стаканах муки и дрожжах. Ставим ее в тепло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. Растираем 5 желтков с 2 стаканами сахара, солью и приправам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3. Когда опара подойдет, кладем в нее растертые желтки, вбиваем еще 2 яйца, вливаем чуть разогретое топленое сливочное масло. Вводим 4 стакана муки (тесто не должно быть слишком крутым) и хорошенько вымешиваем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4. Добавляем изюм и даем тесту подойти (примерно 3 - 5 часов)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5. Снова вымешиваем тесто и снова убираем его в теплое место, на 2 - 3 час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6. Готовое тесто перекладываем в форму, даем ему подняться до трех четвертей высоты формы и выпекаем в горячей дух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пасха4"/>
          <p:cNvPicPr/>
          <p:nvPr/>
        </p:nvPicPr>
        <p:blipFill>
          <a:blip r:embed="rId1"/>
          <a:stretch/>
        </p:blipFill>
        <p:spPr>
          <a:xfrm>
            <a:off x="142920" y="214200"/>
            <a:ext cx="2563920" cy="1692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643040" y="2142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Экономическое обос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149720"/>
        </p:xfrm>
        <a:graphic>
          <a:graphicData uri="http://schemas.openxmlformats.org/drawingml/2006/table">
            <a:tbl>
              <a:tblPr/>
              <a:tblGrid>
                <a:gridCol w="1548000"/>
                <a:gridCol w="2516040"/>
                <a:gridCol w="2032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 кг – 25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 кг – 5о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ло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 литр - 25 руб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 ст. – 19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рож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 г – 23 руб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 г – 23 руб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Яй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омаш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асло сливоч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 пачка – 25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 5 ст. – 12 руб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зю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омашние зап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омашние зап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4 руб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4" descr="пасха7"/>
          <p:cNvPicPr/>
          <p:nvPr/>
        </p:nvPicPr>
        <p:blipFill>
          <a:blip r:embed="rId1"/>
          <a:stretch/>
        </p:blipFill>
        <p:spPr>
          <a:xfrm>
            <a:off x="3214800" y="5072040"/>
            <a:ext cx="2168280" cy="1627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5:58:21Z</dcterms:created>
  <dc:creator>Ромео</dc:creator>
  <dc:description/>
  <dc:language>en-US</dc:language>
  <cp:lastModifiedBy>i.v.garianova</cp:lastModifiedBy>
  <dcterms:modified xsi:type="dcterms:W3CDTF">2010-04-09T05:31:32Z</dcterms:modified>
  <cp:revision>45</cp:revision>
  <dc:subject/>
  <dc:title>Слайд 1</dc:title>
</cp:coreProperties>
</file>