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C996-26B4-4804-9A66-B5D90DC22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DF11-5C00-466F-ADAE-3AE15CF2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379F-CFAC-4A5C-B9C9-52EC6BEF7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5266-B63B-4D0F-AA57-7529682AA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F92B-2378-41B8-9CA7-1806B91F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33CE-9CE4-4FCB-AEA4-FB064FAA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A455-AA46-4538-9FFB-DA3C5E0E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94E1-A956-4F43-A671-0D9FBAAC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0458-9372-4EB4-B7CB-B7A35421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A2FF-BB2B-4831-A281-974FB109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C724-2064-4B6A-BA4F-AE7D64F7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4520-7BB9-40EE-BCCE-42244CDD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e1ff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4456-942A-4340-95D8-C3136D31DE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92;&#1083;&#1072;&#1075;.wav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75;&#1077;&#1088;&#1073;.wav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41000"/>
            <a:ext cx="7772400" cy="216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О республике Татарстан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4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 июня 1991 года первым Президентом РТ был избран Минтимер Шарипович Шайми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ноября 1992 года принята Конституция РТ. Конституция провозгласила равенство двух государственных языков: татарского и русск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4427640" y="620640"/>
            <a:ext cx="4643280" cy="5830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чение – свет 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746680" cy="35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Татарстаном связаны имена знаменитых ученых, деятелей литературы и искус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есь в разное время жили, учились, творили писатели, ученые, композиторы и художники, чьи имена известны не только в нашей стране, но и во всем мир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36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чение - свет  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мирную литературу и искусство обогатили творения Кул Гали, Мухамедьяра, Г. Кандалыя, Габдуллы Тукая, Г. Державина, С.Аксакова, Л.Толстого, М.Горького, Н.Фешина, И.Шишкина, Ф.Шаляпина, С.Сайдаше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917960" y="259920"/>
            <a:ext cx="3927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атарском национальном костюме преобладают белые, красные, синие, зеленые цвета. Татарские девушки надевали на голову бархатный калфак, расшитый бисером ил жемчугом. А иногда по-особому повязывали пла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787640" cy="61945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475920"/>
            <a:ext cx="766764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тье всегда широкое, по краю подола оборки. На платье надевали или вышитый фартук, или бархатную безрукавку. На ноги надевали кожаные сапожки, расшитые узорами из цветной кож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жской татарский костюм состоит из светлой рубашки, темного камзола, брюк, маленькой бархатной шапочки и кожаных сапог. Татарский национальный костюм расшивается национальным орнаментом – узором, состоящим из цветков и листоч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98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98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ши праздни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жизни каждого народа и его страны есть замечательные праздники. Которые делают нашу жизнь интересной и содержатель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3618000" cy="42037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754704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сударственные праздн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0 августа – День республ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 ноября – День Конституции Р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 января – Новы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8 марта – Международный женский д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9 мая – День Побе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лигиозные праздник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урбан-байрам – у мусульм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ждество – у христи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вруз – обрядовый праздник у тат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асленица – обрядовый праздник у русск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абантуй – праздник весны, труда, дружбы, который проводят после завершения полевых рабо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8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4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0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амый яркий, искрометный, интернациональный праздник – Сабанту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1415880" y="2374920"/>
            <a:ext cx="6685200" cy="3933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мволы нашей республ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2658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каждого независимого государства есть знаки отличия – симв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лаг, герб, гимн – государственные симв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енный гимн Татарстана написал выдающийся композитор Рустем Ях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b2815"/>
                </a:solidFill>
                <a:latin typeface="Arial"/>
              </a:rPr>
              <a:t>Государственный флаг Республики Татарста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енный флаг – это лицо страны, символ независимости. Флаг Татарстана разделен на три части. Верхняя часть зеленая, нижняя – красная, а в середине узкая белая полоса. Красный – это цвет солнца, огня. Зеленый – символ живой природы и молодости. Белый – символ чистоты, чести,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флаг тат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1989000"/>
            <a:ext cx="3888000" cy="3600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b0b10"/>
                </a:solidFill>
                <a:latin typeface="Arial"/>
              </a:rPr>
              <a:t>Государственный герб Республики Татарста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б Республики Татарстан был принят 7 февраля 1992 года. Он представляет собой изображение крылатого барса с круглым щитом на боку, с приподнятой правой передней лапой на фоне диска солнца, помещенного в обрамление из татарского народного орнамента, в основании которого надпись«Татарстан». Крылья барса состоят из семи перьев, розетка на щите состоит из восьми лепестков. Герб выполнен в цветах республиканского флага Татарстана, имеет круглую форм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герб тат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1773360"/>
            <a:ext cx="4032360" cy="4392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768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768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768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768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 ис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574668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708 году Казань – центр огромной Казанской губер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20 году была образована Татарская Автономная Советская Социалистическая Республ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од Татарстана вместе со своей страной пережил и такую трагическую страницу нашей истории, как Великая Отечественная война. Сотни тысяч наших земляков погиб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 ис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76520" y="1483920"/>
            <a:ext cx="575136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е 200 были удостоены звания Героев Советского Союза, многие были награждены орденами и меда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йчас улицы и площади наших городов  носят их им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должны хранить память о героях, которые погибли, защищая свой народ, Родину. Это М.Джалиль, Г.Гафиятуллин, М.Девятаев, И.Заварыкин и мн.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86728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90г – принята Декларация о государственном суверенитете РТ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Отсканировано 25"/>
          <p:cNvPicPr/>
          <p:nvPr/>
        </p:nvPicPr>
        <p:blipFill>
          <a:blip r:embed="rId1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род Татарст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7931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тарстан богат плодородными землями, лесами, реками. Но самое главное богатство республики – это ее люди. В Татарстане проживает около 4 миллионов человек, это люди разных националь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ая историческая судьба разбросала татар в разные стороны света: они живут в ближнем и дальнем зарубежье. Для татар всего мира важно возрождение и развитие родного языка, обычаев, традиций, развитие экономических и культурных связ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Татарстане проживает около 4 миллионов человек, это люди разных национальност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Отсканировано 25"/>
          <p:cNvPicPr/>
          <p:nvPr/>
        </p:nvPicPr>
        <p:blipFill>
          <a:blip r:embed="rId1"/>
          <a:stretch/>
        </p:blipFill>
        <p:spPr>
          <a:xfrm>
            <a:off x="900000" y="1846440"/>
            <a:ext cx="7056720" cy="4535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0:08:18Z</dcterms:created>
  <dc:creator>Хайруллин Р.И.</dc:creator>
  <dc:description/>
  <dc:language>en-US</dc:language>
  <cp:lastModifiedBy>Owner</cp:lastModifiedBy>
  <dcterms:modified xsi:type="dcterms:W3CDTF">2011-08-07T07:32:37Z</dcterms:modified>
  <cp:revision>18</cp:revision>
  <dc:subject/>
  <dc:title>Республика Татарстан.</dc:title>
</cp:coreProperties>
</file>