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52F-D975-4A2B-872F-8C96E042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6A3-C80A-41AE-94BC-7F0B48F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7CF-C288-4A4E-8EB6-80180E5F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E60-577E-4A91-A53D-D419E27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0D9-F7D3-4693-A975-6D873A8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281-A4A4-446E-B19B-7D736B7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13F-D24B-46A2-AFE8-8D394B11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C7F-BBA4-4182-85FF-38827C2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96A-789B-41C5-930C-A296ADD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6F4-B2A1-40FE-8A34-0F854BA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571-87C0-4F8C-B5BD-A33B6F1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1E3-ECF6-4DD2-AB77-17A76B1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579-85A2-455D-9E8D-3086738E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jpeg"/><Relationship Id="rId4" Type="http://schemas.openxmlformats.org/officeDocument/2006/relationships/image" Target="../media/image1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Georgia"/>
              </a:rPr>
              <a:t>Литература как искусство сл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94120" y="5334120"/>
            <a:ext cx="54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итель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чальных классов Балы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19320" y="3429000"/>
            <a:ext cx="64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к по литературному чтению в 4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274680"/>
            <a:ext cx="68580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акими средствами пользуются художник, композитор и поэт, чтобы создать картину осенней прир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6bc24d6024efa56a18f6d0311c2eec57_190098"/>
          <p:cNvPicPr/>
          <p:nvPr/>
        </p:nvPicPr>
        <p:blipFill>
          <a:blip r:embed="rId2"/>
          <a:stretch/>
        </p:blipFill>
        <p:spPr>
          <a:xfrm>
            <a:off x="228600" y="228600"/>
            <a:ext cx="137484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34280222_brushes-and-paints_3"/>
          <p:cNvPicPr/>
          <p:nvPr/>
        </p:nvPicPr>
        <p:blipFill>
          <a:blip r:embed="rId3"/>
          <a:srcRect l="8398" t="6753" r="11603" b="13960"/>
          <a:stretch/>
        </p:blipFill>
        <p:spPr>
          <a:xfrm>
            <a:off x="304920" y="3657600"/>
            <a:ext cx="2895480" cy="267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04635"/>
          <p:cNvPicPr/>
          <p:nvPr/>
        </p:nvPicPr>
        <p:blipFill>
          <a:blip r:embed="rId4"/>
          <a:stretch/>
        </p:blipFill>
        <p:spPr>
          <a:xfrm>
            <a:off x="3581280" y="3649680"/>
            <a:ext cx="2895840" cy="264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74370350362733"/>
          <p:cNvPicPr/>
          <p:nvPr/>
        </p:nvPicPr>
        <p:blipFill>
          <a:blip r:embed="rId5"/>
          <a:stretch/>
        </p:blipFill>
        <p:spPr>
          <a:xfrm>
            <a:off x="6858000" y="3276720"/>
            <a:ext cx="2031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234280222_brushes-and-paints_3"/>
          <p:cNvPicPr/>
          <p:nvPr/>
        </p:nvPicPr>
        <p:blipFill>
          <a:blip r:embed="rId2"/>
          <a:srcRect l="8398" t="6753" r="11603" b="13960"/>
          <a:stretch/>
        </p:blipFill>
        <p:spPr>
          <a:xfrm>
            <a:off x="228600" y="228600"/>
            <a:ext cx="198108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286000" y="5097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 помощью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Georgia"/>
              </a:rPr>
              <a:t>цвета красок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созд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картину осенне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4635"/>
          <p:cNvPicPr/>
          <p:nvPr/>
        </p:nvPicPr>
        <p:blipFill>
          <a:blip r:embed="rId3"/>
          <a:stretch/>
        </p:blipFill>
        <p:spPr>
          <a:xfrm>
            <a:off x="228600" y="1994040"/>
            <a:ext cx="1981080" cy="1663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286000" y="19810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 помощью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Georgia"/>
              </a:rPr>
              <a:t>звуков мелодии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создает картину осеннего пейз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74370350362733"/>
          <p:cNvPicPr/>
          <p:nvPr/>
        </p:nvPicPr>
        <p:blipFill>
          <a:blip r:embed="rId4"/>
          <a:stretch/>
        </p:blipFill>
        <p:spPr>
          <a:xfrm>
            <a:off x="228600" y="3733920"/>
            <a:ext cx="1905120" cy="2895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209680" y="3581280"/>
            <a:ext cx="69343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исует картину осенней природы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Georgia"/>
              </a:rPr>
              <a:t>словами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Как музыкален и выразителен может быть язык! Сколько возможностей для изображения жизни таится в слове. Словами можно передать и настроение, которое навевала и музыка Чайковского, и кра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картины Левит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Georgia"/>
              </a:rPr>
              <a:t>В помощь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8000" y="1219320"/>
            <a:ext cx="89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чатная тетрадь по литературному чтен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вторы Р.Н. Бунеев, Е.В. Бунее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.В. Чинди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90720" y="3048120"/>
            <a:ext cx="7391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800000"/>
                </a:solidFill>
                <a:uFillTx/>
                <a:latin typeface="Georgia"/>
              </a:rPr>
              <a:t>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Работа в тет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по вопросам 1, 2,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(самостоятель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00000"/>
                </a:solidFill>
                <a:uFillTx/>
                <a:latin typeface="Georgia"/>
              </a:rPr>
              <a:t>Подведение итог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549800" y="586728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(Вывод 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6bc24d6024efa56a18f6d0311c2eec57_190098"/>
          <p:cNvPicPr/>
          <p:nvPr/>
        </p:nvPicPr>
        <p:blipFill>
          <a:blip r:embed="rId2"/>
          <a:stretch/>
        </p:blipFill>
        <p:spPr>
          <a:xfrm>
            <a:off x="3429000" y="2590920"/>
            <a:ext cx="19843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Это особенный вид искусства, который с помощью слов может передать и настроение, и краски, и звуки, изображая жизненные карт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74370350362733"/>
          <p:cNvPicPr/>
          <p:nvPr/>
        </p:nvPicPr>
        <p:blipFill>
          <a:blip r:embed="rId2"/>
          <a:stretch/>
        </p:blipFill>
        <p:spPr>
          <a:xfrm>
            <a:off x="7315200" y="4419720"/>
            <a:ext cx="14731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00000"/>
                </a:solidFill>
                <a:uFillTx/>
                <a:latin typeface="Georgia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4920" y="167652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учить записанное определение «литерату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читать предисловие авторов к учебной хрестомат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Шаг за горизонт» (книга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с.3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лог (с. 4-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Georgia"/>
              </a:rPr>
              <a:t>Источники материа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арова Е.С. Уроки литературного чтения в 4-м классе по учебнику-хрестоматии «Шаг за горизонт». Методические рекомендации для учителя/ Под научной редакцией Р.Н. Бунеева, Е.В. Бунеевой. Изд. 2-е, перераб. – М.: Баласс, Изд. Дом РАО, 2005. – 256 с. (Образовательная система «Школа 2100». Серия «Свободный ум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http://isaak-levita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http://feb-web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http://www.tchaikov.ru/vremen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http://www.stihi-rus.ru/Pushkin/stih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http://www.stihi-rus.ru/1/Tyutche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Georgia"/>
              </a:rPr>
              <a:t>Основная цель данного урока:</a:t>
            </a:r>
            <a:r>
              <a:rPr b="1" lang="en-US" sz="3600" spc="-1" strike="noStrike">
                <a:solidFill>
                  <a:srgbClr val="800000"/>
                </a:solidFill>
                <a:latin typeface="Georgi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дать представление о литературе как искусстве сло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800000"/>
                </a:solidFill>
                <a:uFillTx/>
                <a:latin typeface="Georgia"/>
              </a:rPr>
              <a:t>Цели:</a:t>
            </a: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Познакомить учащихся с тем, что означает слово «литератур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Наглядно продемонстрировать, в чем специфика литературы как вида искус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Georgia"/>
              </a:rPr>
              <a:t>ПОВТО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205740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Что такое фольклор и каковы его основные жан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6bc24d6024efa56a18f6d0311c2eec57_19009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2209680"/>
            <a:ext cx="129384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00000"/>
                </a:solidFill>
                <a:uFillTx/>
                <a:latin typeface="Georgia"/>
              </a:rPr>
              <a:t>Фольклор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 – это устное народное творчеств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534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Georgia"/>
              </a:rPr>
              <a:t>Жан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сказки, поговор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пословицы, загад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былины, скороговорки, песни, считалки, частушки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>
            <a:hlinkClick r:id="" action="ppaction://hlinkshowjump?jump=nextslide"/>
          </p:cNvPr>
          <p:cNvSpPr/>
          <p:nvPr/>
        </p:nvSpPr>
        <p:spPr>
          <a:xfrm>
            <a:off x="807732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Georgia"/>
              </a:rPr>
              <a:t>«ЛИТЕРАТУРА»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02"/>
          <p:cNvPicPr/>
          <p:nvPr/>
        </p:nvPicPr>
        <p:blipFill>
          <a:blip r:embed="rId2"/>
          <a:stretch/>
        </p:blipFill>
        <p:spPr>
          <a:xfrm>
            <a:off x="762120" y="1346040"/>
            <a:ext cx="7848360" cy="5511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838080" y="1523880"/>
            <a:ext cx="7696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лово это пришло  к нам в язык в 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VIII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ве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имствовано из латин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 происходит от латинского слова «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litera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то есть «буква». Литература – искусство письменного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234280222_brushes-and-paints_3"/>
          <p:cNvPicPr/>
          <p:nvPr/>
        </p:nvPicPr>
        <p:blipFill>
          <a:blip r:embed="rId2"/>
          <a:srcRect l="8398" t="6753" r="11603" b="13960"/>
          <a:stretch/>
        </p:blipFill>
        <p:spPr>
          <a:xfrm>
            <a:off x="6629400" y="228600"/>
            <a:ext cx="2057400" cy="135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4635"/>
          <p:cNvPicPr/>
          <p:nvPr/>
        </p:nvPicPr>
        <p:blipFill>
          <a:blip r:embed="rId3"/>
          <a:stretch/>
        </p:blipFill>
        <p:spPr>
          <a:xfrm>
            <a:off x="6629400" y="1676520"/>
            <a:ext cx="2052720" cy="18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74370350362733"/>
          <p:cNvPicPr/>
          <p:nvPr/>
        </p:nvPicPr>
        <p:blipFill>
          <a:blip r:embed="rId4"/>
          <a:stretch/>
        </p:blipFill>
        <p:spPr>
          <a:xfrm>
            <a:off x="6629400" y="3657600"/>
            <a:ext cx="20318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00"/>
                </a:solidFill>
                <a:uFillTx/>
                <a:latin typeface="Georgia"/>
              </a:rPr>
              <a:t>ЖИВО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00"/>
                </a:solidFill>
                <a:uFillTx/>
                <a:latin typeface="Georgia"/>
              </a:rPr>
              <a:t>МУЗЫ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00"/>
                </a:solidFill>
                <a:uFillTx/>
                <a:latin typeface="Georgia"/>
              </a:rPr>
              <a:t>ПРОИЗВЕДЕНИЯ  ЛИТЕРА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utumn"/>
          <p:cNvPicPr/>
          <p:nvPr/>
        </p:nvPicPr>
        <p:blipFill>
          <a:blip r:embed="rId2"/>
          <a:stretch/>
        </p:blipFill>
        <p:spPr>
          <a:xfrm>
            <a:off x="3505320" y="228600"/>
            <a:ext cx="5257800" cy="367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6585277_Portret_hudozhnika_Isaaka_Levitana"/>
          <p:cNvPicPr/>
          <p:nvPr/>
        </p:nvPicPr>
        <p:blipFill>
          <a:blip r:embed="rId3"/>
          <a:stretch/>
        </p:blipFill>
        <p:spPr>
          <a:xfrm>
            <a:off x="838080" y="152280"/>
            <a:ext cx="228600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Golden_autumn"/>
          <p:cNvPicPr/>
          <p:nvPr/>
        </p:nvPicPr>
        <p:blipFill>
          <a:blip r:embed="rId4"/>
          <a:stretch/>
        </p:blipFill>
        <p:spPr>
          <a:xfrm>
            <a:off x="304920" y="3124080"/>
            <a:ext cx="5105160" cy="34959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>
            <a:hlinkClick r:id="" action="ppaction://hlinkshowjump?jump=previousslide"/>
          </p:cNvPr>
          <p:cNvSpPr/>
          <p:nvPr/>
        </p:nvSpPr>
        <p:spPr>
          <a:xfrm>
            <a:off x="822960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940720" y="3962520"/>
            <a:ext cx="317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Какое на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ере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 своих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.И. Левитан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6bc24d6024efa56a18f6d0311c2eec57_190098"/>
          <p:cNvPicPr/>
          <p:nvPr/>
        </p:nvPicPr>
        <p:blipFill>
          <a:blip r:embed="rId5"/>
          <a:stretch/>
        </p:blipFill>
        <p:spPr>
          <a:xfrm>
            <a:off x="5105520" y="3886200"/>
            <a:ext cx="784080" cy="1174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6661440" y="33544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«Октябрь», 1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568240" y="60976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«Золотая осень», 1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66480" y="2338560"/>
            <a:ext cx="313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Исаак Ильич 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(1860-1900 г.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"/>
          <p:cNvSpPr/>
          <p:nvPr/>
        </p:nvSpPr>
        <p:spPr>
          <a:xfrm>
            <a:off x="4780080" y="228600"/>
            <a:ext cx="4106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«Времена 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фортепианный цик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остоящи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2 характерных кар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1875-1876 г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ь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«Октяб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сенняя пес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chaikovsky"/>
          <p:cNvPicPr/>
          <p:nvPr/>
        </p:nvPicPr>
        <p:blipFill>
          <a:blip r:embed="rId2"/>
          <a:stretch/>
        </p:blipFill>
        <p:spPr>
          <a:xfrm>
            <a:off x="380880" y="228600"/>
            <a:ext cx="41245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>
            <a:hlinkClick r:id="" action="ppaction://hlinkshowjump?jump=previousslide"/>
          </p:cNvPr>
          <p:cNvSpPr/>
          <p:nvPr/>
        </p:nvSpPr>
        <p:spPr>
          <a:xfrm>
            <a:off x="800100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КТЯБРЬ.wma" descr=""/>
          <p:cNvPicPr/>
          <p:nvPr/>
        </p:nvPicPr>
        <p:blipFill>
          <a:blip r:embed="rId3"/>
          <a:stretch/>
        </p:blipFill>
        <p:spPr>
          <a:xfrm>
            <a:off x="7924680" y="266688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726480" y="5867280"/>
            <a:ext cx="350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Петр Ильич Чай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(1840-1893 г.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6bc24d6024efa56a18f6d0311c2eec57_190098"/>
          <p:cNvPicPr/>
          <p:nvPr/>
        </p:nvPicPr>
        <p:blipFill>
          <a:blip r:embed="rId4"/>
          <a:stretch/>
        </p:blipFill>
        <p:spPr>
          <a:xfrm>
            <a:off x="4495680" y="4191120"/>
            <a:ext cx="784440" cy="1174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5486400" y="4114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Что вы видите и чувствуете, слушая музыку П.И. Чайковс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478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242181298_geniy_020"/>
          <p:cNvPicPr/>
          <p:nvPr/>
        </p:nvPicPr>
        <p:blipFill>
          <a:blip r:embed="rId2"/>
          <a:stretch/>
        </p:blipFill>
        <p:spPr>
          <a:xfrm>
            <a:off x="762120" y="152280"/>
            <a:ext cx="249876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>
            <a:hlinkClick r:id="" action="ppaction://hlinkshowjump?jump=previousslide"/>
          </p:cNvPr>
          <p:cNvSpPr/>
          <p:nvPr/>
        </p:nvSpPr>
        <p:spPr>
          <a:xfrm>
            <a:off x="8153280" y="59436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Tutchev2"/>
          <p:cNvPicPr/>
          <p:nvPr/>
        </p:nvPicPr>
        <p:blipFill>
          <a:blip r:embed="rId3"/>
          <a:stretch/>
        </p:blipFill>
        <p:spPr>
          <a:xfrm>
            <a:off x="5638680" y="228600"/>
            <a:ext cx="23115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3581280"/>
            <a:ext cx="441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нылая пора! Очей очаровань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ятна мне твоя прощальная краса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багрец и в золото одетые лес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их сенях ветра шум и свежее дыха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мглой волнистою покрыты небес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редкий солнца луч, и первые мороз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тдаленные седой зимы угро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1825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45320" y="3581280"/>
            <a:ext cx="41904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ть в осени перво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роткая, но дивная пора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сь день стоит как бы хрусталь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учезарны вечер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стеет воздух, птиц не слышно бо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далеко еще до первых зимних бу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ьется чистая и теплая лазу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тдыхающее поле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85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6bc24d6024efa56a18f6d0311c2eec57_190098"/>
          <p:cNvPicPr/>
          <p:nvPr/>
        </p:nvPicPr>
        <p:blipFill>
          <a:blip r:embed="rId4"/>
          <a:stretch/>
        </p:blipFill>
        <p:spPr>
          <a:xfrm>
            <a:off x="228600" y="5791320"/>
            <a:ext cx="581040" cy="869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819720" y="5867280"/>
            <a:ext cx="694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акие пейзажи возникают в вашем вооб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при чтении стихов А.С. Пушкина и Ф.И. Тютче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080" y="297180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Александр Сергеевич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(1799-1837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210280" y="297180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Федор Иванович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(1803-1873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76212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5638680" y="35812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ыковы</cp:lastModifiedBy>
  <dcterms:modified xsi:type="dcterms:W3CDTF">2013-10-14T13:30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