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2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7.jpeg" ContentType="image/jpeg"/>
  <Override PartName="/ppt/media/image17.png" ContentType="image/png"/>
  <Override PartName="/ppt/media/image25.jpeg" ContentType="image/jpeg"/>
  <Override PartName="/ppt/media/image24.jpeg" ContentType="image/jpeg"/>
  <Override PartName="/ppt/media/image23.gif" ContentType="image/gif"/>
  <Override PartName="/ppt/media/image22.jpeg" ContentType="image/jpeg"/>
  <Override PartName="/ppt/media/image14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3A6-2FCE-4B81-8AB0-7CA714B1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4B5-D269-40D2-B0BC-FC640DC0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2B9-291C-4231-B81C-342BD406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AB0-2365-43F7-9EBE-0FFB4AEA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71E-49A5-4600-9AF0-61B70225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13F-8DBD-4322-9D6D-824856D1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527-BA34-4207-A70A-E2504E0E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A3D-EE56-4D68-88EF-51DB0F5B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FBE-9DB7-4D73-AFF1-0C268018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0FC-7A80-44ED-89C7-EC8E089F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B40-DABC-4228-8390-34315DA0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B5F-4F88-4447-8884-8C0D011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3B9B-BC27-465C-B73B-C67BE7940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3068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14200" y="0"/>
            <a:ext cx="8786880" cy="4665240"/>
          </a:xfrm>
          <a:prstGeom prst="rect">
            <a:avLst/>
          </a:prstGeom>
          <a:solidFill>
            <a:srgbClr val="ffffd9"/>
          </a:solidFill>
          <a:ln w="255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99"/>
              </a:solidFill>
              <a:latin typeface="Orator St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d4d4d"/>
                </a:solidFill>
                <a:latin typeface="Tahoma"/>
              </a:rPr>
              <a:t>«Умники </a:t>
            </a:r>
            <a:endParaRPr b="1" lang="en-US" sz="8000" spc="-1" strike="noStrike">
              <a:solidFill>
                <a:srgbClr val="003399"/>
              </a:solidFill>
              <a:latin typeface="Orator St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d4d4d"/>
                </a:solidFill>
                <a:latin typeface="Tahoma"/>
              </a:rPr>
              <a:t>       </a:t>
            </a:r>
            <a:r>
              <a:rPr b="1" lang="ru-RU" sz="8000" spc="-1" strike="noStrike">
                <a:solidFill>
                  <a:srgbClr val="4d4d4d"/>
                </a:solidFill>
                <a:latin typeface="Tahoma"/>
              </a:rPr>
              <a:t>и </a:t>
            </a:r>
            <a:endParaRPr b="1" lang="en-US" sz="8000" spc="-1" strike="noStrike">
              <a:solidFill>
                <a:srgbClr val="003399"/>
              </a:solidFill>
              <a:latin typeface="Orator St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d4d4d"/>
                </a:solidFill>
                <a:latin typeface="Tahoma"/>
              </a:rPr>
              <a:t>умницы»</a:t>
            </a:r>
            <a:endParaRPr b="1" lang="en-US" sz="8000" spc="-1" strike="noStrike">
              <a:solidFill>
                <a:srgbClr val="003399"/>
              </a:solidFill>
              <a:latin typeface="Orator Std"/>
            </a:endParaRPr>
          </a:p>
        </p:txBody>
      </p:sp>
      <p:pic>
        <p:nvPicPr>
          <p:cNvPr id="4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284640"/>
            <a:ext cx="2016360" cy="193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?id=94036703-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98100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-1189080" y="594216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Orator Std"/>
              </a:rPr>
              <a:t>Расшифруй сло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3924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рдкао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Драко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4148280" y="1773360"/>
            <a:ext cx="49957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пользователь\Мои документы\Картинки\Homeanim\BD13730_.GIF"/>
          <p:cNvPicPr/>
          <p:nvPr/>
        </p:nvPicPr>
        <p:blipFill>
          <a:blip r:embed="rId1"/>
          <a:stretch/>
        </p:blipFill>
        <p:spPr>
          <a:xfrm>
            <a:off x="1500120" y="642960"/>
            <a:ext cx="3857760" cy="3857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218200" y="500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1" lang="en-US" sz="96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686560" y="2421000"/>
            <a:ext cx="192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НЯ</a:t>
            </a:r>
            <a:endParaRPr b="1" lang="en-US" sz="96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3924360" y="5013360"/>
            <a:ext cx="421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Monotype Corsiva"/>
              </a:rPr>
              <a:t>д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1" lang="ru-RU" sz="6600" spc="-1" strike="noStrike">
                <a:solidFill>
                  <a:srgbClr val="7030a0"/>
                </a:solidFill>
                <a:latin typeface="Monotype Corsiva"/>
              </a:rPr>
              <a:t>ревня</a:t>
            </a:r>
            <a:endParaRPr b="1" lang="en-US" sz="66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6892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Зага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Состав сло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еометр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0" y="12445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Без крыльев летят, без ног бегут, без паруса плывут. </a:t>
            </a: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0" y="3857760"/>
            <a:ext cx="1719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Облака</a:t>
            </a: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</p:txBody>
      </p:sp>
      <p:pic>
        <p:nvPicPr>
          <p:cNvPr id="76" name="Picture 8" descr="f_9702037"/>
          <p:cNvPicPr/>
          <p:nvPr/>
        </p:nvPicPr>
        <p:blipFill>
          <a:blip r:embed="rId1"/>
          <a:stretch/>
        </p:blipFill>
        <p:spPr>
          <a:xfrm>
            <a:off x="1908000" y="2565360"/>
            <a:ext cx="6409080" cy="4032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2195640" y="16344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Tahoma"/>
              </a:rPr>
              <a:t>Загадка</a:t>
            </a:r>
            <a:endParaRPr b="1" lang="en-US" sz="44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такое корен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То же самое, что у растений в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Часть слова без окончания и приста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се одинаково звучащие части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Общая часть родственных (однокоренных)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Поду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Если у стола отрезать один угол, сколько углов останетс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5 уг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6892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Узнай геро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Уголовное дел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да - лож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о данным словосочетаниям узнай гер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На старом болот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 лягушечьей кож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мудрыми совета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 прекрасную царевн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(царевна – лягушк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¼ часть прямого уг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 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Угловой град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Температурный град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Правда ли ч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Имена прилагательные изменяются по род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рав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ют все, нужны друг другу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 партнёры, и супруги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льский берег и французский</a:t>
            </a:r>
            <a:br>
              <a:rPr sz="4400"/>
            </a:b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Математика и ру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536400" y="-244440"/>
            <a:ext cx="8253720" cy="204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ааааааааааааааааа"/>
          <p:cNvPicPr/>
          <p:nvPr/>
        </p:nvPicPr>
        <p:blipFill>
          <a:blip r:embed="rId2"/>
          <a:stretch/>
        </p:blipFill>
        <p:spPr>
          <a:xfrm>
            <a:off x="1619280" y="1773360"/>
            <a:ext cx="6265800" cy="5084640"/>
          </a:xfrm>
          <a:prstGeom prst="rect">
            <a:avLst/>
          </a:prstGeom>
          <a:ln w="0">
            <a:noFill/>
          </a:ln>
        </p:spPr>
      </p:pic>
      <p:pic>
        <p:nvPicPr>
          <p:cNvPr id="93" name="Заголовок 1" descr=""/>
          <p:cNvPicPr/>
          <p:nvPr/>
        </p:nvPicPr>
        <p:blipFill>
          <a:blip r:embed="rId3"/>
          <a:stretch/>
        </p:blipFill>
        <p:spPr>
          <a:xfrm>
            <a:off x="539640" y="-243000"/>
            <a:ext cx="82551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389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6892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57132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Стих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Рассужда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Лишне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1                   2                    3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4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857160" y="2214720"/>
            <a:ext cx="1357560" cy="1428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00" name="Прямая соединительная линия 5"/>
          <p:cNvSpPr/>
          <p:nvPr/>
        </p:nvSpPr>
        <p:spPr>
          <a:xfrm flipV="1">
            <a:off x="3071880" y="2214360"/>
            <a:ext cx="17143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01" name="Прямоугольный треугольник 6"/>
          <p:cNvSpPr/>
          <p:nvPr/>
        </p:nvSpPr>
        <p:spPr>
          <a:xfrm>
            <a:off x="1785960" y="4357800"/>
            <a:ext cx="2286000" cy="914400"/>
          </a:xfrm>
          <a:prstGeom prst="rtTriangle">
            <a:avLst/>
          </a:pr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02" name="Трапеция 7"/>
          <p:cNvSpPr/>
          <p:nvPr/>
        </p:nvSpPr>
        <p:spPr>
          <a:xfrm rot="20235000">
            <a:off x="5187960" y="4419360"/>
            <a:ext cx="2000160" cy="1000080"/>
          </a:xfrm>
          <a:custGeom>
            <a:avLst/>
            <a:gdLst>
              <a:gd name="textAreaLeft" fmla="*/ 166680 w 2000160"/>
              <a:gd name="textAreaRight" fmla="*/ 1833480 w 2000160"/>
              <a:gd name="textAreaTop" fmla="*/ 83160 h 1000080"/>
              <a:gd name="textAreaBottom" fmla="*/ 1000440 h 1000080"/>
            </a:gdLst>
            <a:ahLst/>
            <a:rect l="textAreaLeft" t="textAreaTop" r="textAreaRight" b="textAreaBottom"/>
            <a:pathLst>
              <a:path w="2000250" h="1000125">
                <a:moveTo>
                  <a:pt x="0" y="1000125"/>
                </a:moveTo>
                <a:lnTo>
                  <a:pt x="250031" y="0"/>
                </a:lnTo>
                <a:lnTo>
                  <a:pt x="1750219" y="0"/>
                </a:lnTo>
                <a:lnTo>
                  <a:pt x="2000250" y="1000125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03" name="Куб 8"/>
          <p:cNvSpPr/>
          <p:nvPr/>
        </p:nvSpPr>
        <p:spPr>
          <a:xfrm>
            <a:off x="6000840" y="1785960"/>
            <a:ext cx="1216080" cy="1216080"/>
          </a:xfrm>
          <a:prstGeom prst="cube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 flipV="1">
            <a:off x="2928960" y="1856880"/>
            <a:ext cx="16430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36892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Состав сло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Шифровальщ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Уголовное дел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акое слово образовано при помощи прист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Домов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Докт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Дошё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Добы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Расшифруй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ашчак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11151240_7"/>
          <p:cNvPicPr/>
          <p:nvPr/>
        </p:nvPicPr>
        <p:blipFill>
          <a:blip r:embed="rId1"/>
          <a:stretch/>
        </p:blipFill>
        <p:spPr>
          <a:xfrm>
            <a:off x="4427640" y="18446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аким прибором измеряются угл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Линей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Угольник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Транспортир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5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6892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57132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Загад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еометр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да - лож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7"/>
          <p:cNvSpPr/>
          <p:nvPr/>
        </p:nvSpPr>
        <p:spPr>
          <a:xfrm>
            <a:off x="357120" y="12682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В шубе летом, а зимой — раздетый. </a:t>
            </a: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14240" y="43671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Tahoma"/>
              </a:rPr>
              <a:t>Лес</a:t>
            </a: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</p:txBody>
      </p:sp>
      <p:pic>
        <p:nvPicPr>
          <p:cNvPr id="120" name="Picture 9" descr="67672a66d72c"/>
          <p:cNvPicPr/>
          <p:nvPr/>
        </p:nvPicPr>
        <p:blipFill>
          <a:blip r:embed="rId1"/>
          <a:stretch/>
        </p:blipFill>
        <p:spPr>
          <a:xfrm>
            <a:off x="2571840" y="1857240"/>
            <a:ext cx="6265800" cy="4681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1311120" y="90360"/>
            <a:ext cx="606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Tahoma"/>
              </a:rPr>
              <a:t>Загадка</a:t>
            </a:r>
            <a:endParaRPr b="1" lang="en-US" sz="44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Как найти центр круг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2714760" y="2214720"/>
            <a:ext cx="3500280" cy="35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25" name="Овал 5"/>
          <p:cNvSpPr/>
          <p:nvPr/>
        </p:nvSpPr>
        <p:spPr>
          <a:xfrm>
            <a:off x="2786040" y="2214720"/>
            <a:ext cx="3429000" cy="3429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solidFill>
            <a:srgbClr val="ffffd9"/>
          </a:solidFill>
          <a:ln w="38160">
            <a:solidFill>
              <a:srgbClr val="3366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8000" spc="-1" strike="noStrike">
                <a:solidFill>
                  <a:srgbClr val="4d4d4d"/>
                </a:solidFill>
                <a:latin typeface="Tahoma"/>
              </a:rPr>
              <a:t>Пролог</a:t>
            </a:r>
            <a:br>
              <a:rPr sz="8000"/>
            </a:br>
            <a:r>
              <a:rPr b="1" lang="ru-RU" sz="8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ru-RU" sz="8000" spc="-1" strike="noStrike">
                <a:solidFill>
                  <a:srgbClr val="ff0066"/>
                </a:solidFill>
                <a:latin typeface="Tahoma"/>
              </a:rPr>
              <a:t>Зачем мне нужны знания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3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равда ли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уществительные винительного падежа в предложении являются подлежащ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Лож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36892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57132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Части ре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Ребу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Задач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обозначает гла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едме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изна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Действ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ребус"/>
          <p:cNvPicPr/>
          <p:nvPr/>
        </p:nvPicPr>
        <p:blipFill>
          <a:blip r:embed="rId1"/>
          <a:stretch/>
        </p:blipFill>
        <p:spPr>
          <a:xfrm>
            <a:off x="250920" y="765000"/>
            <a:ext cx="8893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0066"/>
                </a:solidFill>
                <a:latin typeface="Tahoma"/>
              </a:rPr>
              <a:t>Росло две сосны. На каждой сосне — по пять веток, на каждой ветке — по три груши. Сколько всего груш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Tahoma"/>
              </a:rPr>
              <a:t>(На соснах груши не растут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inEmblema"/>
          <p:cNvPicPr/>
          <p:nvPr/>
        </p:nvPicPr>
        <p:blipFill>
          <a:blip r:embed="rId2"/>
          <a:stretch/>
        </p:blipFill>
        <p:spPr>
          <a:xfrm>
            <a:off x="1187280" y="1557360"/>
            <a:ext cx="633744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6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Рассужда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Состав сло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еометр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ое слово состоит из приставки, корня, суффикса и оконч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Покуп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Каранда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Весел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Позол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9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9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7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Он давно знакомый мой,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аждый угол в нём прямой,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А четыре стороны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о все стороны рав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500280"/>
            <a:ext cx="8229600" cy="26258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3429000" y="3643200"/>
            <a:ext cx="2571840" cy="2500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Задач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Узнай геро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Лишне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Tahoma"/>
              </a:rPr>
              <a:t>ПРИМЕ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На красной дорожке нельзя ошибаться ни раз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Tahoma"/>
              </a:rPr>
              <a:t>На желтой дорожке можно ошибаться один р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На зеленой дорожке можно ошибаться два раза</a:t>
            </a: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На столе стояло три стакана с вишнями. Костя съел один стакан вишен. Сколько стаканов осталос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                     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(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92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6" dur="192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8" dur="192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0" dur="192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Назови гер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zolushka_on-mult"/>
          <p:cNvPicPr/>
          <p:nvPr/>
        </p:nvPicPr>
        <p:blipFill>
          <a:blip r:embed="rId1"/>
          <a:stretch/>
        </p:blipFill>
        <p:spPr>
          <a:xfrm>
            <a:off x="2124000" y="836640"/>
            <a:ext cx="4680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Какое число лишн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Tahoma"/>
              </a:rPr>
              <a:t>9 7 4  1 3 5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авда - лож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Части ре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Стих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Правда ли ч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се данные слова пишутся с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на ко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Мя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ож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83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акой падеж употребляется только с предлог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Роди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Дательны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Предлож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Твори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9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2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Ребу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Уголовное дел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Шифровальщ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102"/>
          <p:cNvPicPr/>
          <p:nvPr/>
        </p:nvPicPr>
        <p:blipFill>
          <a:blip r:embed="rId1"/>
          <a:stretch/>
        </p:blipFill>
        <p:spPr>
          <a:xfrm>
            <a:off x="0" y="1484280"/>
            <a:ext cx="8893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Величина тупого угла ра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28760" y="157176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8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9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18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6"/>
          <p:cNvSpPr/>
          <p:nvPr/>
        </p:nvSpPr>
        <p:spPr>
          <a:xfrm>
            <a:off x="2000160" y="2928960"/>
            <a:ext cx="357120" cy="3571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65" name="Овал 7"/>
          <p:cNvSpPr/>
          <p:nvPr/>
        </p:nvSpPr>
        <p:spPr>
          <a:xfrm>
            <a:off x="2500200" y="4286160"/>
            <a:ext cx="357480" cy="3571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66" name="Овал 8"/>
          <p:cNvSpPr/>
          <p:nvPr/>
        </p:nvSpPr>
        <p:spPr>
          <a:xfrm>
            <a:off x="2000160" y="1643040"/>
            <a:ext cx="357120" cy="3571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сшифруй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1549440" y="1600200"/>
            <a:ext cx="60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двеемь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медвед clipart"/>
          <p:cNvPicPr/>
          <p:nvPr/>
        </p:nvPicPr>
        <p:blipFill>
          <a:blip r:embed="rId1"/>
          <a:stretch/>
        </p:blipFill>
        <p:spPr>
          <a:xfrm>
            <a:off x="4643280" y="1916280"/>
            <a:ext cx="4249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420840" y="42840"/>
            <a:ext cx="8242200" cy="140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картинка"/>
          <p:cNvPicPr/>
          <p:nvPr/>
        </p:nvPicPr>
        <p:blipFill>
          <a:blip r:embed="rId2"/>
          <a:stretch/>
        </p:blipFill>
        <p:spPr>
          <a:xfrm>
            <a:off x="250920" y="1413000"/>
            <a:ext cx="863748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рямоугольник 6" descr=""/>
          <p:cNvPicPr/>
          <p:nvPr/>
        </p:nvPicPr>
        <p:blipFill>
          <a:blip r:embed="rId1"/>
          <a:stretch/>
        </p:blipFill>
        <p:spPr>
          <a:xfrm>
            <a:off x="2425680" y="103320"/>
            <a:ext cx="4292640" cy="113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ум"/>
          <p:cNvPicPr/>
          <p:nvPr/>
        </p:nvPicPr>
        <p:blipFill>
          <a:blip r:embed="rId2"/>
          <a:stretch/>
        </p:blipFill>
        <p:spPr>
          <a:xfrm>
            <a:off x="2124000" y="1484280"/>
            <a:ext cx="48484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908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Наоборо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Следующе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Лишне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57120" y="200016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66"/>
                </a:solidFill>
                <a:latin typeface="Arial"/>
              </a:rPr>
              <a:t>Высокий -                    Вперед -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66"/>
                </a:solidFill>
                <a:latin typeface="Arial"/>
              </a:rPr>
              <a:t>Длинный -                   Влево -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66"/>
                </a:solidFill>
                <a:latin typeface="Arial"/>
              </a:rPr>
              <a:t>Большой -                   Вниз -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66"/>
                </a:solidFill>
                <a:latin typeface="Arial"/>
              </a:rPr>
              <a:t>Широкий -                   Под -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66"/>
                </a:solidFill>
                <a:latin typeface="Arial"/>
              </a:rPr>
              <a:t>Тупой -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0_19579_1f5f4f3e_L"/>
          <p:cNvPicPr/>
          <p:nvPr/>
        </p:nvPicPr>
        <p:blipFill>
          <a:blip r:embed="rId1"/>
          <a:stretch/>
        </p:blipFill>
        <p:spPr>
          <a:xfrm>
            <a:off x="3780000" y="5877000"/>
            <a:ext cx="1028520" cy="581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197000" y="235080"/>
            <a:ext cx="726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Tahoma"/>
              </a:rPr>
              <a:t>Игра «Скажи наоборот»</a:t>
            </a:r>
            <a:endParaRPr b="1" lang="en-US" sz="44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Назови следующе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1,3,6,10,15,… 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8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0.27136 -0.21945 E">
                                      <p:cBhvr>
                                        <p:cTn id="95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акой круг лиш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4"/>
          <p:cNvSpPr/>
          <p:nvPr/>
        </p:nvSpPr>
        <p:spPr>
          <a:xfrm>
            <a:off x="3857760" y="2357280"/>
            <a:ext cx="914400" cy="9144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21</a:t>
            </a:r>
            <a:endParaRPr b="1" lang="en-US" sz="40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83" name="Овал 5"/>
          <p:cNvSpPr/>
          <p:nvPr/>
        </p:nvSpPr>
        <p:spPr>
          <a:xfrm>
            <a:off x="2714760" y="4286160"/>
            <a:ext cx="914400" cy="914400"/>
          </a:xfrm>
          <a:prstGeom prst="ellipse">
            <a:avLst/>
          </a:prstGeom>
          <a:solidFill>
            <a:srgbClr val="f0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35</a:t>
            </a:r>
            <a:endParaRPr b="1" lang="en-US" sz="40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84" name="Овал 6"/>
          <p:cNvSpPr/>
          <p:nvPr/>
        </p:nvSpPr>
        <p:spPr>
          <a:xfrm>
            <a:off x="6786720" y="2357280"/>
            <a:ext cx="914400" cy="9144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24</a:t>
            </a:r>
            <a:endParaRPr b="1" lang="en-US" sz="40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85" name="Овал 7"/>
          <p:cNvSpPr/>
          <p:nvPr/>
        </p:nvSpPr>
        <p:spPr>
          <a:xfrm>
            <a:off x="5572080" y="4214880"/>
            <a:ext cx="914400" cy="914400"/>
          </a:xfrm>
          <a:prstGeom prst="ellipse">
            <a:avLst/>
          </a:prstGeom>
          <a:solidFill>
            <a:srgbClr val="ada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63</a:t>
            </a:r>
            <a:endParaRPr b="1" lang="en-US" sz="40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1214280" y="2357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14</a:t>
            </a:r>
            <a:endParaRPr b="1" lang="en-US" sz="40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Задач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Ребу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Узнай геро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ahoma"/>
              </a:rPr>
              <a:t>У Марины было целое яблоко, две половинки и четыре четвертинки. Сколько у неё было ябло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ahoma"/>
              </a:rPr>
              <a:t>(3 яблок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4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4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1280081300_1"/>
          <p:cNvPicPr/>
          <p:nvPr/>
        </p:nvPicPr>
        <p:blipFill>
          <a:blip r:embed="rId1"/>
          <a:stretch/>
        </p:blipFill>
        <p:spPr>
          <a:xfrm>
            <a:off x="468360" y="1052640"/>
            <a:ext cx="8234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8" descr="tom_sawyer"/>
          <p:cNvPicPr/>
          <p:nvPr/>
        </p:nvPicPr>
        <p:blipFill>
          <a:blip r:embed="rId1"/>
          <a:stretch/>
        </p:blipFill>
        <p:spPr>
          <a:xfrm>
            <a:off x="1258920" y="260280"/>
            <a:ext cx="66895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Загад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Ошиб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Состав сло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Orator Std"/>
              </a:rPr>
              <a:t>Разде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Задач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Рассужда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Части ре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592200" y="836640"/>
            <a:ext cx="63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Кто ходит ночь и ходит день,</a:t>
            </a: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не зная, что такое лень? </a:t>
            </a: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692360" y="3860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Часы</a:t>
            </a:r>
            <a:endParaRPr b="1" lang="en-US" sz="3600" spc="-1" strike="noStrike">
              <a:solidFill>
                <a:srgbClr val="003399"/>
              </a:solidFill>
              <a:latin typeface="Orator Std"/>
            </a:endParaRPr>
          </a:p>
        </p:txBody>
      </p:sp>
      <p:pic>
        <p:nvPicPr>
          <p:cNvPr id="198" name="Picture 12" descr="Рисунок2"/>
          <p:cNvPicPr/>
          <p:nvPr/>
        </p:nvPicPr>
        <p:blipFill>
          <a:blip r:embed="rId1"/>
          <a:stretch/>
        </p:blipFill>
        <p:spPr>
          <a:xfrm>
            <a:off x="4716360" y="2689200"/>
            <a:ext cx="4129200" cy="4168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3"/>
          <p:cNvSpPr/>
          <p:nvPr/>
        </p:nvSpPr>
        <p:spPr>
          <a:xfrm>
            <a:off x="2247840" y="0"/>
            <a:ext cx="42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Tahoma"/>
              </a:rPr>
              <a:t>Загадка</a:t>
            </a:r>
            <a:endParaRPr b="1" lang="en-US" sz="44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"/>
              </a:rPr>
              <a:t>Найди ошиб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Девочка смотрела на меня большими, но грустные глазами.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Arial"/>
              </a:rPr>
              <a:t>Какое слово </a:t>
            </a:r>
            <a:r>
              <a:rPr b="1" lang="ru-RU" sz="4000" spc="-1" strike="noStrike">
                <a:solidFill>
                  <a:srgbClr val="3366cc"/>
                </a:solidFill>
                <a:latin typeface="Arial"/>
              </a:rPr>
              <a:t>не</a:t>
            </a:r>
            <a:r>
              <a:rPr b="0" lang="ru-RU" sz="4000" spc="-1" strike="noStrike">
                <a:solidFill>
                  <a:srgbClr val="3366cc"/>
                </a:solidFill>
                <a:latin typeface="Arial"/>
              </a:rPr>
              <a:t> является однокорен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Рисунок, рисовать, рисовая (каш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 Водитель, вода, вод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. Запах, пахать, паха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Orator Std"/>
              </a:rPr>
              <a:t>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еометр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ос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едлож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колько треугольни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2071800" y="2143080"/>
            <a:ext cx="5357880" cy="32148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209" name="Прямая соединительная линия 5"/>
          <p:cNvSpPr/>
          <p:nvPr/>
        </p:nvSpPr>
        <p:spPr>
          <a:xfrm>
            <a:off x="2143080" y="2214720"/>
            <a:ext cx="5286600" cy="31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210" name="Прямая соединительная линия 7"/>
          <p:cNvSpPr/>
          <p:nvPr/>
        </p:nvSpPr>
        <p:spPr>
          <a:xfrm flipH="1">
            <a:off x="2071800" y="2143080"/>
            <a:ext cx="5286240" cy="32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360" y="549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Как называется предложение, в котором нет второстепенных членов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Нераспространё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"/>
              </a:rPr>
              <a:t>Назови го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000010"/>
          <p:cNvPicPr/>
          <p:nvPr/>
        </p:nvPicPr>
        <p:blipFill>
          <a:blip r:embed="rId1"/>
          <a:stretch/>
        </p:blipFill>
        <p:spPr>
          <a:xfrm>
            <a:off x="1835280" y="836640"/>
            <a:ext cx="499104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1" descr=""/>
          <p:cNvPicPr/>
          <p:nvPr/>
        </p:nvPicPr>
        <p:blipFill>
          <a:blip r:embed="rId1"/>
          <a:stretch/>
        </p:blipFill>
        <p:spPr>
          <a:xfrm>
            <a:off x="811080" y="628560"/>
            <a:ext cx="6851880" cy="2932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3214800" y="3714840"/>
            <a:ext cx="25714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Грани кубика покрашены в разный цвет. Сколько цветов краски потребовалось для покраски кубик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(6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Назови 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Эта часть речи, обозначает признак предмета и отвечает на вопросы какой?, какая?, как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3399"/>
              </a:solidFill>
              <a:latin typeface="Orator St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ти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Шифровальщ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Ребу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2876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Orator Std"/>
              </a:rPr>
              <a:t>Разделы</a:t>
            </a:r>
            <a:endParaRPr b="1" lang="en-US" sz="4800" spc="-1" strike="noStrike">
              <a:solidFill>
                <a:srgbClr val="003399"/>
              </a:solidFill>
              <a:latin typeface="Orator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59:18Z</dcterms:created>
  <dc:creator>Yuya</dc:creator>
  <dc:description/>
  <dc:language>en-US</dc:language>
  <cp:lastModifiedBy>Пользователь Windows</cp:lastModifiedBy>
  <dcterms:modified xsi:type="dcterms:W3CDTF">2013-10-15T14:41:54Z</dcterms:modified>
  <cp:revision>280</cp:revision>
  <dc:subject/>
  <dc:title> Математическая игра</dc:title>
</cp:coreProperties>
</file>