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4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E85FE-ABC4-4DAE-9142-F8F45F44D27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52ADF-3AED-46A2-A0DF-A48B5EA8C35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4FF91-4E5E-489D-AEB7-59A0E8827F6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4301C-667C-4E18-9281-5B8D47855FF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2C733-4ADB-4FF8-B11E-B14BB8C5737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3B9E6-FDB5-4049-872B-FAC5AE36F17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63A7C-484B-4F67-85C8-51E4EFE15CE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B803-BEAB-4F5C-BD3D-F5EED0173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5CFD-64D4-4DFD-A318-6C576AFB7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10B5-60A2-4D26-88D4-A788962EF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17D1-1D51-4EF0-A026-0C2E9D0D2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2C9D8-EEC8-4079-9BFB-AE0DF659A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8075D-93CE-4D21-BC3F-962ECC2D3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876C7-CC55-45B9-8BA2-1FAB839B7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5F4A7-397B-4E75-9AE0-0C34A3B46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CA26A-692C-413E-8E4E-84E4B5EE3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B319E-2F80-4328-BD87-CF94D717D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61C33-CB7D-4328-9A8A-C3FE06472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0073-65F3-4CF9-835C-C2898AA3F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59AFB-3636-47A7-88D2-9D09B7EC5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42301-FAC1-4A20-95E6-0C954D707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C90AB-8B4B-487B-8E60-6E25AA295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E33A7-8CAA-4E32-801E-8781AF6A8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A1EE7-8C8F-45F1-8D64-C9B583693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D20A47-A8C8-484E-A15F-6F466BD5A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790497-29D4-4D04-B273-BEE358BAB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9B11CE-0ABE-4734-B0F1-C98D622F1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0A6FB6-195B-4DE7-9E23-072A6B745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FE1EA2-0BC4-4BA6-85FD-9FEA9393D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7B06-6832-42A5-A8E9-A5433B9D0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4C0091-5934-4A82-BBFE-D9E6466A3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BD844C-5A68-499A-BD0B-46A3D3ECE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CCA442-07D7-4EA8-B14E-B8AF83502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02D208-5DA8-4046-BCBB-2FA87E765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698D4D-6208-49B3-BF93-F7239CD1F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1851E2-4912-46D5-845B-034B19BDC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F0C08E-EDD3-4192-8028-E458D38D7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0D137B-5B99-4F81-A3C7-F6AC0E287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75654D-DBAA-4F74-A3ED-85B6D5331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2DA280-39B4-4F6C-B9FE-6437C0398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B5D2-B82B-4176-BEB8-06B8192D5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4F07F9-C7C0-43D3-A48A-5185A7EB0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96F4A2-33B5-476F-B7E1-8E660533A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C2C9E4-4728-4F53-BCE7-421D6B766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875746-AE73-401D-85AA-099DD0E1F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895C72-E2C9-4789-AFD9-D89FDE65D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76B094-B99D-4ADE-AF9D-8340DD8AD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23A85E-6740-4884-AA2F-750B0C94E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36C4AC-E991-47A2-B527-32070B52C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AB3A0B-EA42-4F14-ABCC-24FBB3805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92AE77-DD91-46E2-AF8D-FDF6CBC3D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F6C8-CBED-45DD-B46D-72DD602A9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AE3EB3-CF98-49D3-BFFA-35C489500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6C543C-3A28-4A50-BD75-C22FCA9C2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40B080-6241-4E79-A79A-1796ABE25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256F82-D6BA-4BE3-B7FF-DC715DFA2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E23B5B-F5D1-4BEE-808F-CDBD1238E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1A3413-9C5C-4A97-A773-6A6BBEC9F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F5239A-5567-44BA-9451-83C6B4BC5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1DB02C-F245-450D-8891-D12734F85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E10F1F-4C5B-43B7-B62F-BD323E72C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912349-3496-48BB-97BC-1B5B854A5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D114-01CB-4620-8D75-720FA911B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FD58A3-BDEF-49B7-B877-E913CCA87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3C76-F45B-49C2-9362-1B43C6EB4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9AAC-884F-49E9-8BDA-10145E79C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C7C7-2960-4312-9C0B-EC4CFF0E1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F6BE9-20BA-4806-9C3E-39F964788E32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1F250-02B7-48A0-9C1A-ACC274DD3E12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FBF2F-3455-4F6C-9EDD-0802C0858CE8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28A55-1970-42E9-83DD-AD866EC94164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16934-F3EB-46B4-8A2E-29F3B1B267E8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kinopoisk.ru/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22160" y="1214280"/>
            <a:ext cx="7772400" cy="1571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Verdana"/>
              </a:rPr>
              <a:t>Уроки доброты</a:t>
            </a:r>
            <a:br>
              <a:rPr sz="3600"/>
            </a:br>
            <a:r>
              <a:rPr b="1" i="1" lang="ru-RU" sz="3600" spc="-1" strike="noStrike">
                <a:solidFill>
                  <a:srgbClr val="002060"/>
                </a:solidFill>
                <a:latin typeface="Verdana"/>
              </a:rPr>
              <a:t> в рассказе В.Г.Распутина </a:t>
            </a:r>
            <a:br>
              <a:rPr sz="3600"/>
            </a:br>
            <a:r>
              <a:rPr b="1" i="1" lang="ru-RU" sz="3600" spc="-1" strike="noStrike">
                <a:solidFill>
                  <a:srgbClr val="002060"/>
                </a:solidFill>
                <a:latin typeface="Verdana"/>
              </a:rPr>
              <a:t>«Уроки французского»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722160" y="4285800"/>
            <a:ext cx="7772400" cy="135756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Гимадеева Ляля Мунировна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читель русского языка и литературы,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г.Нижнекамск МБОУ «СОШ № 6»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еспублика Татарстан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4357440" y="529920"/>
            <a:ext cx="4329000" cy="50418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Как меняется интонация учительницы и настроение мальчика во время  разговора после уроков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очему Лидия Михайловна заставила героя заниматься дополнительно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Какие чувства испытывает герой в квартире  учительницы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акие черты характера проявляет герой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0" name="Picture 3" descr="rus07-118"/>
          <p:cNvPicPr/>
          <p:nvPr/>
        </p:nvPicPr>
        <p:blipFill>
          <a:blip r:embed="rId1"/>
          <a:stretch/>
        </p:blipFill>
        <p:spPr>
          <a:xfrm>
            <a:off x="714240" y="714240"/>
            <a:ext cx="3286440" cy="43578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251" name="Прямоугольник 5"/>
          <p:cNvSpPr/>
          <p:nvPr/>
        </p:nvSpPr>
        <p:spPr>
          <a:xfrm>
            <a:off x="642960" y="5357880"/>
            <a:ext cx="507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альдяев В.И. Иллюстрация к рассказу В.Г.Распутина "Уроки французского" (198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50688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удожник Б. Алимов. Иллюстрация к рассказу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 Распутина «Уроки французского». 1988 г.</a:t>
            </a:r>
            <a:endParaRPr b="1" lang="en-US" sz="1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756320" y="529920"/>
            <a:ext cx="3930480" cy="43894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ему Лидия Михайловна решилась на игру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«замеряшки»  со своим учеником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4" name="Picture 5" descr=""/>
          <p:cNvPicPr/>
          <p:nvPr/>
        </p:nvPicPr>
        <p:blipFill>
          <a:blip r:embed="rId1"/>
          <a:stretch/>
        </p:blipFill>
        <p:spPr>
          <a:xfrm>
            <a:off x="1000080" y="642960"/>
            <a:ext cx="3111480" cy="41799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4" descr="urf11"/>
          <p:cNvPicPr/>
          <p:nvPr/>
        </p:nvPicPr>
        <p:blipFill>
          <a:blip r:embed="rId1"/>
          <a:stretch/>
        </p:blipFill>
        <p:spPr>
          <a:xfrm>
            <a:off x="2428920" y="357120"/>
            <a:ext cx="4071960" cy="3054240"/>
          </a:xfrm>
          <a:prstGeom prst="rect">
            <a:avLst/>
          </a:prstGeom>
          <a:ln w="0">
            <a:noFill/>
          </a:ln>
        </p:spPr>
      </p:pic>
      <p:sp>
        <p:nvSpPr>
          <p:cNvPr id="256" name="Прямоугольник 5"/>
          <p:cNvSpPr/>
          <p:nvPr/>
        </p:nvSpPr>
        <p:spPr>
          <a:xfrm>
            <a:off x="357120" y="3500280"/>
            <a:ext cx="84297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Лидия Михайловна открыла мальчику новый мир, показала «другую жизнь», где люди могут доверять друг другу, поддерживать и помогать, разделять горе, избавлять от одиночества. Мальчик узнал «красные яблоки», о которых и не мечтал никогда. Он  узнал о том, что не одинок, что есть на свете доброта, отзывчивость, любовь. Это и есть истинные духовные цен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20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20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3280" y="4785840"/>
            <a:ext cx="8183520" cy="13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66"/>
                </a:solidFill>
                <a:latin typeface="Verdana"/>
              </a:rPr>
              <a:t>Идея рассказа:</a:t>
            </a:r>
            <a:br>
              <a:rPr sz="2000"/>
            </a:br>
            <a:r>
              <a:rPr b="1" i="1" lang="ru-RU" sz="2000" spc="-1" strike="noStrike">
                <a:solidFill>
                  <a:srgbClr val="006666"/>
                </a:solidFill>
                <a:latin typeface="Verdana"/>
              </a:rPr>
              <a:t>самоотверженная и бескорыстная доброта – вечная человеческая ценность.</a:t>
            </a:r>
            <a:br>
              <a:rPr sz="3200"/>
            </a:br>
            <a:endParaRPr b="1" lang="en-US" sz="2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428720" y="529920"/>
            <a:ext cx="4257720" cy="43894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f2936"/>
                </a:solidFill>
                <a:latin typeface="Times New Roman"/>
                <a:ea typeface="Times New Roman"/>
              </a:rPr>
              <a:t>       </a:t>
            </a:r>
            <a:r>
              <a:rPr b="1" i="1" lang="ru-RU" sz="2800" spc="-1" strike="noStrike">
                <a:solidFill>
                  <a:srgbClr val="9f2936"/>
                </a:solidFill>
                <a:latin typeface="Times New Roman"/>
                <a:ea typeface="Times New Roman"/>
              </a:rPr>
              <a:t>«Среди зимы, уже после январских каникул, мне пришла на школу по почте посылка… в ней лежали макароны и три красных яблока… Раньше я видел их только на картинке, но догадался, что это они»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9" name="Picture 5" descr="{92619CE9-FAB5-4DCB-8F76-AE453F99F589}"/>
          <p:cNvPicPr/>
          <p:nvPr/>
        </p:nvPicPr>
        <p:blipFill>
          <a:blip r:embed="rId1"/>
          <a:stretch/>
        </p:blipFill>
        <p:spPr>
          <a:xfrm>
            <a:off x="714240" y="857160"/>
            <a:ext cx="3932280" cy="3681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8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20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20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514440" y="1356840"/>
            <a:ext cx="8058240" cy="17859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Verdana"/>
              </a:rPr>
              <a:t>Домашнее задание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Verdana"/>
              </a:rPr>
              <a:t>написать сочинение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Verdana"/>
              </a:rPr>
              <a:t>«Как я понимаю доброту?»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514440" y="529920"/>
            <a:ext cx="8129520" cy="43894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Список использованной литературы и интернет-ресурсов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В.Г.Распутин «Уроки французского» М, 1978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Н.Н.Коршунова, Е.Ю.Липина Тесты. Литература.5-8 классы. М, Дрофа, 1997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6b9f25"/>
                </a:solidFill>
                <a:uFillTx/>
                <a:latin typeface="Verdana"/>
                <a:hlinkClick r:id="rId1"/>
              </a:rPr>
              <a:t>http://www.kinopoisk.ru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Фильм Е. Ташкова «Уроки французского»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http://school-collection.edu.ru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4071600" y="1499760"/>
            <a:ext cx="4614840" cy="34196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«УРОКИ ФРАНЦУЗСКОГО» - 1973г</a:t>
            </a: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АВТОБИОГРАФИЧЕСКИЙ РАССКАЗ О ТРУДНОСТЯХ ПОСЛЕВОЕННОГО ВРЕМЕН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0" name="Picture 4" descr=""/>
          <p:cNvPicPr/>
          <p:nvPr/>
        </p:nvPicPr>
        <p:blipFill>
          <a:blip r:embed="rId1"/>
          <a:stretch/>
        </p:blipFill>
        <p:spPr>
          <a:xfrm>
            <a:off x="500040" y="714240"/>
            <a:ext cx="3484440" cy="47149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92408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Verdana"/>
              </a:rPr>
              <a:t>Я написал этот рассказ в надежде, что преподанные мне в своё время уроки лягут на душу как маленького,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Verdana"/>
              </a:rPr>
              <a:t>так и взрослого читателя.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32" name="Picture 5" descr=""/>
          <p:cNvPicPr/>
          <p:nvPr/>
        </p:nvPicPr>
        <p:blipFill>
          <a:blip r:embed="rId1"/>
          <a:stretch/>
        </p:blipFill>
        <p:spPr>
          <a:xfrm>
            <a:off x="1928880" y="785880"/>
            <a:ext cx="4643280" cy="30099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3280" y="5214960"/>
            <a:ext cx="818352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Verdana"/>
              </a:rPr>
              <a:t>Лидия Михайловна Молокова -прототип  героини Распутина</a:t>
            </a:r>
            <a:br>
              <a:rPr sz="3200"/>
            </a:b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3857760" y="428760"/>
            <a:ext cx="4829040" cy="42861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"Лидия Михайловна, как и в рассказе, всегда вызывала во мне и удивление, и благоговение..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Она представлялась мне возвышенным, почти неземным существом. Была в нашей учительнице та внутренняя независимость, которая оберегает от ханжества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овсем еще молодая, недавняя студентка, она не думала о том, что воспитывает нас на своем примере, но поступки, которые для нее сами собой разумелись, становились для нас самыми важными уроками. Уроками доброты"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Picture 3" descr="200703150420915"/>
          <p:cNvPicPr/>
          <p:nvPr/>
        </p:nvPicPr>
        <p:blipFill>
          <a:blip r:embed="rId1"/>
          <a:stretch/>
        </p:blipFill>
        <p:spPr>
          <a:xfrm>
            <a:off x="571680" y="571680"/>
            <a:ext cx="2857320" cy="3965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20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20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20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8d3e"/>
                </a:solidFill>
                <a:latin typeface="Verdana"/>
              </a:rPr>
              <a:t>Работа с текстом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4071960" y="571320"/>
            <a:ext cx="4438800" cy="508284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 fontScale="92000"/>
          </a:bodyPr>
          <a:p>
            <a:pPr marL="162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чем говорит название рассказа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62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т чьего лица ведется повествование? Почему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62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 каком времени пишет автор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62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Как жилось в деревне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62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Когда и как началась у героя самостоятельная жизнь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62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Какие испытания ожидали его?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62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Какой эпизод запечатлен на иллюстрации?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62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Каким вы представляете мальчика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62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8" name="Picture 3" descr="rus07-115"/>
          <p:cNvPicPr/>
          <p:nvPr/>
        </p:nvPicPr>
        <p:blipFill>
          <a:blip r:embed="rId1"/>
          <a:stretch/>
        </p:blipFill>
        <p:spPr>
          <a:xfrm>
            <a:off x="785880" y="1071720"/>
            <a:ext cx="3071880" cy="40003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p:transition>
    <p:wipe dir="d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4500360" y="999720"/>
            <a:ext cx="4143240" cy="465444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17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бота с эпизодо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7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7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очему герой рассказа начал играть в «чику»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7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Как относятся к этой игре Вадик и рассказчик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7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очему Вадик и Птаха избили его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7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Найдите слова, передающие его состояние в этот момент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76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0" name="Picture 3" descr="rus07-116"/>
          <p:cNvPicPr/>
          <p:nvPr/>
        </p:nvPicPr>
        <p:blipFill>
          <a:blip r:embed="rId1"/>
          <a:stretch/>
        </p:blipFill>
        <p:spPr>
          <a:xfrm>
            <a:off x="857160" y="928800"/>
            <a:ext cx="3286080" cy="46195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p:transition>
    <p:wipe dir="d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13880" y="533160"/>
            <a:ext cx="779652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649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й представлялась мальчику Лидия Михайловна?</a:t>
            </a:r>
            <a:br>
              <a:rPr sz="2200"/>
            </a:br>
            <a:endParaRPr b="1" lang="en-US" sz="2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642920" y="1447560"/>
            <a:ext cx="3867480" cy="42066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 fontScale="99000"/>
          </a:bodyPr>
          <a:p>
            <a:pPr marL="17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«Кажется, до того я не подозревал, что и Лидия Михайловна тоже, как все мы, питается самой обыкновенной едой, а не какой-нибудь манной небесной, - насколько она представлялась мне человеком необыкновенным, не похожим на всех остальных»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17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17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«Она сидела передо мной аккуратная вся, умная и красивая, красивая и в одежде, и в своей женской молодой поре, которую я смутно чувствовал, до меня доходил запах духов от нее, который я принимал за само дыхание…»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17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17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3" name="Picture 4" descr="fmt_53_uroki_franzuskogo_avi_image4_png"/>
          <p:cNvPicPr/>
          <p:nvPr/>
        </p:nvPicPr>
        <p:blipFill>
          <a:blip r:embed="rId1"/>
          <a:stretch/>
        </p:blipFill>
        <p:spPr>
          <a:xfrm>
            <a:off x="428760" y="1500120"/>
            <a:ext cx="4000320" cy="3000600"/>
          </a:xfrm>
          <a:prstGeom prst="rect">
            <a:avLst/>
          </a:prstGeom>
          <a:ln w="0">
            <a:noFill/>
          </a:ln>
        </p:spPr>
      </p:pic>
      <p:sp>
        <p:nvSpPr>
          <p:cNvPr id="244" name="Прямоугольник 5"/>
          <p:cNvSpPr/>
          <p:nvPr/>
        </p:nvSpPr>
        <p:spPr>
          <a:xfrm>
            <a:off x="428760" y="485784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идия Михайловна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 актриса Т. Ташкова)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др  из  фильма Е.Ташк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20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20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214280" y="533520"/>
            <a:ext cx="7296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Какой приём применяет автор в описании  учительницы?</a:t>
            </a:r>
            <a:br>
              <a:rPr sz="2000"/>
            </a:br>
            <a:endParaRPr b="1" lang="en-US" sz="2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00360" y="1447560"/>
            <a:ext cx="4010040" cy="42066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17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Антитезой описания учительницы является описание самого геро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7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7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«… перед ней крючился на парте тощий диковатый мальчишка с разбитым лицом, неопрятный без матери и одинокий, в старом, застиранном пиджачке на обвислых плечах… в перешитых из отцовских галифе… марких светло-зеленых штанах…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7" name="Picture 4" descr="04"/>
          <p:cNvPicPr/>
          <p:nvPr/>
        </p:nvPicPr>
        <p:blipFill>
          <a:blip r:embed="rId1"/>
          <a:stretch/>
        </p:blipFill>
        <p:spPr>
          <a:xfrm>
            <a:off x="500040" y="1285920"/>
            <a:ext cx="3929040" cy="2946240"/>
          </a:xfrm>
          <a:prstGeom prst="rect">
            <a:avLst/>
          </a:prstGeom>
          <a:ln w="0">
            <a:noFill/>
          </a:ln>
        </p:spPr>
      </p:pic>
      <p:sp>
        <p:nvSpPr>
          <p:cNvPr id="248" name="Прямоугольник 5"/>
          <p:cNvSpPr/>
          <p:nvPr/>
        </p:nvSpPr>
        <p:spPr>
          <a:xfrm>
            <a:off x="500040" y="4786200"/>
            <a:ext cx="3714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лавный   герой   рассказа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 Михаил  Егоров)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др  из  фильма Е. Ташк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20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20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20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20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3T16:54:09Z</dcterms:created>
  <dc:creator>Домашний компьтер</dc:creator>
  <dc:description/>
  <dc:language>en-US</dc:language>
  <cp:lastModifiedBy>Лиля</cp:lastModifiedBy>
  <dcterms:modified xsi:type="dcterms:W3CDTF">2012-04-03T11:01:30Z</dcterms:modified>
  <cp:revision>34</cp:revision>
  <dc:subject/>
  <dc:title>Уроки доброты в рассказе В.Г.Распутина  «Уроки французского»</dc:title>
</cp:coreProperties>
</file>