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903-996A-4892-ABF2-E717B736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CBD3-735B-488C-8B4E-DDDD37DB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DEA-4B7C-4175-93F8-8523D4F0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E26-7FEA-4450-9423-C85213BF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4EB-B5B5-407F-A8DB-C0700F7C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49C-F3D2-4C40-AAB4-653BC3FE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33F-2622-4CB0-8195-6062E5B6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140-931D-4A81-AC15-C79714BC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583-2A79-474D-BBEE-EBD3A067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448-8D6C-4EA9-B476-EF1BC818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103-F5EB-4966-A2F3-26C52B2A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FD5-002B-4843-BD12-6121257B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291A-5876-447D-B4CC-BD8D467A9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зникновение государства у восточных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итайте фрагмент из «Повести временных лет» и ответьте на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В год 6370 (862) изгнали варяг за море, и не дали им дани, и начали сами собой владеть. И не было среди них правды, и встал род на род, и была среди них усобица, и стали воевать сами с собой. И сказали себе: «Поищем себе князя, который бы владел нами и судил по праву». И пошли за море к варягам, к руси. Те варяги назывались русью подобно тому, как другие называются шведы, а иные норманны и англы, а еще иные готландцы. — вот итак и эти прозывались. Сказали руси чудь, славяне, кривичи и весь: «Земля наша велика и обильна, а порядка в ней нет. Приходите княжить и владеть нами». И вызвались трое братьев со своими родами, и взяли с собой всю русь, и пришли к славяна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сел старший, Рюрик, в Новгороде, а другой, Синеус, - на Белоозере, а третий, Трувор, — в Изборске. И от тех варяг прозвалась Русская земл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ы считаете, могли ли славяне образовать государство? Опираясь на фрагмент источника, приведите не менее трех аргументов, позволяющих утверждать об э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ая теория в исторической науке использовала этот отрывок «Повести временных лет» для обоснования скандинавского происхождения государственности у восточных славя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в настоящее время «норманнская теория» является несостоятель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кажите, какой племенной союз занимал территор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 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вокруг озера Ильм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   в бассейне  реки Прип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  среднее течение Днеп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  среднее течение Западной Двины при впадении в реку Пол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  по рекам Сож и Сей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   в бассейнах рек Десна, Сейм и С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   верховья Западной Двины и Днеп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   бассейн реки Б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   в лесных чащах междуречьях Оки, Клязьмы и Вол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реками Припять и Западная Дв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оляне                              б) Радимичи                   в) Кривичи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Тиверцы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Уличи                         е) Вяти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) Волыняне                         з) Ильменские слав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) Дрегови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) Древляне                           л) Полочане                   м) Север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кажите, какие племенные союзы и народы относились к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     восточным славян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  соседям восточных славян с запа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соседям восточных славян с восто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соседям восточных славян с сев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едям восточных славян с ю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оляне                             б) Волыняне                    в) Поля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Тиверцы                           д) Хазары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) Вяти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) Весь                      .          з) Ильменские слав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) Дрегови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) Меря                                 л) Полочане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) Северя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) Чехи                                 о) Мордва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) Печене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) Кривичи                           с) Эсты (чудь)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) Мур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) Древляне                        ф) Булгары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) Радими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тветы к тесту №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б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м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в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ж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тветы к тесту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а), б), г), е), з), и), л), м), р), у), 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в), н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к), о), т), ф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ж), с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д), п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91120" y="304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ть из варягов в гр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игия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зычеств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теизм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ги славя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арог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арожич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ун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ждьбог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рил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ес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аргл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кош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р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ыр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регин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ры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flipH="1">
            <a:off x="2971800" y="2286000"/>
            <a:ext cx="32767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III-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первая половина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века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ывание военной демокра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енная демократ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выделение  военной знати,  в её руках  которых сосредотачивается материальные ценности и политическая в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юд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1752480"/>
            <a:ext cx="2362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Н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590920"/>
            <a:ext cx="19047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е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3505320"/>
            <a:ext cx="2057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ж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отро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20574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еменная з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752480"/>
            <a:ext cx="19051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343400"/>
            <a:ext cx="26668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одное опол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066320" y="312408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1240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752120" y="228600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22860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10080" y="22860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2971800"/>
            <a:ext cx="26668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ин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люди, смер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3962520"/>
            <a:ext cx="4876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ои»-общинники, имевшие право участвовать в народном собрании, войс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мужи»-главы патриархальных сем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елядь»-люди, находившие в услужении: «сироты», «холопы»,  «раб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1722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791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енный характер демократии- организация длительных завоевательных походов к берегам Азовского, Черного и Каспийского морей, Кав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посылки объединения славян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торговы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лигиозная общ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ение знати и возникновение нерав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бходимость отпора внешним враг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дение длительных завоевательных по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105520"/>
            <a:ext cx="8686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- возникновение государства у восточных славян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ва центра: Киев и Новгор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ые княз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1476360" cy="180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20040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ю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ряж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2 -87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362320" y="3276720"/>
            <a:ext cx="1218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ле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79-9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114800" y="990720"/>
            <a:ext cx="1450800" cy="1828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114800" y="3276720"/>
            <a:ext cx="1219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о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2 -9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867280" y="990720"/>
            <a:ext cx="1459080" cy="1828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943600" y="3200400"/>
            <a:ext cx="1219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я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5-9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7543800" y="990720"/>
            <a:ext cx="1457280" cy="182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467480" y="320040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ятосл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7-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2286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133720" y="2895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38862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58672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7620120" y="2895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651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5605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733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44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5174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3</cp:lastModifiedBy>
  <dcterms:modified xsi:type="dcterms:W3CDTF">2008-10-08T06:59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