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CB5-98B8-4BC2-8335-BC363406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28C-394D-44B2-8D90-E5AC7B0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4D2-67D9-4873-96BB-181C34FD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3ED-C300-47D9-A451-C3A90FED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659-2EA2-4EB0-972A-3394BE12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875-5D58-4BDC-AD09-9F02A8C0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D7E-32EA-4B26-89C4-86E720D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3BD-C075-4705-82E0-FE05CF7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2E7-18FD-4D40-A8E1-41D3BDB3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05D-FE20-4168-8E49-593692A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7F6-5A06-423D-A986-285C136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816-2A85-4C6E-92C0-3C525A3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5CA-3700-4DB3-B0D2-19B5C64CF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2:09:56Z</dcterms:created>
  <dc:creator>Пользователь</dc:creator>
  <dc:description/>
  <dc:language>en-US</dc:language>
  <cp:lastModifiedBy>Пользователь</cp:lastModifiedBy>
  <dcterms:modified xsi:type="dcterms:W3CDTF">2013-10-16T12:36:28Z</dcterms:modified>
  <cp:revision>2</cp:revision>
  <dc:subject/>
  <dc:title>Slide 1</dc:title>
</cp:coreProperties>
</file>