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ADF-0B5B-4E84-8FAE-0F3E640F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324-0DDB-43A9-AFC9-63F54E03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056-0BEF-4292-AC6F-A86EC677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01D-3A41-427F-ACFB-26CB7163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CDCE-A457-4105-8EB2-AFB3A577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D6C9-89D9-4753-9AC5-F3FB7875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400D-5761-40F2-8573-2CEB1DE0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D8CF-2787-4FC5-8619-471BFB3B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2E87-4365-4518-B4C4-EAE39CC5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2497-BE03-4F17-A74D-BBF2A9FE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1836-EC55-49B9-9FB7-B8907D90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844-3376-4711-8370-4771F9CD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D496-F6CB-4162-97C0-007D73DA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1C46-9908-45F1-ACC2-FFD16A92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B858-09A6-4617-B4A9-74C814E0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5DEB-19B2-4D65-B07C-939722B5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B06B-FE2F-4ED9-9A1F-74F8DD2E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721E-79A0-4F17-B37C-1FC58A0A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55DA-7191-48D4-807D-75DF8258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99516-4FC9-4EC9-982F-34A10131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22ED1-3741-47FC-BCE6-3A8B73F1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8A25-D2DA-4261-8266-2A923748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326-16A7-46BF-9009-6C6ECF82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A31C-3CEE-4367-BB1A-CE8C0042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5163-41A6-45BD-A2C2-FDE1A475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A513-FF56-419F-B80E-F0534985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B7733-41CD-4846-88D9-B0378845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932BC-8C2B-4E17-A3E4-4BCF1E80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087C4-F155-40AB-88B7-43CA30BE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B7C9F-6FAF-43BE-9AFE-32607086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063B-A857-4BFE-B5AD-3DA52CFD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AC354-E0BA-415C-8E8C-4F122398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22687-3982-4E9B-80A5-B32EF2CD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EBF-98B0-49A1-9D41-9A6A7533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F38D3-5EE8-43F7-B35A-B1F86A0A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AA820-6BD2-4EAB-87C8-CCF6C9FA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975BC-7620-43CD-A9F9-B458A40C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73648-976C-4168-AB23-C144C54E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C702-4A77-444D-9C90-4E31290E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887BC-809F-4AB8-B704-4C35C6D7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14E25-FF6E-4B01-AFEF-D693D64A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0676D-7FB0-41D0-B118-4D5AD42D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D69A6-2797-41D6-98E4-0A79C8F1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60253-4B49-4C2D-8026-5AC07439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DFC-DCC6-4A24-84B0-2484C565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C81E0-D369-4363-9E4C-C42F5371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DFB2F-7955-4BFB-A452-9E869195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94D96-0985-4275-8881-D134C7FE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931A9-68F5-4A30-A0A5-CF3E7742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C225D-CEDA-441D-8D2D-F3FE4B93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7A64F-85FD-4DA9-BFA8-E2E36017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E152D-E167-4854-B64D-1B107705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FF289-8F6B-4826-BDCA-91E202D2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00402-207A-4D55-9B10-017C5E54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65BE3-4D74-4017-916A-4B69C372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318-DF3E-4FB4-A6DB-160ED9BC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C00DC-2240-4FEC-9397-290B3312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A82-62C4-4F94-A260-3900F74C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BA5-8A78-4562-B88E-9DB81591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896-9DED-4AC5-AEE7-1ED5D631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4DAA-5C3C-4B47-833A-5D7B170802A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242C-ED34-4343-A325-13CED94F684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0BE0-08BE-405D-8064-5AF368F9086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058F-DDA0-41E0-A1F7-D1913671BC4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7514-4C93-4C29-802C-19B2C16C44C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3267000" y="530280"/>
            <a:ext cx="56214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549360"/>
            <a:ext cx="72388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Символ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– это наименьшая единица текстовой информации (буква, цифра, знак препинания и т.д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Слов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– последовательность символов, которая ограничена знаками препинания, пробел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Строк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– последовательность символов между левой и правой границами докумен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Абзац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– последовательность символов, ограниченная специальными символами конца абзац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7334280" cy="1236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писные буквы, знаки на клавишах, находящихся под функциональными, и запятая вводятся при нажатой клавише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hif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ежду словами ставится пробе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наки препинания (кроме тире) не отделяются от слова, за которым они следуют, пробелом (слово – знак препинания – пробел – слово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обки и кавычки присоединяются к последующим словам без пробел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ввода текста с новой строки используется клавиша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225360" y="231840"/>
            <a:ext cx="7839000" cy="1236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0200"/>
            <a:ext cx="20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kspa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age U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age Dow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aps Loc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410920" y="1557000"/>
            <a:ext cx="5905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казание конца абзац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даление символа справа от курсор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даление символа слева от курсор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в конец стро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в начало стро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ереключение режима вставки и замены сл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а страницу ввер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а страницу вниз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становление режима прописных бук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еремещение по текст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900000" y="580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H="1">
            <a:off x="1476360" y="580536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V="1">
            <a:off x="2195640" y="551628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2411280" y="551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844640"/>
            <a:ext cx="72388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§ 2.9 стр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88 – 92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Т: №38-43 стр. 7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чебник, стр. 156, задание №7 (сделать записи в рабочей тетради стр. 79 №45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адания №4, №5, №6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5:15:12Z</dcterms:created>
  <dc:creator>ОЛЬГА</dc:creator>
  <dc:description/>
  <dc:language>en-US</dc:language>
  <cp:lastModifiedBy>Comp 00</cp:lastModifiedBy>
  <dcterms:modified xsi:type="dcterms:W3CDTF">2011-02-11T10:49:30Z</dcterms:modified>
  <cp:revision>12</cp:revision>
  <dc:subject/>
  <dc:title>Слайд 1</dc:title>
</cp:coreProperties>
</file>