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C39D4-B29C-4A71-BA55-019440F12E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6EC59-3C3B-4DC3-81B7-A27AACA4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4BCA-8803-4D99-8B02-3E22DD64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FF43-AC30-4AE2-A152-C416052A7F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C9CC8-DB45-474D-B266-63995DED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3DF43-4C96-49CF-ACDD-E9E378F9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01FB2-9190-41E6-8F8E-E38A3320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C8B82-6266-456F-988F-B412BD7B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250CB-6A2F-4AF2-877F-E048D459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C9DE0-6BB7-4D30-9C3F-D31C7990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A9D93-22DF-4454-A185-3557DC8D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E52E-C4EC-497E-96E5-831C9EA8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4DFBD2-12DC-4312-9FEC-000DAE65DD91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-11448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рней Иванович Чуковский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9 марта 1882 - 28 октября 1969</a:t>
            </a:r>
            <a:br>
              <a:rPr sz="4000"/>
            </a:b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Николай Васильевич Корнечу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20680" y="1800360"/>
            <a:ext cx="3017880" cy="4627440"/>
            <a:chOff x="220680" y="1800360"/>
            <a:chExt cx="3017880" cy="46274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20680" y="1800360"/>
              <a:ext cx="301788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20680" y="1800360"/>
              <a:ext cx="3017880" cy="462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3929040" y="30002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00280" y="2428920"/>
            <a:ext cx="4929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Учёный, писатель, переводчик, литературовед, К.Чуковский написал для детей много стихов и ска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28760" y="-842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Корней  Иванович Чуковск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57120" y="1357200"/>
            <a:ext cx="4475160" cy="3355920"/>
            <a:chOff x="357120" y="1357200"/>
            <a:chExt cx="4475160" cy="33559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357120" y="1357200"/>
              <a:ext cx="4475160" cy="33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57120" y="1357200"/>
              <a:ext cx="4475160" cy="33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143680" y="1143000"/>
            <a:ext cx="328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Calibri"/>
              </a:rPr>
              <a:t>Недалеко от Москвы, в посёлке Переделкино, в небольшом доме много лет жил высокий седой человек, которого знали все дети страны. Это он придумал множество сказочных героев: Муху-Цокотуху, Бармалея, Мойдодыра. Звали этого замечательного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Дедушка Кор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В гости дедушка Кор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Приглашает всех дет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Но особенно он 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Пригласить таких реб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Кто умеет слушать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Или любит их 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7120" y="1500120"/>
            <a:ext cx="3416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Корней  Иванович Чуковск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57120" y="2000160"/>
            <a:ext cx="3498840" cy="3855960"/>
            <a:chOff x="357120" y="2000160"/>
            <a:chExt cx="3498840" cy="38559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357120" y="2000160"/>
              <a:ext cx="349884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57120" y="2000160"/>
              <a:ext cx="3498840" cy="38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000680" y="257184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03152"/>
                </a:solidFill>
                <a:latin typeface="Calibri"/>
              </a:rPr>
              <a:t>Посмотрите, какие светлые, большие, наполненные добротой глаза у Корнея Иванови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Загадки К.И.Чуков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425772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асные двери в пещере мо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лые звери сидят у две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мясо, и хлеб – всю добычу мою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 с радостью белым зверям отдаю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9760" y="24289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о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" y="74160"/>
            <a:ext cx="42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57680" y="3429000"/>
            <a:ext cx="271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тет она вниз голово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летом растет, а зим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о солнце ее припечет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лачет она и умр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7840" y="5072040"/>
            <a:ext cx="1143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35720" y="550080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(сосуль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86280" y="2143080"/>
            <a:ext cx="295308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Загадки К.И.Чуков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347184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 великан: вон ту громадную,  Многопудовую пли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овно плитку шоколадну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 поднимаю в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37280" y="285768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( кра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3280" y="1506600"/>
            <a:ext cx="30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одноухая старух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прыгаю про полот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нитку длинную из ух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паутину, я тяну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02400" y="29289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Times New Roman"/>
              </a:rPr>
              <a:t>(игол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28960" y="3940560"/>
            <a:ext cx="2500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Хожу-брожу не по лес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 по усам, по волос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зубы у меня длинн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у волков и медвед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06960" y="54291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(расчёс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Соедините стрелкой правильное соотно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2043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адус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ча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п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еф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0800" y="2357280"/>
            <a:ext cx="2214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91120" y="1643040"/>
            <a:ext cx="32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Федорино гор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51600" y="221472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Телефо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62400" y="2714760"/>
            <a:ext cx="33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Муха-Цокоту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94720" y="3214800"/>
            <a:ext cx="37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Доктор Айбол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29000" y="3786120"/>
            <a:ext cx="36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Краденое солнц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02440" y="4286160"/>
            <a:ext cx="25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Мойдодыр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/>
          <p:nvPr/>
        </p:nvCxnSpPr>
        <p:spPr>
          <a:xfrm>
            <a:off x="2428920" y="1928880"/>
            <a:ext cx="3000960" cy="1715040"/>
          </a:xfrm>
          <a:prstGeom prst="curvedConnector5">
            <a:avLst>
              <a:gd name="adj1" fmla="val 49994"/>
              <a:gd name="adj2" fmla="val 49989"/>
              <a:gd name="adj3" fmla="val 49994"/>
            </a:avLst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5" name=""/>
          <p:cNvCxnSpPr/>
          <p:nvPr/>
        </p:nvCxnSpPr>
        <p:spPr>
          <a:xfrm>
            <a:off x="1999800" y="2428560"/>
            <a:ext cx="3429720" cy="2215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86" name=""/>
          <p:cNvCxnSpPr/>
          <p:nvPr/>
        </p:nvCxnSpPr>
        <p:spPr>
          <a:xfrm>
            <a:off x="1999800" y="2999880"/>
            <a:ext cx="3002760" cy="73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87" name=""/>
          <p:cNvCxnSpPr/>
          <p:nvPr/>
        </p:nvCxnSpPr>
        <p:spPr>
          <a:xfrm flipV="1">
            <a:off x="2142720" y="2642400"/>
            <a:ext cx="3002760" cy="857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88" name=""/>
          <p:cNvCxnSpPr/>
          <p:nvPr/>
        </p:nvCxnSpPr>
        <p:spPr>
          <a:xfrm flipV="1">
            <a:off x="1856880" y="1998360"/>
            <a:ext cx="3359880" cy="200088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93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endCxn id="82" idx="1"/>
          </p:cNvCxnSpPr>
          <p:nvPr/>
        </p:nvCxnSpPr>
        <p:spPr>
          <a:xfrm flipV="1">
            <a:off x="1785600" y="4046040"/>
            <a:ext cx="3444120" cy="45504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57120" y="285840"/>
            <a:ext cx="2379600" cy="2958840"/>
            <a:chOff x="357120" y="285840"/>
            <a:chExt cx="2379600" cy="29588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rcRect l="0" t="0" r="0" b="7503"/>
            <a:stretch/>
          </p:blipFill>
          <p:spPr>
            <a:xfrm>
              <a:off x="357120" y="285840"/>
              <a:ext cx="2379600" cy="2958840"/>
            </a:xfrm>
            <a:prstGeom prst="rect">
              <a:avLst/>
            </a:prstGeom>
            <a:ln w="38160">
              <a:solidFill>
                <a:srgbClr val="254061"/>
              </a:solidFill>
              <a:miter/>
            </a:ln>
          </p:spPr>
        </p:pic>
        <p:sp>
          <p:nvSpPr>
            <p:cNvPr id="93" name=""/>
            <p:cNvSpPr/>
            <p:nvPr/>
          </p:nvSpPr>
          <p:spPr>
            <a:xfrm>
              <a:off x="357120" y="285840"/>
              <a:ext cx="2379600" cy="29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rcRect l="0" t="0" r="0" b="6972"/>
          <a:stretch/>
        </p:blipFill>
        <p:spPr>
          <a:xfrm>
            <a:off x="3214800" y="285840"/>
            <a:ext cx="2357280" cy="298116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215040" y="214200"/>
            <a:ext cx="2286000" cy="302760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rcRect l="0" t="0" r="0" b="4079"/>
          <a:stretch/>
        </p:blipFill>
        <p:spPr>
          <a:xfrm>
            <a:off x="500040" y="3762360"/>
            <a:ext cx="1928880" cy="2809800"/>
          </a:xfrm>
          <a:prstGeom prst="rect">
            <a:avLst/>
          </a:prstGeom>
          <a:ln w="34920">
            <a:solidFill>
              <a:srgbClr val="254061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214800" y="3714840"/>
            <a:ext cx="1901880" cy="2822400"/>
          </a:xfrm>
          <a:prstGeom prst="rect">
            <a:avLst/>
          </a:prstGeom>
          <a:ln w="34920">
            <a:solidFill>
              <a:srgbClr val="254061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6"/>
          <a:srcRect l="3023" t="0" r="0" b="0"/>
          <a:stretch/>
        </p:blipFill>
        <p:spPr>
          <a:xfrm>
            <a:off x="6215040" y="3693960"/>
            <a:ext cx="2000160" cy="285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9T18:19:09Z</dcterms:modified>
  <cp:revision>8</cp:revision>
  <dc:subject/>
  <dc:title>Жизнь и творчество К.И.Чуковского </dc:title>
</cp:coreProperties>
</file>