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869-13C9-45AA-BC77-EC731F43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594-178B-4E72-86DB-E4842E28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DE7-9B82-4A27-841F-9914BE1D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91D-009F-46FF-9B4A-AC4D4523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9B2-4F80-4561-88F1-FA8316E9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29A-3067-49B7-A0AF-8EAC2FFC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302-5803-4F52-89A1-720D10F7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09C-FF80-4777-8468-7211DF80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DEA-C627-4E22-94A2-3A3F9726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869-040A-471C-8FAB-A91B0AC4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506-A3C4-41EE-A6EC-3FA0B8F3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7C4-A914-4A96-B15D-0C300F21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6970-1B3E-44EA-91A1-2F8C80435C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-12600" y="762120"/>
            <a:ext cx="92851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Monotype Corsiva"/>
                <a:ea typeface="Times New Roman"/>
              </a:rPr>
              <a:t>Расшифруй послов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95280" y="1341360"/>
          <a:ext cx="2305080" cy="5327640"/>
        </p:xfrm>
        <a:graphic>
          <a:graphicData uri="http://schemas.openxmlformats.org/drawingml/2006/table">
            <a:tbl>
              <a:tblPr/>
              <a:tblGrid>
                <a:gridCol w="652320"/>
                <a:gridCol w="1065240"/>
                <a:gridCol w="587520"/>
              </a:tblGrid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: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: 8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3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-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2 +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+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4) (-4) +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½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859280" y="1628640"/>
          <a:ext cx="3809880" cy="6699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859280" y="2492280"/>
          <a:ext cx="3809880" cy="6699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859280" y="5805360"/>
          <a:ext cx="3889440" cy="863640"/>
        </p:xfrm>
        <a:graphic>
          <a:graphicData uri="http://schemas.openxmlformats.org/drawingml/2006/table">
            <a:tbl>
              <a:tblPr/>
              <a:tblGrid>
                <a:gridCol w="777960"/>
                <a:gridCol w="777960"/>
                <a:gridCol w="777600"/>
                <a:gridCol w="777960"/>
                <a:gridCol w="777960"/>
              </a:tblGrid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859280" y="4508640"/>
          <a:ext cx="3888000" cy="1095120"/>
        </p:xfrm>
        <a:graphic>
          <a:graphicData uri="http://schemas.openxmlformats.org/drawingml/2006/table">
            <a:tbl>
              <a:tblPr/>
              <a:tblGrid>
                <a:gridCol w="389160"/>
                <a:gridCol w="388800"/>
                <a:gridCol w="388800"/>
                <a:gridCol w="389160"/>
                <a:gridCol w="388800"/>
                <a:gridCol w="387360"/>
                <a:gridCol w="388800"/>
                <a:gridCol w="389160"/>
                <a:gridCol w="388800"/>
                <a:gridCol w="38916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8" name="Object 193"/>
              <p:cNvSpPr txBox="1"/>
              <p:nvPr/>
            </p:nvSpPr>
            <p:spPr>
              <a:xfrm>
                <a:off x="1476360" y="2565360"/>
                <a:ext cx="8892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94"/>
              <p:cNvSpPr txBox="1"/>
              <p:nvPr/>
            </p:nvSpPr>
            <p:spPr>
              <a:xfrm>
                <a:off x="1116000" y="3141720"/>
                <a:ext cx="317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95"/>
              <p:cNvSpPr txBox="1"/>
              <p:nvPr/>
            </p:nvSpPr>
            <p:spPr>
              <a:xfrm>
                <a:off x="1116000" y="3645000"/>
                <a:ext cx="3682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96"/>
              <p:cNvSpPr txBox="1"/>
              <p:nvPr/>
            </p:nvSpPr>
            <p:spPr>
              <a:xfrm>
                <a:off x="1116000" y="4005360"/>
                <a:ext cx="3682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97"/>
              <p:cNvSpPr txBox="1"/>
              <p:nvPr/>
            </p:nvSpPr>
            <p:spPr>
              <a:xfrm>
                <a:off x="1187280" y="5300640"/>
                <a:ext cx="17784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98"/>
              <p:cNvSpPr txBox="1"/>
              <p:nvPr/>
            </p:nvSpPr>
            <p:spPr>
              <a:xfrm>
                <a:off x="1116000" y="587700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Monotype Corsiva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859280" y="1628640"/>
          <a:ext cx="3809880" cy="7923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859280" y="2637000"/>
          <a:ext cx="3809880" cy="7920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859280" y="5661000"/>
          <a:ext cx="3882960" cy="936720"/>
        </p:xfrm>
        <a:graphic>
          <a:graphicData uri="http://schemas.openxmlformats.org/drawingml/2006/table">
            <a:tbl>
              <a:tblPr/>
              <a:tblGrid>
                <a:gridCol w="776520"/>
                <a:gridCol w="776160"/>
                <a:gridCol w="777960"/>
                <a:gridCol w="776160"/>
                <a:gridCol w="77616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59280" y="4292640"/>
          <a:ext cx="3888000" cy="1095480"/>
        </p:xfrm>
        <a:graphic>
          <a:graphicData uri="http://schemas.openxmlformats.org/drawingml/2006/table">
            <a:tbl>
              <a:tblPr/>
              <a:tblGrid>
                <a:gridCol w="389160"/>
                <a:gridCol w="388800"/>
                <a:gridCol w="388800"/>
                <a:gridCol w="389160"/>
                <a:gridCol w="388800"/>
                <a:gridCol w="387360"/>
                <a:gridCol w="388800"/>
                <a:gridCol w="389160"/>
                <a:gridCol w="388800"/>
                <a:gridCol w="38916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Объект 1"/>
          <p:cNvGraphicFramePr/>
          <p:nvPr/>
        </p:nvGraphicFramePr>
        <p:xfrm>
          <a:off x="0" y="1628640"/>
          <a:ext cx="453708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453708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Monotype Corsiva"/>
              </a:rPr>
              <a:t>Практическая работа по теме «Пропорция»: «Приготовление фиточа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05840" cy="5157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арь: весы, разновесы, сухая смесь лекарственных растений, фитосбор, чайная, десертная, столовая ложка сухой смеси, приготовление фиточая, кипяток, температура кипения 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Объект 3" descr=""/>
          <p:cNvPicPr/>
          <p:nvPr/>
        </p:nvPicPr>
        <p:blipFill>
          <a:blip r:embed="rId1"/>
          <a:stretch/>
        </p:blipFill>
        <p:spPr>
          <a:xfrm>
            <a:off x="633240" y="3255840"/>
            <a:ext cx="3957840" cy="3340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3280" y="3284280"/>
            <a:ext cx="3810240" cy="33130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иготовление фиточая на 4 человек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пяток – 1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ята – 1 чайная лож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па - 1 чайная лож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шка - 1 чайная лож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ина - 1 чайная лож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й черный байховый краснодарский - 1 чайная лож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6" descr=""/>
          <p:cNvPicPr/>
          <p:nvPr/>
        </p:nvPicPr>
        <p:blipFill>
          <a:blip r:embed="rId1"/>
          <a:stretch/>
        </p:blipFill>
        <p:spPr>
          <a:xfrm>
            <a:off x="0" y="2813040"/>
            <a:ext cx="4067280" cy="40449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311120"/>
            <a:ext cx="813600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Здоровье – это вершина на которую человек должен подняться сам.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893320" y="333540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И. Брехман – основатель вале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8000" y="1916280"/>
          <a:ext cx="3527280" cy="4825800"/>
        </p:xfrm>
        <a:graphic>
          <a:graphicData uri="http://schemas.openxmlformats.org/drawingml/2006/table">
            <a:tbl>
              <a:tblPr/>
              <a:tblGrid>
                <a:gridCol w="557280"/>
                <a:gridCol w="2286000"/>
                <a:gridCol w="684000"/>
              </a:tblGrid>
              <a:tr h="610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+2,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⅓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: 2 – 6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780000" y="2852640"/>
          <a:ext cx="5364000" cy="1079640"/>
        </p:xfrm>
        <a:graphic>
          <a:graphicData uri="http://schemas.openxmlformats.org/drawingml/2006/table">
            <a:tbl>
              <a:tblPr/>
              <a:tblGrid>
                <a:gridCol w="536400"/>
                <a:gridCol w="536760"/>
                <a:gridCol w="536400"/>
                <a:gridCol w="536400"/>
                <a:gridCol w="536760"/>
                <a:gridCol w="534960"/>
                <a:gridCol w="536760"/>
                <a:gridCol w="536400"/>
                <a:gridCol w="536760"/>
                <a:gridCol w="53640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Математическая размин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-360" y="980640"/>
            <a:ext cx="860436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Реши примеры, отгадай ключевое сл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100"/>
          <p:cNvSpPr/>
          <p:nvPr/>
        </p:nvSpPr>
        <p:spPr>
          <a:xfrm>
            <a:off x="3851280" y="3500280"/>
            <a:ext cx="50418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Проверь себ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780000" y="2708280"/>
          <a:ext cx="5364000" cy="1368360"/>
        </p:xfrm>
        <a:graphic>
          <a:graphicData uri="http://schemas.openxmlformats.org/drawingml/2006/table">
            <a:tbl>
              <a:tblPr/>
              <a:tblGrid>
                <a:gridCol w="536400"/>
                <a:gridCol w="536760"/>
                <a:gridCol w="536400"/>
                <a:gridCol w="536400"/>
                <a:gridCol w="536760"/>
                <a:gridCol w="534960"/>
                <a:gridCol w="536760"/>
                <a:gridCol w="536400"/>
                <a:gridCol w="536760"/>
                <a:gridCol w="5364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0" y="2170080"/>
          <a:ext cx="3564000" cy="4498920"/>
        </p:xfrm>
        <a:graphic>
          <a:graphicData uri="http://schemas.openxmlformats.org/drawingml/2006/table">
            <a:tbl>
              <a:tblPr/>
              <a:tblGrid>
                <a:gridCol w="466560"/>
                <a:gridCol w="2113200"/>
                <a:gridCol w="984240"/>
              </a:tblGrid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+2,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⅓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: 2 – 6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238"/>
          <p:cNvSpPr/>
          <p:nvPr/>
        </p:nvSpPr>
        <p:spPr>
          <a:xfrm>
            <a:off x="3780000" y="342900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       А      Л     Е      О     Л      О      Г      И    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819960" y="4437000"/>
            <a:ext cx="4818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Валеология – это нау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о формировани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сохранении и укрепл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1547640" y="33336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По мнению медиков, 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ереохлаждения, вирусные инфекции и насморк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– основные причины болезни уш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9640" y="2060640"/>
            <a:ext cx="80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 словам Владимира Гауфмана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рача-сурдолога краевого детского диагностического центра, именно частые простуды приводят у детей к 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экссудативному отиту – </a:t>
            </a: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это негнойное заболевание среднего уха, которое со временем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грозит 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потерей слух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2852640"/>
            <a:ext cx="9325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Первые симптомы, которые настораживаю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5095800" y="171360"/>
            <a:ext cx="3670200" cy="2475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"/>
          <p:cNvPicPr/>
          <p:nvPr/>
        </p:nvPicPr>
        <p:blipFill>
          <a:blip r:embed="rId2"/>
          <a:stretch/>
        </p:blipFill>
        <p:spPr>
          <a:xfrm>
            <a:off x="378000" y="171360"/>
            <a:ext cx="3676320" cy="2475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44280" y="3516480"/>
            <a:ext cx="88236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80"/>
                </a:solidFill>
                <a:latin typeface="Calibri"/>
                <a:ea typeface="Times New Roman"/>
              </a:rPr>
              <a:t>ребенок, если вы его зовете часто переспрашивает  и не откликаетс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80"/>
                </a:solidFill>
                <a:latin typeface="Calibri"/>
                <a:ea typeface="Times New Roman"/>
              </a:rPr>
              <a:t>включает на полную громкость телевизор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80"/>
                </a:solidFill>
                <a:latin typeface="Calibri"/>
                <a:ea typeface="Times New Roman"/>
              </a:rPr>
              <a:t>ведет себя слишком шумно или, наоборот, подозрительно тихо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80"/>
                </a:solidFill>
                <a:latin typeface="Calibri"/>
                <a:ea typeface="Times New Roman"/>
              </a:rPr>
              <a:t>появились затруднения в реч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80"/>
                </a:solidFill>
                <a:latin typeface="Calibri"/>
                <a:ea typeface="Times New Roman"/>
              </a:rPr>
              <a:t>стал хуже учиться в школ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80"/>
                </a:solidFill>
                <a:latin typeface="Calibri"/>
                <a:ea typeface="Times New Roman"/>
              </a:rPr>
              <a:t>ребенок жалуется на ощущения давления в ух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520560" y="1077840"/>
            <a:ext cx="8352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 воспринимает в качестве слышимого звука волны с    частотами </a:t>
            </a: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от 16 Гц до 20 кГц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вуковые волны с частотами </a:t>
            </a: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более 20 кГц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ываются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льтразвук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 частотами </a:t>
            </a: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менее 16 Гц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нфразвукам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547640" y="27000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ЗВУКОВЫЕ ВОЛ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>
            <a:off x="539640" y="587844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2627280" y="5589720"/>
            <a:ext cx="0" cy="287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6012000" y="5589720"/>
            <a:ext cx="0" cy="287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508720" y="5950080"/>
            <a:ext cx="10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20 кГ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411280" y="595008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16 Г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7164360" y="5084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187280" y="5084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50920" y="580536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нфразву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516720" y="580536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льтразву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Image225"/>
          <p:cNvPicPr/>
          <p:nvPr/>
        </p:nvPicPr>
        <p:blipFill>
          <a:blip r:embed="rId1"/>
          <a:stretch/>
        </p:blipFill>
        <p:spPr>
          <a:xfrm>
            <a:off x="0" y="0"/>
            <a:ext cx="6659640" cy="2968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0" y="3068640"/>
            <a:ext cx="896472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да наградила летучих мышей способностью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издавать зву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частотой колебаний </a:t>
            </a:r>
            <a:r>
              <a:rPr b="0" lang="ru-RU" sz="2000" spc="-1" strike="noStrike">
                <a:solidFill>
                  <a:srgbClr val="008000"/>
                </a:solidFill>
                <a:latin typeface="Calibri"/>
              </a:rPr>
              <a:t>выше 20000 герц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то есть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ультразвуки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едоступные уху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тучие мыши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издаю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звуки высотой в </a:t>
            </a: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50 000-60 000 Гц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оспринимаю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ЭХО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тим объясняется их способность избегать столкновения с предметами даже при выключенном зрении. У летучих мышей ультразвуки обычно возникают в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гортани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торая по устройству напоминает обычный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свист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ыдыхаемый из легких воздух вихрем проносится через него и с такой силой вырывается наружу,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словно выброшен взрывом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авление проносящегося через гортань воздуха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двое больше, чем в паровом котле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Не глохнут же летучие мыши потому, что у них есть мышцы, закрывающие уши в момент испускания разведывательных ультразву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948360" y="260280"/>
            <a:ext cx="187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тучие мыши  по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ультразвук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рошо ориентируются в темно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9640" y="1773360"/>
            <a:ext cx="7631280" cy="37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Monotype Corsiva"/>
              </a:rPr>
              <a:t>Никто его не видывал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Monotype Corsiva"/>
              </a:rPr>
              <a:t>А слышать – всякий слыхивал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Monotype Corsiva"/>
              </a:rPr>
              <a:t>Без тела, а живёт он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Monotype Corsiva"/>
              </a:rPr>
              <a:t>Без языка – кричит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211640" y="501336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2449440" y="4911840"/>
            <a:ext cx="655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Ответ: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 эх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5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схе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ошка"/>
          <p:cNvPicPr/>
          <p:nvPr/>
        </p:nvPicPr>
        <p:blipFill>
          <a:blip r:embed="rId2"/>
          <a:stretch/>
        </p:blipFill>
        <p:spPr>
          <a:xfrm>
            <a:off x="6659640" y="3716280"/>
            <a:ext cx="1895400" cy="79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Собака"/>
          <p:cNvPicPr/>
          <p:nvPr/>
        </p:nvPicPr>
        <p:blipFill>
          <a:blip r:embed="rId3"/>
          <a:stretch/>
        </p:blipFill>
        <p:spPr>
          <a:xfrm>
            <a:off x="5796000" y="1700280"/>
            <a:ext cx="1596960" cy="1931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Имитация стона"/>
          <p:cNvPicPr/>
          <p:nvPr/>
        </p:nvPicPr>
        <p:blipFill>
          <a:blip r:embed="rId4"/>
          <a:stretch/>
        </p:blipFill>
        <p:spPr>
          <a:xfrm>
            <a:off x="179280" y="3429000"/>
            <a:ext cx="24274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arimell</dc:creator>
  <dc:description/>
  <dc:language>en-US</dc:language>
  <cp:lastModifiedBy>admin</cp:lastModifiedBy>
  <dcterms:modified xsi:type="dcterms:W3CDTF">2013-10-16T16:27:14Z</dcterms:modified>
  <cp:revision>95</cp:revision>
  <dc:subject/>
  <dc:title>PowerPoint Presentation</dc:title>
</cp:coreProperties>
</file>