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CD8-7E97-498E-800B-96D604C2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1EA-A887-4AB1-9562-DF86C176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372-BEE4-4A2B-94D7-57BBF986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698-1E96-49C8-93AC-88F124D5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7A6-6ADE-4E14-BB95-E3A3EC42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574-3513-4D1D-9461-79CD9B7B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94F-80C0-4DBE-AE3A-DB7B09F9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5BC-4CF9-4ED1-9DC3-43794F38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0B0-A397-40B6-A56F-5632C803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D28-8547-4607-8101-4615A689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4D9-2C7D-4E07-886B-03E8C48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378-139E-4E51-8D5C-DB79B73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A9F1-0D61-44C1-B84C-24BCB8B0C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kalitina.okis.ru/" TargetMode="External"/><Relationship Id="rId2" Type="http://schemas.openxmlformats.org/officeDocument/2006/relationships/hyperlink" Target="http://www.nsportal.ru/kalitina-tamara-mikhailovna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оч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5840" y="121428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акие утверждения верны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вариант- белый фосфор, 2 вариант – красный фосф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дов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 растворяется в сероуглер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меет молекулярную кристаллическую решет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темно- малинового цв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елого цв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храниться под слоем в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ветиться в темно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не самовоспламеняется на воздух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имеет атомную кристаллическую решет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не светиться в темно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не ядов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растворяется в сероуглер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самовоспламеняется на воздух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храниться в обычных услов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фосфорная кислот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рехосновной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ой  и образует три ряда сол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редние  сол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сф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нерастворимы в воде, кроме фосфатов щелочных метал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ислы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гидрофосфа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(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из которых хорошо растворимы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фосфорная кислота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4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4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ислы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дрофосфа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Н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малорастворимы в воде (кроме фосфатов натрия, калия и аммония), т.е. занимают промежуточное положение между фосфатами и дигидрофосфатами по растворим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увеличением содержания атомов водорода в молекуле соли, ее растворимость повыш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фосфорная кислот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br>
              <a:rPr sz="4000"/>
            </a:br>
            <a:r>
              <a:rPr b="1" lang="ru-RU" sz="40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 Химические свойств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являет все свойства кисло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ируе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 щелочами: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,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основными оксидами: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a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лями: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металлами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агирует !!!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м.Таблицу растворимост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BEAKRTUB"/>
          <p:cNvPicPr/>
          <p:nvPr/>
        </p:nvPicPr>
        <p:blipFill>
          <a:blip r:embed="rId1"/>
          <a:stretch/>
        </p:blipFill>
        <p:spPr>
          <a:xfrm>
            <a:off x="7358040" y="1071720"/>
            <a:ext cx="147636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фосфорная кислот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br>
              <a:rPr sz="4000"/>
            </a:br>
            <a:r>
              <a:rPr b="1" lang="ru-RU" sz="40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 Химические свойств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аты всех металлов (КромеЩМе)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растворим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этому на поверхности этих металлов  образуется нерастворимая пленка, препятствующая их дальнейшему растворению в кисло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Ме при  растворении в кислоте, начинают взаимодействовать с вод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BEAKRTUB"/>
          <p:cNvPicPr/>
          <p:nvPr/>
        </p:nvPicPr>
        <p:blipFill>
          <a:blip r:embed="rId1"/>
          <a:stretch/>
        </p:blipFill>
        <p:spPr>
          <a:xfrm>
            <a:off x="7786800" y="428760"/>
            <a:ext cx="112536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фосфорная кислот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br>
              <a:rPr sz="4000"/>
            </a:br>
            <a:r>
              <a:rPr b="1" lang="ru-RU" sz="40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 Химические свой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реакции с металлами протекают в очень разбавленных раствор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 (разб)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3 М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М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3Н2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BEAKRTUB"/>
          <p:cNvPicPr/>
          <p:nvPr/>
        </p:nvPicPr>
        <p:blipFill>
          <a:blip r:embed="rId1"/>
          <a:stretch/>
        </p:blipFill>
        <p:spPr>
          <a:xfrm>
            <a:off x="7358040" y="1071720"/>
            <a:ext cx="147636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чественная реакция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осфат-ион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-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 3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Ag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ый фосфат серебр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й осадок растворяется в сильных кислот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признаку его можно отличить от других нерастворимых солей серебра желтого цвета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I, AgB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–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го ц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BEAKER"/>
          <p:cNvPicPr/>
          <p:nvPr/>
        </p:nvPicPr>
        <p:blipFill>
          <a:blip r:embed="rId1"/>
          <a:stretch/>
        </p:blipFill>
        <p:spPr>
          <a:xfrm>
            <a:off x="500040" y="285840"/>
            <a:ext cx="954000" cy="1220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EAKER"/>
          <p:cNvPicPr/>
          <p:nvPr/>
        </p:nvPicPr>
        <p:blipFill>
          <a:blip r:embed="rId2"/>
          <a:stretch/>
        </p:blipFill>
        <p:spPr>
          <a:xfrm flipH="1" rot="20513400">
            <a:off x="7857360" y="356760"/>
            <a:ext cx="85716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уравнение диссоциации со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ата нат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фосфата нат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идрофосфата нат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тите внимание: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ие соли диссоциируют в 1 ступень (сильные электролиты), у кислых солей – несколько ступеней диссоци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ссоциация солей фосф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uTorrent\Изображение.jpg"/>
          <p:cNvPicPr/>
          <p:nvPr/>
        </p:nvPicPr>
        <p:blipFill>
          <a:blip r:embed="rId1"/>
          <a:stretch/>
        </p:blipFill>
        <p:spPr>
          <a:xfrm>
            <a:off x="428760" y="1571760"/>
            <a:ext cx="7929360" cy="4429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6429240" y="3357720"/>
            <a:ext cx="2571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ждая последующая ступень диссоциации протекает в меньшей степени, чем предыду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ковенко М.Ю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урочные разработки по химии: 9 класс. – М.: ВАКО, 2010. – 368 с. – (В помощь школьному учителю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бриелян О.С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я. 9 класс: учеб. Для общеобразоват.учреждений/О.С.Габриелян. – 17-е изд.Б стереотип. –М.: Дрофа, 2010 – 270 с.: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литина Тамара Михайл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аботы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БОУ СОШ №3 с.Александров-Га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т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итель химии, биологии, экологии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сведения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й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kalitina.okis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сайт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nsportal.ru/kalitina-tamara-mikhailov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2" descr="http://kalitina.okis.ru/img/kalitina/1.jpg"/>
          <p:cNvPicPr/>
          <p:nvPr/>
        </p:nvPicPr>
        <p:blipFill>
          <a:blip r:embed="rId3"/>
          <a:stretch/>
        </p:blipFill>
        <p:spPr>
          <a:xfrm>
            <a:off x="7286760" y="214200"/>
            <a:ext cx="13316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сфор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единения фосф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 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L05p1p02"/>
          <p:cNvPicPr/>
          <p:nvPr/>
        </p:nvPicPr>
        <p:blipFill>
          <a:blip r:embed="rId1"/>
          <a:stretch/>
        </p:blipFill>
        <p:spPr>
          <a:xfrm>
            <a:off x="6000840" y="500040"/>
            <a:ext cx="26874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BEAKRTUB"/>
          <p:cNvPicPr/>
          <p:nvPr/>
        </p:nvPicPr>
        <p:blipFill>
          <a:blip r:embed="rId2"/>
          <a:stretch/>
        </p:blipFill>
        <p:spPr>
          <a:xfrm>
            <a:off x="928800" y="5000760"/>
            <a:ext cx="1125360" cy="133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BEAKRTUB"/>
          <p:cNvPicPr/>
          <p:nvPr/>
        </p:nvPicPr>
        <p:blipFill>
          <a:blip r:embed="rId3"/>
          <a:stretch/>
        </p:blipFill>
        <p:spPr>
          <a:xfrm>
            <a:off x="7358040" y="3643200"/>
            <a:ext cx="1125720" cy="1332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D:\ТАМАРА\D9 презентации все\картинки\картинки анемешки\Animated\J0076135.GIF"/>
          <p:cNvPicPr/>
          <p:nvPr/>
        </p:nvPicPr>
        <p:blipFill>
          <a:blip r:embed="rId4"/>
          <a:stretch/>
        </p:blipFill>
        <p:spPr>
          <a:xfrm>
            <a:off x="571680" y="428760"/>
            <a:ext cx="2592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1.Рассмотреть важнейшие соединения фосфора на примере оксида фосфора  и фосфорной кисло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2. Закрепить навыки и умения в написании уравнений химических реакц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 фосфора -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ная кислота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 фосфорной кислоты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а(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Н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сфор в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ироде фосфор в свободном виде не встречае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лько в виде соединений. Важнейшими природными соединениями фосфора являю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ералы фосфориты и апатиты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ую их массу составляет фосфат кальц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оторого и получают в промышленности фосф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ный оксид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br>
              <a:rPr sz="4000"/>
            </a:br>
            <a:r>
              <a:rPr b="1" lang="ru-RU" sz="40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Физические свой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е гигроскопичное порошкообразное веще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растворимое в воде, образует несколько кисл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как осушитель газов и жидкостей, отнимает воду у химических соедин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ься в закрытых сосуд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ный оксид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br>
              <a:rPr sz="4000"/>
            </a:br>
            <a:r>
              <a:rPr b="1" lang="ru-RU" sz="40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Химические свой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 вод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5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3 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= 2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ортофосфорная кисл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5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 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= 2НР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етафосфорная кисл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5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2 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= 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ирофосфорная кисл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BEAKRTUB"/>
          <p:cNvPicPr/>
          <p:nvPr/>
        </p:nvPicPr>
        <p:blipFill>
          <a:blip r:embed="rId1"/>
          <a:stretch/>
        </p:blipFill>
        <p:spPr>
          <a:xfrm>
            <a:off x="7286760" y="285840"/>
            <a:ext cx="1584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ный оксид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br>
              <a:rPr sz="4000"/>
            </a:br>
            <a:r>
              <a:rPr b="1" lang="ru-RU" sz="40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Химические свой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 основными оксид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5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3 СаО = С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РО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о щелоч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5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6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ОН = 2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3 Н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BEAKRTUB"/>
          <p:cNvPicPr/>
          <p:nvPr/>
        </p:nvPicPr>
        <p:blipFill>
          <a:blip r:embed="rId1"/>
          <a:stretch/>
        </p:blipFill>
        <p:spPr>
          <a:xfrm>
            <a:off x="7358040" y="357120"/>
            <a:ext cx="14763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фосфорная кислот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br>
              <a:rPr sz="4000"/>
            </a:br>
            <a:r>
              <a:rPr b="1" lang="ru-RU" sz="40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Физические свой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е прозрачные кристаллы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дови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лота средней сил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одой смешивается в любых соотношения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плав. = 42 </a:t>
            </a:r>
            <a:r>
              <a:rPr b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плавиться без разложения, при умеренном нагревании разлагае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ые свойства не проявляет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отличие от Н</a:t>
            </a:r>
            <a:r>
              <a:rPr b="1" lang="ru-RU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ц.), Н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20:51:10Z</dcterms:created>
  <dc:creator>Admin</dc:creator>
  <dc:description/>
  <dc:language>en-US</dc:language>
  <cp:lastModifiedBy>User</cp:lastModifiedBy>
  <dcterms:modified xsi:type="dcterms:W3CDTF">2013-02-18T04:43:47Z</dcterms:modified>
  <cp:revision>30</cp:revision>
  <dc:subject/>
  <dc:title>Фосфор. Соединения фосфора</dc:title>
</cp:coreProperties>
</file>