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chimes.wav" ContentType="audio/x-wav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60C9-D110-46B7-BC93-A0E9B8EA43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D98B-1232-4B59-B30E-ED38189A05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CAD7A2-3206-47DB-AE58-41C59AF2D2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61A5-B84E-4857-9228-4D30D2BC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06DB-DE17-41E9-BA50-C4BE0078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963-2F37-409E-B54C-30C9416F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0BD1-6C3B-430D-85C7-7BE6275E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38CD-E667-456E-8B0E-44285B76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C4E-400E-4A25-B635-33B31045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8D2-F9FE-4F45-B3C9-4D464604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468A-7D84-42DE-96C3-D3A49146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8902-AB82-4DAD-AB8D-05CE5DB6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C3A8-E392-408A-AE3D-AC2F226F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872F-5B13-4FE6-A073-5F5018B7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8FD2-08D0-4B0B-B74F-529E6107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E990-9855-410B-9CC8-9FA01AB71B1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 u="sng">
              <a:solidFill>
                <a:srgbClr val="cc0099"/>
              </a:solidFill>
              <a:uFillTx/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5640" y="242856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776"/>
                </a:solidFill>
                <a:latin typeface="Arial Black"/>
              </a:rPr>
              <a:t>В гости  к  лесн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776"/>
                </a:solidFill>
                <a:latin typeface="Arial Black"/>
              </a:rPr>
              <a:t>жителя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Georgia"/>
                <a:ea typeface="Arial"/>
              </a:rPr>
              <a:t>Встреча  четвёртая</a:t>
            </a:r>
            <a:br>
              <a:rPr sz="4400"/>
            </a:b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ХОРЁК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706840" y="2419200"/>
            <a:ext cx="4297320" cy="2732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3a3a3"/>
                </a:solidFill>
                <a:latin typeface="Calibri"/>
              </a:rPr>
              <a:t>СКОРОГОВОР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cc00"/>
                </a:solidFill>
                <a:latin typeface="Calibri"/>
              </a:rPr>
              <a:t>Хомяку</a:t>
            </a: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  сказал </a:t>
            </a:r>
            <a:r>
              <a:rPr b="0" lang="ru-RU" sz="6600" spc="-1" strike="noStrike">
                <a:solidFill>
                  <a:srgbClr val="00cc00"/>
                </a:solidFill>
                <a:latin typeface="Calibri"/>
              </a:rPr>
              <a:t>хорёк</a:t>
            </a: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«Хвост  твой  </a:t>
            </a:r>
            <a:r>
              <a:rPr b="0" lang="ru-RU" sz="6600" spc="-1" strike="noStrike">
                <a:solidFill>
                  <a:srgbClr val="333333"/>
                </a:solidFill>
                <a:latin typeface="Calibri"/>
              </a:rPr>
              <a:t>узок</a:t>
            </a: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,       мой  </a:t>
            </a:r>
            <a:r>
              <a:rPr b="0" lang="ru-RU" sz="6600" spc="-1" strike="noStrike">
                <a:solidFill>
                  <a:srgbClr val="151515"/>
                </a:solidFill>
                <a:latin typeface="Calibri"/>
              </a:rPr>
              <a:t>широк</a:t>
            </a: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!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33"/>
                </a:solidFill>
                <a:latin typeface="Arial Black"/>
              </a:rPr>
              <a:t>«Спорим,  что  вы  не  знали...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лодых  хорьков  легко  можно  сделать  ручными,  но  все-таки  с  этим  хищником надо быть очень  аккуратными,  буйный  нрав  никогда  не  покинет  хорь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786280" y="2286000"/>
            <a:ext cx="1857600" cy="2357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олжите предложе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388c">
              <a:alpha val="9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Я сегодня узнал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Мне захотелось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Мне было трудн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Мне было интересн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С каким настроением Вы уходите с уро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500040" y="2214720"/>
            <a:ext cx="3024360" cy="288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5072040" y="2357280"/>
            <a:ext cx="2664000" cy="22892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Georgia"/>
                <a:ea typeface="Arial"/>
              </a:rPr>
              <a:t>Встреча  первая</a:t>
            </a:r>
            <a:br>
              <a:rPr sz="3600"/>
            </a:br>
            <a:r>
              <a:rPr b="1" lang="ru-RU" sz="3200" spc="-1" strike="noStrike">
                <a:solidFill>
                  <a:srgbClr val="75005f"/>
                </a:solidFill>
                <a:latin typeface="Georgia"/>
                <a:ea typeface="Arial"/>
              </a:rPr>
              <a:t>Сова  полярна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4" descr=""/>
          <p:cNvPicPr/>
          <p:nvPr/>
        </p:nvPicPr>
        <p:blipFill>
          <a:blip r:embed="rId1"/>
          <a:stretch/>
        </p:blipFill>
        <p:spPr>
          <a:xfrm>
            <a:off x="3857760" y="2000160"/>
            <a:ext cx="157140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«Спорим,  что  вы  не  знали...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ернатая  кош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Ушастая  сова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5" descr=""/>
          <p:cNvPicPr/>
          <p:nvPr/>
        </p:nvPicPr>
        <p:blipFill>
          <a:blip r:embed="rId1"/>
          <a:stretch/>
        </p:blipFill>
        <p:spPr>
          <a:xfrm>
            <a:off x="5261040" y="2066760"/>
            <a:ext cx="1693800" cy="4462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яц-беля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3500280" y="857160"/>
            <a:ext cx="2143440" cy="29289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 Black"/>
              </a:rPr>
              <a:t>«Спорим,  что  вы  не  знали...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7028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  зайца  много  врагов: охотники, волки, лисы, собаки, орлы, совы.....  Но  самый  страшный  зверь  для зайчика.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929200" y="2286000"/>
            <a:ext cx="1643040" cy="20718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Georgia"/>
                <a:ea typeface="Arial"/>
              </a:rPr>
              <a:t>Встреча  третья</a:t>
            </a:r>
            <a:br>
              <a:rPr sz="4400"/>
            </a:br>
            <a:r>
              <a:rPr b="0" lang="ru-RU" sz="4400" spc="-1" strike="noStrike">
                <a:solidFill>
                  <a:srgbClr val="0070c0"/>
                </a:solidFill>
                <a:latin typeface="Georgia"/>
                <a:ea typeface="Arial"/>
              </a:rPr>
              <a:t>Бело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"/>
          <p:cNvPicPr/>
          <p:nvPr/>
        </p:nvPicPr>
        <p:blipFill>
          <a:blip r:embed="rId1"/>
          <a:stretch/>
        </p:blipFill>
        <p:spPr>
          <a:xfrm>
            <a:off x="3429000" y="2500200"/>
            <a:ext cx="2357280" cy="207180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eba">
            <a:alpha val="5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«Найди  сло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Century"/>
              </a:rPr>
              <a:t>УТОЧК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 Black"/>
              </a:rPr>
              <a:t>«Спорим,  что  вы  не  знали...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 сильные  морозы  в  одном  дупле  спят  несколько  белочек, согревая  друг  дру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5" descr="http://img1.gelz.net/news_14/thumbs/gelz_news_every_day_1173432100_14.jpg"/>
          <p:cNvPicPr/>
          <p:nvPr/>
        </p:nvPicPr>
        <p:blipFill>
          <a:blip r:embed="rId1"/>
          <a:stretch/>
        </p:blipFill>
        <p:spPr>
          <a:xfrm>
            <a:off x="5500800" y="2571840"/>
            <a:ext cx="2500200" cy="207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Georgia"/>
                <a:ea typeface="Arial"/>
              </a:rPr>
              <a:t>Встреча  четвёрта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Cambria Math"/>
                <a:ea typeface="Cambria Math"/>
              </a:rPr>
              <a:t>РЕБУ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53735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53735"/>
                </a:solidFill>
                <a:latin typeface="Calibri"/>
              </a:rPr>
              <a:t>       </a:t>
            </a: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ХОМЯК- МЯК + РЁК =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ХОРЁ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3:36:11Z</dcterms:created>
  <dc:creator>HOMEgfgdsd</dc:creator>
  <dc:description/>
  <dc:language>en-US</dc:language>
  <cp:lastModifiedBy>1</cp:lastModifiedBy>
  <dcterms:modified xsi:type="dcterms:W3CDTF">2013-10-13T07:14:24Z</dcterms:modified>
  <cp:revision>212</cp:revision>
  <dc:subject/>
  <dc:title>Обучение грамоте</dc:title>
</cp:coreProperties>
</file>