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A12-612F-4B15-8837-CE2D9A04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1D0-EE74-4615-9655-7638EA8C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744-B547-440A-8D04-6D8D62FE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A29-6C70-4344-AD5E-2A47CC32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8324-A23C-4A13-A5CB-56C4B6E5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A14-7BE1-4B40-B85B-2BCB9569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324-5FE9-405E-B837-1D191F69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F9F-DADD-466E-BC5D-1F8541C7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3193-37D4-4AE1-B091-4C881B48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1AC-AABD-49AF-A30E-E1CA9214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EA1-DA68-4876-8E7F-B762E4E7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5D5-2698-4D4A-BB9F-81FDC987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D8B4-EE52-4A8F-A86A-93A4DA817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96;&#1082;&#1086;&#1083;&#1100;&#1085;&#1080;&#1082;&amp;pos=18&amp;uinfo=sw-1420-sh-661-fw-1195-fh-455-pd-1&amp;rpt=simage&amp;img_url=http%3A%2F%2Fimg1.liveinternet.ru%2Fimages%2Fattach%2Fc%2F5%2F87%2F128%2F87128897_4826654_0_62b1c_54368084_XL_1_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84;&#1072;&#1083;&#1099;&#1096;&#1072;%20&#1076;&#1077;&#1074;&#1086;&#1095;&#1082;&#1080;&amp;pos=20&amp;uinfo=sw-1420-sh-661-fw-1195-fh-455-pd-1&amp;rpt=simage&amp;img_url=http%3A%2F%2Fkolyan.net%2Fuploads%2Fposts%2F2009-12%2F1260473354_62505_58090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yandex.ru/yandsearch?text=&#1082;&#1072;&#1088;&#1090;&#1080;&#1085;&#1082;&#1072;%20&#1084;&#1072;&#1083;&#1099;&#1096;&amp;img_url=http%3A%2F%2Fvseprosto.com%2Fcms_content%2Fuploads%2Fvseprosto_com%2Fimg-blog%2Frebenok-s-cvetkom.jpg&amp;pos=20&amp;uinfo=sw-1420-sh-661-fw-1195-fh-455-pd-1&amp;rpt=simage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8;&#1090;&#1080;&#1085;&#1082;&#1072;%20&#1084;&#1072;&#1083;&#1099;&#1096;&#1072;%20&#1076;&#1077;&#1074;&#1086;&#1095;&#1082;&#1080;&amp;img_url=http%3A%2F%2Fi010.radikal.ru%2F1106%2F8d%2Facc2c9b2492c.jpg&amp;pos=39&amp;uinfo=sw-1420-sh-661-fw-1195-fh-455-pd-1&amp;rpt=simag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text=&#1082;&#1072;&#1088;&#1090;&#1080;&#1085;&#1082;&#1072;%20&#1084;&#1072;&#1083;&#1099;&#1096;&#1072;%20&#1076;&#1077;&#1074;&#1086;&#1095;&#1082;&#1080;&amp;img_url=http%3A%2F%2Fimg1.liveinternet.ru%2Fimages%2Fattach%2Fc%2F1%2F63%2F858%2F63858895_1284146902_05.png&amp;pos=27&amp;uinfo=sw-1420-sh-661-fw-1195-fh-455-pd-1&amp;rpt=simage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96;&#1082;&#1086;&#1083;&#1072;%20473%20&#1082;&#1072;&#1087;&#1086;&#1090;&#1085;&#1103;%20&#1086;&#1092;&#1080;&#1094;&#1080;&#1072;&#1083;&#1100;&#1085;&#1099;&#1081;%20&#1089;&#1072;&#1081;&#1090;&amp;pos=0&amp;rpt=simage&amp;lr=213&amp;uinfo=sw-1420-sh-661-fw-1195-fh-455-pd-1&amp;img_url=http%3A%2F%2Fimg-fotki.yandex.ru%2Fget%2F6203%2F157413259.0%2F0_8d261_54e5a950_X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vk.com/photo125607816_311732756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hyperlink" Target="http://vk.com/photo125607816_311733353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k.com/photo125607816_311735897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vk.com/photo125607816_311735947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vk.com/photo125607816_311736043" TargetMode="External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нта моей же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6900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125360"/>
            <a:ext cx="3886200" cy="395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не 4 года я в са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989000"/>
            <a:ext cx="3744720" cy="3745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276640"/>
            <a:ext cx="4692600" cy="3536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 меня появились друзь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2100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2924280"/>
            <a:ext cx="27795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 вот и школа приш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222200"/>
            <a:ext cx="84596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 в 2013 го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3203640" cy="2403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56000" y="1341360"/>
            <a:ext cx="3240000" cy="2432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Ирина  Зайцев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1341360"/>
            <a:ext cx="2448000" cy="2409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0" y="37162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203640" y="37162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Ирина  Зайцева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43640" y="3716280"/>
            <a:ext cx="2411280" cy="2411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это смешные моменты моей жиз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Ирина  Зайцев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84280"/>
            <a:ext cx="2017800" cy="1871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Ирина  Зайцев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9640" y="1484280"/>
            <a:ext cx="1979640" cy="1873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Ирина  Зайцев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24360" y="1484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Ирина  Зайцева"/>
          <p:cNvPicPr/>
          <p:nvPr/>
        </p:nvPicPr>
        <p:blipFill>
          <a:blip r:embed="rId7"/>
          <a:stretch/>
        </p:blipFill>
        <p:spPr>
          <a:xfrm>
            <a:off x="5796000" y="1484280"/>
            <a:ext cx="1905120" cy="1873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Ирина  Зайцева"/>
          <p:cNvPicPr/>
          <p:nvPr/>
        </p:nvPicPr>
        <p:blipFill>
          <a:blip r:embed="rId8"/>
          <a:stretch/>
        </p:blipFill>
        <p:spPr>
          <a:xfrm>
            <a:off x="0" y="3357720"/>
            <a:ext cx="1979640" cy="1904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Ирина  Зайцева"/>
          <p:cNvPicPr/>
          <p:nvPr/>
        </p:nvPicPr>
        <p:blipFill>
          <a:blip r:embed="rId9"/>
          <a:stretch/>
        </p:blipFill>
        <p:spPr>
          <a:xfrm>
            <a:off x="1979640" y="3357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Ирина  Зайцева"/>
          <p:cNvPicPr/>
          <p:nvPr/>
        </p:nvPicPr>
        <p:blipFill>
          <a:blip r:embed="rId10"/>
          <a:stretch/>
        </p:blipFill>
        <p:spPr>
          <a:xfrm>
            <a:off x="3851280" y="3357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Ирина  Зайцева"/>
          <p:cNvPicPr/>
          <p:nvPr/>
        </p:nvPicPr>
        <p:blipFill>
          <a:blip r:embed="rId11"/>
          <a:stretch/>
        </p:blipFill>
        <p:spPr>
          <a:xfrm>
            <a:off x="5724360" y="3357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ец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асибо за просмо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5T07:56:13Z</dcterms:created>
  <dc:creator>Алексей</dc:creator>
  <dc:description/>
  <dc:language>en-US</dc:language>
  <cp:lastModifiedBy>Алексей</cp:lastModifiedBy>
  <dcterms:modified xsi:type="dcterms:W3CDTF">2013-10-05T09:34:39Z</dcterms:modified>
  <cp:revision>2</cp:revision>
  <dc:subject/>
  <dc:title>Лента моей жезни</dc:title>
</cp:coreProperties>
</file>