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9.jpeg" ContentType="image/jpeg"/>
  <Override PartName="/ppt/media/image8.png" ContentType="image/png"/>
  <Override PartName="/ppt/media/image13.png" ContentType="image/png"/>
  <Override PartName="/ppt/media/image12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DA4-3910-456B-B94E-B1B51D1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FC8-B0D1-4DE8-83DE-CB061153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D3D36-F98D-4AF6-B098-F3C0A3A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B3F8F-6284-4445-A45F-F457ECA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9B982-1B2A-42FA-A7BD-3F71060D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0D8C-30D7-4AC2-ACB4-CB2EC0E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5E0EF-95A2-44AF-BB3E-F0772F8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AC1E5-6DE9-411B-ADF8-FBCD3967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B2AF-144D-47CD-AAB1-B17B8A0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8BFA-26DA-49D0-B3C9-6B224890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AC40E-15CA-4A8E-B4DD-891A69D4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61D-D6BE-4F9C-8E16-5F1A884E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559-1C30-465E-BE64-8D1EF703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A023-CD26-4316-80D7-9AD0565A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855-20D6-42E2-9405-27E1ECA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1F1A-D775-474E-AFA5-39AAB98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87C-D2E5-4ABA-B050-82CEA34E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9DAA-3250-4ABC-B738-D1DD8A4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BFE-B2F9-445F-A326-220DE9C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D2CA-C316-4CCB-BDBF-272A807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97C-704B-42F9-8B9D-24D643F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35CA-D6AD-45AC-A30C-E8E4EA9D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0EEB-9E2F-419F-87EB-8547D08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CE4E-7728-4371-9912-38C4201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4BC-7670-467A-AA6E-282F39DC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F1B-245F-411B-90C2-A7A77628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3CE0-813C-42E0-B7C3-35DA3AA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CE60-381A-40DE-91FC-EA6CA0D3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B397-D419-4D12-99F1-742C341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379A-3B7E-48F5-8424-9345F22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1A5B-F9E4-4724-AF5C-753D6F5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08C-BCC2-444A-A930-B2D133AA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3B15-97E8-4905-850C-1189C0A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FFA3-1348-457B-BE10-D17BCAA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9832-F8CA-4039-A6EF-07CBD6B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340C-4085-47C1-AC67-E33DF904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909E-3AD9-4A96-A986-55A12B06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DEB5-D0B8-4432-A800-90224295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7830-378B-4DC4-BD51-4BC8C93A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A27E-0D9E-4277-8753-FBD2CFF0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0167-68DA-4DC3-B192-78B809E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D8AF-9C78-4669-835D-F2CEA83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E1E-A735-47F9-A137-028FDB3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8E75-18CE-4D17-8A00-598CFB14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C151-8CDE-45CC-A8DB-1CD9E128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E645-1D90-41EF-A0D1-DB3A349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3305-DF9E-4D8E-BB23-D36A344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0529-4424-4A35-985B-9F49713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1E83-F797-4952-A46D-9173E10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9B13-2A00-4B91-BE53-235D65C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367D-DD95-4A16-93E9-A437F187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33A7-B97C-491B-802E-64527BD6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0581-25A3-4215-9EF9-BD4BEE13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879-3908-4174-A377-5EAB19A4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1D01-C3D8-4B72-A824-58D080D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8274-F820-4ADE-A156-9D661A4E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3BC8-DC50-4228-A2FE-D46124B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1E8F-2262-495F-9079-A9B6BFDE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45B0-6091-47E1-A069-FFF4D3D2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78A5-CC82-4C3A-9313-A283AD1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CC07-6323-4C42-84EC-3F7BB08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6C33-8E9B-4CF6-B360-95707A9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A66C-7B5F-4F9E-A013-10C35A70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2B16D-A3CC-4675-B1C5-97981FA8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721-3662-4634-AA72-0087FD67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7169-53C6-49BB-AD52-A3A69B3D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C95E-557A-42A8-9C02-76395465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CBC6-0C0C-43E0-B336-58421D84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E6A29-27CD-4524-9E36-E863DED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F211-C70C-48B8-B367-3FB8A1C5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ED291-E5B9-463B-BD83-2E485D4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2DCB-C023-476B-845A-682C2046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CFAE-E133-46BB-ABF2-14E8176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C9A8-7254-43EF-9C35-F14AFF3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8D96-83ED-4208-A13B-609007F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275-BBA9-435C-AF4A-8F8E87E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DE37B-F72B-4416-8954-E3B3EF1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9896-EC64-45F2-B217-907283E6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C317-FAAB-42CB-BAA3-291868A7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0294-BB3E-49E2-89F3-045FA738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DDD8-03EE-48E0-AEE7-3FA38087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13DBF-4DC4-43E6-8F8D-D6388C7B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4CF8-CEAA-4758-9FE5-FCF5801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0D695-9862-45D3-9C60-AD393A1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9157-DE48-41F3-9CA7-B63D836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1B5B-B2C8-454C-A227-C914D31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B49-DF67-4885-9371-6C06895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7460-4E71-40F5-9466-F69F9C5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C95F-0991-40CF-B83C-12F07B3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BF28-1A2F-4C78-9105-33EDA216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F8D7-3813-4FCF-B314-412CBDA4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FDC13-5F7C-44CF-B517-92D05CA0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50726-CA6B-4AC2-9A9F-38618D18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E39D-F331-4B68-9999-EF4A485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950B-B850-4254-9A71-2DD3940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F680-9F71-4F8A-809D-52F6A9D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35DA-6B20-4E56-950B-79AF842E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556-645E-4605-9327-EDF94CB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E719B-1BFB-46A0-91E4-4AEAFC3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4CFAD-CFF6-4569-BF01-505BD8F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96900-8A71-4EA9-AE6A-1754FB7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EEB5-6486-4EFE-9A77-3D6B804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6545-9AB1-498E-BBAA-EC5790AB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1566-19B2-49CA-816E-A06AA428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A761-544B-453A-863E-CDC8E48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18B1F-C240-46A5-9EBB-BC46E2DC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B095C-A5A2-470F-976B-AAE7FA5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0A257-5D64-4098-A53F-3DB8BB03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1D4-7260-4C27-B868-79F6657214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C52-1810-4726-A7CD-1E2C6B4928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4C67-9A0D-46E2-8181-DFABA9BDD5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EFE-CB92-4C67-8077-0432A60C25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5FD1-43E6-4D64-BE9D-A01F17CB11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9C39-8DBC-4241-B4BF-FF2ADA1276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A68-AB18-4F0B-879C-5F71AB046D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DDE-71CC-4F46-A2C5-EB07C92C51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31A7-AD1B-49AA-A435-8B75235C7C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Овал 3"/>
          <p:cNvSpPr/>
          <p:nvPr/>
        </p:nvSpPr>
        <p:spPr>
          <a:xfrm>
            <a:off x="108000" y="404640"/>
            <a:ext cx="9036000" cy="25927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78920" cy="2103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2"/>
          <p:cNvSpPr/>
          <p:nvPr/>
        </p:nvSpPr>
        <p:spPr>
          <a:xfrm>
            <a:off x="2124000" y="5157720"/>
            <a:ext cx="4824360" cy="574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Franklin Gothic Book"/>
              </a:rPr>
              <a:t>к уроку МХК в 11 клас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263520" y="5950080"/>
            <a:ext cx="8856720" cy="792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5540a"/>
                </a:solidFill>
                <a:latin typeface="Franklin Gothic Book"/>
              </a:rPr>
              <a:t>Презентацию подготовила учитель русского языка и литературы МБУ «Мстерская средняя общеобразовательная школа Вязников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5540a"/>
                </a:solidFill>
                <a:latin typeface="Franklin Gothic Book"/>
              </a:rPr>
              <a:t>Юсова Ирина Виктор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5" descr="Chateau-de-versailles-cour.jpg"/>
          <p:cNvPicPr/>
          <p:nvPr/>
        </p:nvPicPr>
        <p:blipFill>
          <a:blip r:embed="rId2"/>
          <a:stretch/>
        </p:blipFill>
        <p:spPr>
          <a:xfrm>
            <a:off x="2467080" y="3141720"/>
            <a:ext cx="45752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335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new_versal2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54200" y="3389400"/>
            <a:ext cx="1644480" cy="11811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5003280" y="2060640"/>
            <a:ext cx="4140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оточие – дворец, к которому ведут 3 сходящихся лучами подъездных проспекто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Фасад представлен 3 этаж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Изобилие скульптурных украше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Богатый декор в виде позолоченной лепки и резьб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Множество зеркал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Изысканная мебел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Мраморная плитка с чёткими геометрическими рисунк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Бронзовые люстр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Зеркальная галере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6255"/>
                </a:solidFill>
                <a:latin typeface="Franklin Gothic Book"/>
              </a:rPr>
              <a:t>Пар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Dthcfkmcrbq ldjhtwversaille2"/>
          <p:cNvPicPr/>
          <p:nvPr/>
        </p:nvPicPr>
        <p:blipFill>
          <a:blip r:embed="rId1"/>
          <a:stretch/>
        </p:blipFill>
        <p:spPr>
          <a:xfrm>
            <a:off x="762120" y="79200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зеркальная галерея 1"/>
          <p:cNvPicPr/>
          <p:nvPr/>
        </p:nvPicPr>
        <p:blipFill>
          <a:blip r:embed="rId1"/>
          <a:stretch/>
        </p:blipFill>
        <p:spPr>
          <a:xfrm>
            <a:off x="2190600" y="1741320"/>
            <a:ext cx="4762800" cy="31816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2050920" y="6021360"/>
            <a:ext cx="4608720" cy="576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еркальная галер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потолок зеркальной галереи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920" y="1195560"/>
            <a:ext cx="4029120" cy="5370480"/>
          </a:xfrm>
          <a:prstGeom prst="rect">
            <a:avLst/>
          </a:prstGeom>
          <a:ln w="0">
            <a:noFill/>
          </a:ln>
        </p:spPr>
      </p:pic>
      <p:sp>
        <p:nvSpPr>
          <p:cNvPr id="431" name="Скругленный прямоугольник 3"/>
          <p:cNvSpPr/>
          <p:nvPr/>
        </p:nvSpPr>
        <p:spPr>
          <a:xfrm>
            <a:off x="1908000" y="125280"/>
            <a:ext cx="5185080" cy="8654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ркальная галере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Скругленный прямоугольник 5"/>
          <p:cNvSpPr/>
          <p:nvPr/>
        </p:nvSpPr>
        <p:spPr>
          <a:xfrm>
            <a:off x="4427640" y="1123920"/>
            <a:ext cx="4608360" cy="5734080"/>
          </a:xfrm>
          <a:custGeom>
            <a:avLst/>
            <a:gdLst>
              <a:gd name="textAreaLeft" fmla="*/ 224640 w 4608360"/>
              <a:gd name="textAreaRight" fmla="*/ 4383720 w 4608360"/>
              <a:gd name="textAreaTop" fmla="*/ 224640 h 5734080"/>
              <a:gd name="textAreaBottom" fmla="*/ 5509440 h 5734080"/>
            </a:gdLst>
            <a:ahLst/>
            <a:rect l="textAreaLeft" t="textAreaTop" r="textAreaRight" b="textAreaBottom"/>
            <a:pathLst>
              <a:path w="21600" h="26876">
                <a:moveTo>
                  <a:pt x="3600" y="0"/>
                </a:moveTo>
                <a:arcTo wR="3600" hR="3600" stAng="16200000" swAng="-5400000"/>
                <a:lnTo>
                  <a:pt x="0" y="23276"/>
                </a:lnTo>
                <a:arcTo wR="3600" hR="3600" stAng="10800000" swAng="-5400000"/>
                <a:lnTo>
                  <a:pt x="18000" y="268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Самое парадное помещение Большого Версальского дворца – это Зеркальная галерея. В этом зале отмечались дни рождения короля, совершались бракосочетания, устраивались балы,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здесь принимали иностранных послов. Зеркальную   галерею называют чудом Версаля. Вид этого салона прос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   </a:t>
            </a: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захватывает дух: галерея ошеломляет сразу и размерами, и колоритом, расточительной роскошью убранства, а в погожие солнечные дни – переизбытком света и воздуха. Пр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2c24"/>
                </a:solidFill>
                <a:latin typeface="Franklin Gothic Book"/>
              </a:rPr>
              <a:t>украшении Зеркальной галереи расчет сознательно был сделан на то, чтобы именно ошеломить роскошью и великолепием.  Зеркальная галерея  - это не просто зал. Это огромный проспект, длина которого 73 метра, а ширина – 10,5 мет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зеркальный Zal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857160"/>
            <a:ext cx="7408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интерьер спальни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23880" y="10461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35" name="Oval 6"/>
          <p:cNvSpPr/>
          <p:nvPr/>
        </p:nvSpPr>
        <p:spPr>
          <a:xfrm>
            <a:off x="6012000" y="5805360"/>
            <a:ext cx="2952720" cy="792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ьер спаль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интерьер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-14292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камин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352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скульптурная композиция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71760" y="642960"/>
            <a:ext cx="5965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304920" y="341280"/>
            <a:ext cx="8686800" cy="9939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26255"/>
                </a:solidFill>
                <a:latin typeface="Franklin Gothic Book"/>
              </a:rPr>
              <a:t>Основные черты архитектуры классицизм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26255"/>
                </a:solidFill>
                <a:latin typeface="Franklin Gothic Book"/>
              </a:rPr>
              <a:t>«Сказочный сон» Версал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26255"/>
                </a:solidFill>
                <a:latin typeface="Franklin Gothic Book"/>
              </a:rPr>
              <a:t>Ампир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95280" y="191628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егулярные (французские) парки подчиняли природу воле и замыслу художни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рсальский парк поражает четкостью и рациональной организацией пространства, его рисунок точно выверен архитектором (А. Ленотром) с помощью циркуля и линей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вид из окна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57200" y="636480"/>
            <a:ext cx="82296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versailles_bфыонтаны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14240" y="857160"/>
            <a:ext cx="7628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нептун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14240" y="857160"/>
            <a:ext cx="759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парк 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5880" y="714240"/>
            <a:ext cx="74991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парки"/>
          <p:cNvPicPr/>
          <p:nvPr/>
        </p:nvPicPr>
        <p:blipFill>
          <a:blip r:embed="rId1"/>
          <a:stretch/>
        </p:blipFill>
        <p:spPr>
          <a:xfrm>
            <a:off x="1714680" y="14270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фонтан Дианы"/>
          <p:cNvPicPr/>
          <p:nvPr/>
        </p:nvPicPr>
        <p:blipFill>
          <a:blip r:embed="rId1"/>
          <a:stretch/>
        </p:blipFill>
        <p:spPr>
          <a:xfrm>
            <a:off x="468360" y="719280"/>
            <a:ext cx="8172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цветники"/>
          <p:cNvPicPr/>
          <p:nvPr/>
        </p:nvPicPr>
        <p:blipFill>
          <a:blip r:embed="rId1"/>
          <a:stretch/>
        </p:blipFill>
        <p:spPr>
          <a:xfrm>
            <a:off x="108000" y="404640"/>
            <a:ext cx="4235400" cy="5948640"/>
          </a:xfrm>
          <a:prstGeom prst="rect">
            <a:avLst/>
          </a:prstGeom>
          <a:ln w="0">
            <a:noFill/>
          </a:ln>
        </p:spPr>
      </p:pic>
      <p:sp>
        <p:nvSpPr>
          <p:cNvPr id="448" name="Скругленный прямоугольник 1"/>
          <p:cNvSpPr/>
          <p:nvPr/>
        </p:nvSpPr>
        <p:spPr>
          <a:xfrm>
            <a:off x="4572000" y="404640"/>
            <a:ext cx="4392720" cy="626436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6264360"/>
              <a:gd name="textAreaBottom" fmla="*/ 6050160 h 6264360"/>
            </a:gdLst>
            <a:ahLst/>
            <a:rect l="textAreaLeft" t="textAreaTop" r="textAreaRight" b="textAreaBottom"/>
            <a:pathLst>
              <a:path w="21600" h="30803">
                <a:moveTo>
                  <a:pt x="3600" y="0"/>
                </a:moveTo>
                <a:arcTo wR="3600" hR="3600" stAng="16200000" swAng="-5400000"/>
                <a:lnTo>
                  <a:pt x="0" y="27203"/>
                </a:lnTo>
                <a:arcTo wR="3600" hR="3600" stAng="10800000" swAng="-5400000"/>
                <a:lnTo>
                  <a:pt x="18000" y="30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7242"/>
                </a:solidFill>
                <a:latin typeface="Tahoma"/>
              </a:rPr>
              <a:t>Версаль – это богатство Франции, которое со временем все возрастает. Этим сокровищем Франция гордится, оно составляет ее славу. В 1830 году версальский ансамбль был превращен в Национальный музей Франции, а наш век причислил его к феноменам мировой художественной культуры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Franklin Gothic Book"/>
              </a:rPr>
              <a:t>Ампи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Блок-схема: дисплей 2"/>
          <p:cNvSpPr/>
          <p:nvPr/>
        </p:nvSpPr>
        <p:spPr>
          <a:xfrm>
            <a:off x="4284720" y="1341360"/>
            <a:ext cx="4751280" cy="5256360"/>
          </a:xfrm>
          <a:prstGeom prst="flowChartDisplay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Arial"/>
              </a:rPr>
              <a:t>Ампир, или "Стиль империи" (франц. Empire - империя от лат. imperium - командование, власть) - исторический художественный стиль, впервые сложившийся во Франции в начале XIX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Рисунок 4" descr="http://ufa.shikremont.ru/dizain/istarhit/66s.jpg"/>
          <p:cNvPicPr/>
          <p:nvPr/>
        </p:nvPicPr>
        <p:blipFill>
          <a:blip r:embed="rId1"/>
          <a:stretch/>
        </p:blipFill>
        <p:spPr>
          <a:xfrm>
            <a:off x="684360" y="134136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452" name="Содержимое 3" descr="http://ufa.shikremont.ru/dizain/istarhit/65s.jpg"/>
          <p:cNvPicPr/>
          <p:nvPr/>
        </p:nvPicPr>
        <p:blipFill>
          <a:blip r:embed="rId2"/>
          <a:stretch/>
        </p:blipFill>
        <p:spPr>
          <a:xfrm>
            <a:off x="684360" y="3954600"/>
            <a:ext cx="3143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484000" y="189000"/>
            <a:ext cx="6480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6255"/>
                </a:solidFill>
                <a:latin typeface="Franklin Gothic Book"/>
              </a:rPr>
              <a:t>Ампир относится к так называемым «королевским стилям», которые можно характеризовать театральностью в оформлении архитектурных построек и внутренних интерьеров. Особенность архитектурного ампира заключается в обязательном наличии колонн, пилястров, лепных карнизов и других классических элементов, а также мотивов, репродуцирующих практически без изменений античные образцы скульптуры, подобные грифонам, сфинксам, львиным лапам и тому подобным скульптурным конструкциям. Данные элементы располагаются в ампире упорядоченно, с соблюдением равновесия и симметрии. Художественный замысел стиля с его массивными лапидарными и монументальными формами, а также богатым декорированием, содержанием элементов военной символики, прямым влиянием художественных форм прежде всего Римской империи, а также Древней Греции и даже Древнего Египта, был призван подчёркивать и воплощать идеи могущества власти и государства, наличия сильной армии[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Picture 2" descr="File:Colonne Vendôme.jpg"/>
          <p:cNvPicPr/>
          <p:nvPr/>
        </p:nvPicPr>
        <p:blipFill>
          <a:blip r:embed="rId1"/>
          <a:stretch/>
        </p:blipFill>
        <p:spPr>
          <a:xfrm>
            <a:off x="324000" y="260280"/>
            <a:ext cx="1885680" cy="56865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179280" y="6093000"/>
            <a:ext cx="2160720" cy="576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</a:rPr>
              <a:t>Вандомская колонна. Пари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1828440"/>
            <a:ext cx="89647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Греческая ордерная систе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Строгая симметр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Чёткая соразмерность частей композиции и их подчиненность общему замысл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Простые и ясные форм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Спокойная гармония пропорц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Прямые ли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Ненавязчивый декор, повторяющий очертания предме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Простота и благородство отдел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Book"/>
              </a:rPr>
              <a:t>Практичность и целесообразност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u-RU" sz="6000" spc="-1" strike="noStrike">
                <a:solidFill>
                  <a:srgbClr val="c00000"/>
                </a:solidFill>
                <a:latin typeface="Franklin Gothic Book"/>
              </a:rPr>
              <a:t>Спасибо 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Использованные ресурс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http://ru.wikipedia.org/wiki/%C0%EC%EF%E8%F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http://arkhi.net/?p=31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http://genaistoriya.ucoz.ru/load/mirovaja_khudozhestvennaja_kultura_11_klass/klassicizm_v_arkhitekture_zapadnoj_evropy/5-1-0-207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http://moruss.ucoz.ru/load/mkhk/prezentacii/klassicizm_v_arkhitekture_zapadnoj_evropy/20-1-0-102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http://www.myshared.ru/slide/86247/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7" descr="пример 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00360" y="4221000"/>
            <a:ext cx="3743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пример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162864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4572000" y="1197000"/>
            <a:ext cx="4321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Версаль – сказочный сон, поражающий своим великолепием фасадов и блеском декоративного убранства интерьеров. Он стал зримым воплощением парадно-официальной архитектуры классицизма, выразившим идею рационально устро -енной модели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2484360" y="476280"/>
            <a:ext cx="4680000" cy="6490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Franklin Gothic Book"/>
              </a:rPr>
              <a:t>«Сказочный сон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0000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Историческая справка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95280" y="126828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Times New Roman"/>
              </a:rPr>
              <a:t>Старейшая деревня Иль-де-Франс Версаль упоминается в исторических документах уже с XI века. Это даже и не деревня, а очень скромная деревушка, приютившаяся у холма. Таких вокруг столицы было разбросано много. Версаль пересекала дорога, ведущая из Нормандии а Париж, до которого отсюда было 18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Times New Roman"/>
              </a:rPr>
              <a:t>Деревня вошла в историю в конце XVI века, когда в здешнем замке в 1570 году остановился по пути на встречу с Екатериной Медичи Генрих IV – будущий король Франции. Уже став королем, именно сюда он приезжал охоти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Людовик</a:t>
            </a:r>
            <a:r>
              <a:rPr b="0" lang="en-US" sz="4200" spc="-1" strike="noStrike">
                <a:solidFill>
                  <a:srgbClr val="c00000"/>
                </a:solidFill>
                <a:latin typeface="Tahoma"/>
              </a:rPr>
              <a:t> XIII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468360" y="1125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1581f"/>
                </a:solidFill>
                <a:latin typeface="Times New Roman"/>
              </a:rPr>
              <a:t>В 1606 году на своей первой охоте в Версале был сын Генриха IV, будущий король Людовик XIII, которому нравилось уединяться здесь с несколькими близкими друзьями. В этих местах он захотел поставить скромный охотничий домик, где можно было бы с большими удобствами обставить недолгие часы своих развлеч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Судьба Малого замка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324000" y="1305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4b3b"/>
                </a:solidFill>
                <a:latin typeface="Times New Roman"/>
              </a:rPr>
              <a:t>В 1624 году король купил болотистую землю, окруженную полями. На месте будущего дворца тогда возвышалась только ветряная мельни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4b3b"/>
                </a:solidFill>
                <a:latin typeface="Times New Roman"/>
              </a:rPr>
              <a:t>Вскоре началось спешное строительство, но возводившийся замок был настолько мал и скромен, что в нем не были даже предусмотрены комнаты для королевы-матери и для королевы-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4b3b"/>
                </a:solidFill>
                <a:latin typeface="Times New Roman"/>
              </a:rPr>
              <a:t>После смерти Людовика XIII замок долгое время пустовал: Людовику XIV, наследнику и будущему королю, было всего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4b3b"/>
                </a:solidFill>
                <a:latin typeface="Times New Roman"/>
              </a:rPr>
              <a:t>Но в 1661 году, как только новый король провозгласил «Государство – это я», начался «век Людовика Великого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           </a:t>
            </a: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Людовик</a:t>
            </a:r>
            <a:r>
              <a:rPr b="0" lang="en-US" sz="4200" spc="-1" strike="noStrike">
                <a:solidFill>
                  <a:srgbClr val="c00000"/>
                </a:solidFill>
                <a:latin typeface="Tahoma"/>
              </a:rPr>
              <a:t> XIV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3851280" y="1413000"/>
            <a:ext cx="496872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Осознав себя королем, Людовик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XIV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тотчас же стал мечтать о собственном дворце. После долгих раздумий и сомнений выбор короля пал на замок Венсен, но вдруг неожиданно ему король предпочел Версаль с его небольшим охотничьим дом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Замок Людовика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XIII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не был унич- тожен, Людовик-сын решил, что Малый замок строители должны сохранить в неприкосновен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Людовик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 XIV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часто наведывался в Версаль, где забывал о своем королевском сане и резвился как ребен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4" descr="рожзж"/>
          <p:cNvPicPr/>
          <p:nvPr/>
        </p:nvPicPr>
        <p:blipFill>
          <a:blip r:embed="rId1"/>
          <a:stretch/>
        </p:blipFill>
        <p:spPr>
          <a:xfrm>
            <a:off x="243000" y="1192320"/>
            <a:ext cx="36082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            </a:t>
            </a:r>
            <a:r>
              <a:rPr b="0" lang="ru-RU" sz="4200" spc="-1" strike="noStrike">
                <a:solidFill>
                  <a:srgbClr val="c00000"/>
                </a:solidFill>
                <a:latin typeface="Tahoma"/>
              </a:rPr>
              <a:t>Зодчие Версаля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395280" y="1268280"/>
            <a:ext cx="828036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24139"/>
                </a:solidFill>
                <a:latin typeface="Tahoma"/>
              </a:rPr>
              <a:t>Среди архитекторов королевства был объявлен конкурс на лучший проект обновления маленького охотничьего замка. Вскоре архитектором Версаля был назначен Л.Лево, и вообще Людовик</a:t>
            </a:r>
            <a:r>
              <a:rPr b="0" i="1" lang="en-US" sz="2400" spc="-1" strike="noStrike">
                <a:solidFill>
                  <a:srgbClr val="624139"/>
                </a:solidFill>
                <a:latin typeface="Tahoma"/>
              </a:rPr>
              <a:t> XIV</a:t>
            </a:r>
            <a:r>
              <a:rPr b="0" i="1" lang="ru-RU" sz="2400" spc="-1" strike="noStrike">
                <a:solidFill>
                  <a:srgbClr val="624139"/>
                </a:solidFill>
                <a:latin typeface="Tahoma"/>
              </a:rPr>
              <a:t> (за свой счет) нанял Лево – «первого архитектора короля», Ш.Лебрена – «первого живописца короля» и А.Ленотра – «первого королевского садовник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24139"/>
                </a:solidFill>
                <a:latin typeface="Tahoma"/>
              </a:rPr>
              <a:t>Вскоре эта творческая группа приступила к раб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В создании архитектурного облика Версаля участвовали зодч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1" i="1" lang="ru-RU" sz="2400" spc="-1" strike="noStrike">
                <a:solidFill>
                  <a:srgbClr val="4e3b3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Луи Лево (1612-16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1" i="1" lang="ru-RU" sz="2400" spc="-1" strike="noStrike">
                <a:solidFill>
                  <a:srgbClr val="4e3b3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Жюль Ардуэн Мансар (1646-17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1" i="1" lang="ru-RU" sz="2400" spc="-1" strike="noStrike">
                <a:solidFill>
                  <a:srgbClr val="4e3b3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Андре Ленотр (1613-1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0:39:41Z</dcterms:created>
  <dc:creator>Николай</dc:creator>
  <dc:description/>
  <dc:language>en-US</dc:language>
  <cp:lastModifiedBy>Пользователь</cp:lastModifiedBy>
  <dcterms:modified xsi:type="dcterms:W3CDTF">2013-10-16T14:54:15Z</dcterms:modified>
  <cp:revision>33</cp:revision>
  <dc:subject/>
  <dc:title>Классицизм в архитектуре Западной Европы</dc:title>
</cp:coreProperties>
</file>