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753-1249-4DE9-ACD8-2DBB3DB2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105-9C95-47CB-9B29-E5F59C98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AEA-2E0F-4008-B1E3-AD5E6E26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B21-3707-4656-846B-5139AC95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B6DA-049E-4DBC-B3DC-BDF7541B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AA5A-F336-4BF8-86D9-7553EF75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65A7-0732-4843-9874-D5F608A5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2060-BD99-4110-A9B5-53CBEA42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79BB-4C98-4214-A719-1C5698FC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BFF0-25C1-4EC9-8F32-D14A44EE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A174-2B97-4E8A-A8FD-096191A9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F1B-1652-4F86-BDD7-74A461E7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67AF-DB89-4B2B-8D7F-1C4756E8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EDCC-08B5-4D15-A1EE-1F126B9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2211-4A51-46F9-85AC-AE34985F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E1EB-6D6B-483B-A544-F96E8151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352E-59EA-4D2E-92FF-C577262E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62B-FFF3-4562-9FD9-9C234B25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562-7EA1-4350-8CDF-4E7E12DC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FC8-D41D-4BA9-A728-1753647E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C8A-31FD-4E05-B93A-D287AA32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0D9-A35D-4D35-8A52-0D512225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238-44BA-4A5A-982B-D5717982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966-6323-4BBB-B633-101D4C55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FA9E-A4B6-463E-BC75-CD4756CD1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6F73-FB9C-46B3-9C8A-7376F6D0D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Административная ответственность несовершеннолетни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Потребление наркотических средств или психотропных веществ без назначения врача либо потребление иных одурманивающих веществ на улицах, стадионах и скверах, а также в других общественных мест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   влечет наложение административного штрафа в размере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 десяти до пятнадцат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меров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МР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Ст. 21.21. 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оявление в общественных местах в состоянии опьянения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3428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лечет наложение административного штрафа в размере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от одного до пяти МРО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Ст. 20.22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явление в состоянии опьянения несовершеннолетних в возраст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ле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равно распитие ими пива и напитков, изготовляемых на  его основе,  алкогольной и спиртосодержащей продукции, потребление ими наркотических средств или психотропных веществ в общественных  места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лечет наложение административного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штрафа на родител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ли иных законных представителей несовершеннолетних в размере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 трех до пяти МР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КоАП Владимирской области также выделяет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атья 11.7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рушение общественного порядка, выразившееся в приставании к гражданам с целью выпрашивания у них денег или материальных ценностей,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ечет предупреждение или наложение административного штрафа в размере от одного до пяти МРО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 же действия, совершенные детьми в возрасте до шестнадцати ле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екут предупреждение или наложение административного штрафа на родителей или иных законных представителей несовершеннолетних в размере от одного до трех МРО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Административные правонарушения, посягающие на собствен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Статья 7.17. 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Уничтожение или повреждение чужого имуществ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ышленное уничтожение или повреждение чужого имущества, если эти действия не повлекли причинение значительного ущерб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ечет наложение административного штрафа в размере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 трех до пя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РОТ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Статья 7.27. 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Мелкое хищени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лкое хищение чужого имущества путем кражи, мошенничества, присвоения или растраты при отсутствии признаков преступлений, предусмотренных частями второй, третьей и четвертой статьи 158, частями второй и третьей статьи 159 и частями второй и третьей статьи 160 Уголовного кодекса Российской Федераци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ечет наложение административного штрафа в размере до пятикратной стоимости похищенного имущества, но не менее одной тысячи рублей или административный арест на срок до пятнадцати сут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мечание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Хищение чужого имущества признается мелким, если стоимость похищенного имущества не превышает одну тысячу руб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Административные правонарушения в сфере транспорта и дорожного движ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Статья 12.29. 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Нарушение Правил дорожного движения пешеходом или иным лицом, участвующим в процессе дорожного движе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пешеходом или пассажиром транспортного средства Правил дорожного движ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ечет предупреждение или наложение административного штрафа в размере одной второй минимального размера оплаты тр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Нарушение Правил дорожного движения лицом, управляющим мопедом, велосипедом, либо возчиком или другим лицом, непосредственно участвующим в процессе дорожного движения (за исключением лиц, указанных в части 1 настоящей статьи, а также водителя механического транспортного средства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ечет предупреждение или наложение административного штрафа в размере одного минимального размера оплаты тр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Административным правонарушением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нается противоправное, виновное действие (бездействие) физического или юридического лица, за которое настоящим Кодексом или законами субъектов Российской Федерации об административных правонарушениях установлена административная ответств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ст. 2.1. Кодекса Российской Федерации об административных правонарушениях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Нарушение Правил дорожного движения лицами, указанными в части 2 настоящей статьи, совершенное в состоянии опьяне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лечет наложение административного штрафа в размере от одного до трех минимальных размеров оплаты тру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КоАП Владимирской области также выделяет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Статья 9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дминистративные правонарушения на транспорт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билетный проезд пассажиров в городском и пригородном пассажирском транспорте общего пользования (кроме железнодорожного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ечет наложение административного штрафа в размере одной второй минимального размера оплаты тр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ровоз на городском и пригородном пассажирском транспорте общего пользования (кроме железнодорожного) без билета детей, не достигших 16-летнего возраста, проезд которых подлежит опла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ечет наложение административного штрафа в размере половины штрафа, налагаемого на взрослого пассажира за безбилетный проезд на соответствующем транспор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дминистративной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тветственности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лежит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лиц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достигшее к моменту совершения административного правонарушения возраста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шестнадцати ле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ст. 2.3. КоАП РФ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ahoma"/>
              </a:rPr>
              <a:t>Ответ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за административное правонарушение, совершенное несовершеннолетними  в возрасте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т 14 до 16 ле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cc3300"/>
                </a:solidFill>
                <a:latin typeface="Tahoma"/>
              </a:rPr>
              <a:t>несут родител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ли иные законные представители (опекуны, попечител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учетом конкретных обстоятельств дела и данных о лице, совершившем административное правонарушение в возрасте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16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до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18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ле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комиссией по делам несовершеннолетних и защите их прав указанное лицо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жет быть освобождено от административной ответствен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 применением к нему меры воздействия, предусмотренной федеральным законодательством о защите прав несовершеннолетн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цо, которому назначено административное наказание за совершение административного правонарушения, считается подвергнутым данному наказанию в течение одного года со дня исполнения постановления о назначении административного наказания (ст. 4.6. КоАП РФ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Административные правонарушения, посягающие на общественный порядок и общественную безопас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Ст. 20.1. </a:t>
            </a: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Мелкое хулиганство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лкое хулиганство, то есть нецензурная брань в общественных местах, оскорбительное приставание к гражданам или другие действия, демонстративно нарушающие общественный порядок и спокойствие граждан,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лечет наложение административного штрафа в размере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 пяти до пятнадца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инимальных размеров оплаты труда (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РО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или административный арест на срок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до пятнадцати сут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Ст. 20.20.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Распитие  пива и напитков, изготовляемых на его основе, алкогольной и спиртосодержащей продукции либо потребление наркотических средств или психотропных веществ в общественных места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Распитие алкогольной и спиртосодержащей продукции на улицах, скверах, парках, в транспортном средстве общего пользования, в других, в других общественных места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лечет наложение административного штрафа в размере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  одного до трех  МР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отребление наркотических средств или психотропных веществ без назначения врача либо потребление одурманивающих веществ на улицах, стадионах, скверах, парках, в транспортном средстве общего пользования, в других общественных местах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  влечет наложение административного штрафа в размере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 трех до пяти МР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2-23T16:12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