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39D49-473E-4931-82F1-9D65FCA299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C1E54-1B22-48EC-82E0-F851D2B9F8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8DF6-11FA-41A7-B31B-4787E04FB5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DC058-7EA1-48A2-B7F6-5554AC347E13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DCA9E-B506-41F0-B65C-F4339CD7CD1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68A02-9E52-49AB-B6C9-7A53CB0C177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2D92D-B54A-41B3-A5D2-7646B09003E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B386-BFEA-448E-8EFF-3A0804690E3C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0011-1A13-48D9-B3C3-CE38730D2DA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8EB1D-DFA1-4F77-81E7-AE00404C7969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B55B1-84DA-4C99-9D02-7451CD4C46DA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04816-E60A-4F0A-9511-4CC59D5284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E894D-653E-4924-A864-B42CD6EE11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F74BA-FEC0-429A-A53D-41329269F8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C8E3-36D1-424B-BE60-C7A525E207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C13E-8713-4ECE-AC3E-6403A4ADF3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12AB5-8AA2-4671-ABB4-1BC17E22C0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6CF9-3245-4C67-A657-9F4B0A4D3E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EC942-6E8F-4D5B-90A4-3DFD101A1C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42E01-E2E9-493A-9292-0682A851A8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9942F-089F-44BD-820B-6A6D4AEA7A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66101-BF9F-45B1-AE33-81FAA4FC42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EBE7B-77CE-4867-988F-F99F945871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DA97-68EE-4C02-9930-FAEB215984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68640"/>
                <a:tab algn="l" pos="289260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9C04C-8154-42C9-B341-2952CD448543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9F93-803D-44A6-886E-A1B4C1AD7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90DC-4EE1-48C0-9853-9D87C3EE4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179C-D750-46D6-971A-3FCC718D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838E-ADC4-4574-BA2B-05CE28AFC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A17B-46FC-4CC3-B7F3-BFA59A3B0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1C78-4B88-44E6-9078-BCDEAC59E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2E53-C136-4875-A635-8A060D57D5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7797-E1FB-4FE0-B172-C197FF593F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44EA-8E31-425F-8625-9974B5549F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A7C4-521C-4167-8FEF-C30BEEAAA2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0A39-C9DB-4AAE-AF2E-7503AAF78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3DF4-6848-4DCE-AB9E-DE815514A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EF2C-F40B-42DB-8D5E-40947FA65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564E-484F-450F-A20E-A2ECA67BB1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DF9B-5A9E-416F-8030-A98B5F329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4E87-63A1-44E1-A888-C39C2A4DE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87FF-ED41-4A83-93C2-010B27A181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5ECD-3559-4340-AE43-FC7DF396E9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165B-5352-4C1E-BE1B-A4721D89B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77E0-C589-417B-838D-70C22E9C5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0126-B0FF-4E77-9083-00B1622C5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28EC-9763-4A77-BDBE-0AFC859A9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6DD1-8A55-48E7-A026-3D4C7AF67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0E1F-94BD-407C-A4F4-DE955D10B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D3238-560C-493F-BF88-7859B8B44A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9A4B4-B170-4F9D-A94A-169D26B26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2039760" y="5208480"/>
            <a:ext cx="7751880" cy="1990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111400" y="5087880"/>
            <a:ext cx="796752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7000" spc="-1" strike="noStrike">
                <a:solidFill>
                  <a:srgbClr val="000000"/>
                </a:solidFill>
                <a:latin typeface="Georgia"/>
              </a:rPr>
              <a:t>Крупы и каш</a:t>
            </a:r>
            <a:r>
              <a:rPr b="1" i="1" lang="ru-RU" sz="70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de-DE" sz="2200" spc="-1" strike="noStrike">
                <a:solidFill>
                  <a:srgbClr val="000000"/>
                </a:solidFill>
                <a:latin typeface="Georgia"/>
              </a:rPr>
              <a:t>Выполнено учащейся группы 2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Georgia"/>
              </a:rPr>
              <a:t>Черепкиной Оль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1.wma" descr=""/>
          <p:cNvPicPr/>
          <p:nvPr/>
        </p:nvPicPr>
        <p:blipFill>
          <a:blip r:embed="rId4"/>
          <a:stretch/>
        </p:blipFill>
        <p:spPr>
          <a:xfrm>
            <a:off x="9775800" y="725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/>
          <p:cNvSpPr/>
          <p:nvPr/>
        </p:nvSpPr>
        <p:spPr>
          <a:xfrm>
            <a:off x="360360" y="539640"/>
            <a:ext cx="9361440" cy="6480360"/>
          </a:xfrm>
          <a:prstGeom prst="roundRect">
            <a:avLst>
              <a:gd name="adj" fmla="val 23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60360" y="539640"/>
            <a:ext cx="9361440" cy="61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 варят на Востоке. Точное соотношение: 200 мл (риса): 300 мл (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да — кипяток, сразу же, чтобы не шло лишнее, трудно рассчитываемое в каждом отдельном случае время на доведение воды до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тная, наиплотнейшая крышка, не оставляющая никакого зазора между собой и кастрюлей, а для, того, чтобы не растерять точно отмеренный пар,— груз, тяжелый гнет на крышку, который не давал бы подняться ей даже в наивысший момент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з все точно рассчитано, то и время варки должно быть абсолютно точно: 12 минут. (Не 10, не 15, а точно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гонь: три минуты сильный, семь минут умеренный, остальное — слаб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>
            <a:off x="360360" y="539640"/>
            <a:ext cx="9361440" cy="6480360"/>
          </a:xfrm>
          <a:prstGeom prst="roundRect">
            <a:avLst>
              <a:gd name="adj" fmla="val 23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0360" y="539640"/>
            <a:ext cx="936144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9000"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ша готова. Но не спешите открывать крышку.  Оставьте крышку закрытой и не трогайте кашу ровно столько времени, сколько она варилась. Пусть она постоит на плите ровно двенадцать минут. Затем откройте. Перед вами — рассыпчатая каша, чуть плотнов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ожите поверх нее кусочек сливочного масла граммов 25—50, чуть-чуть посолите, если любите солоно. И размешайте ложкой как можно равномернее, но не разминая “куски”, не растирая ка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4983" t="5043" r="8618" b="10095"/>
          <a:stretch/>
        </p:blipFill>
        <p:spPr>
          <a:xfrm>
            <a:off x="3060720" y="4565520"/>
            <a:ext cx="3946680" cy="2454480"/>
          </a:xfrm>
          <a:prstGeom prst="rect">
            <a:avLst/>
          </a:prstGeom>
          <a:ln w="72000">
            <a:solidFill>
              <a:srgbClr val="000000"/>
            </a:solidFill>
            <a:round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"/>
          <p:cNvSpPr/>
          <p:nvPr/>
        </p:nvSpPr>
        <p:spPr>
          <a:xfrm>
            <a:off x="360360" y="539640"/>
            <a:ext cx="9361440" cy="6480360"/>
          </a:xfrm>
          <a:prstGeom prst="roundRect">
            <a:avLst>
              <a:gd name="adj" fmla="val 23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исовая молочная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000" y="1258920"/>
            <a:ext cx="90723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ис тщательно промыть, засыпать в кипящую воду и варить 5-8 минут, после чего выложить на дуршлаг или решето. Как только с риса стечет вода, переложить его в кастрюлю с подсоленным горячим молоком и, помешивая, варить на слабом огне около 15 минут, добавить сахар, размешать, закрыть крышкой и поставить для упревания на 10-15 минут на водяную баню. При подаче на стол положить сливочное ма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219640" y="4680000"/>
            <a:ext cx="43196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нгриди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ис - 1 ст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локо - 4 ст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ахар - 1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ль - 1/2 ч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720720" y="4562640"/>
            <a:ext cx="3600360" cy="2396880"/>
          </a:xfrm>
          <a:prstGeom prst="rect">
            <a:avLst/>
          </a:prstGeom>
          <a:ln w="72000">
            <a:solidFill>
              <a:srgbClr val="000000"/>
            </a:solidFill>
            <a:round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3"/>
          <p:cNvSpPr/>
          <p:nvPr/>
        </p:nvSpPr>
        <p:spPr>
          <a:xfrm>
            <a:off x="360360" y="1079640"/>
            <a:ext cx="9361440" cy="4859280"/>
          </a:xfrm>
          <a:prstGeom prst="roundRect">
            <a:avLst>
              <a:gd name="adj" fmla="val 32"/>
            </a:avLst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60360" y="1120680"/>
            <a:ext cx="936144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ис имеет сотни сортов, что, разумеется, отражается на его использовании и на вкусе приготовленных из него блюд. Однако несмотря на это, главная кулинарная особенность риса состоит в том, что хотя он и обладает собственным вкусом, но вкус этот — нейтрален, то есть не накладывается на вкус всех других соединяемых с рисом пищевых продуктов. Это свойство чрезвычайно важно. Оно дает возможность сдабривать рис практически любым видом приправ, придавать блюдам из риса любую гамму ароматов, любые вкусовые оттенки — сладкие и кислые, острые и нежные, пикантные и жир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360360" y="1800360"/>
            <a:ext cx="9361440" cy="48592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519280" y="539640"/>
            <a:ext cx="5219640" cy="720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3. Манная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60360" y="1979640"/>
            <a:ext cx="936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такое манная крупа? Это пшеничная мука твердых пшениц крупного помола. На два класса выше крупчатки. Поскольку это не крупа, а мука, то есть молотое зерно, то варить его легко. Оболочки нет, она не мешает, варка идет быстро, за несколько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тим каша и хороша. Непривередливая. Потому и полюбили ее не только домашние хозяйки, но и кухарки в столовых, больницах, домах отдыха, санаториях, особенно утром, когда времени мало, а людей завтраком накормить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0" t="5039" r="0" b="15110"/>
          <a:stretch/>
        </p:blipFill>
        <p:spPr>
          <a:xfrm>
            <a:off x="0" y="0"/>
            <a:ext cx="10069560" cy="755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60360" y="900000"/>
            <a:ext cx="9361440" cy="594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60360" y="900000"/>
            <a:ext cx="93614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авило приготовления: варить в молоке, соблюдая пропорции: пол-литра молока на 100—120—150 мл манной крупы. Молоко довести до кипения и в этот момент всыпать ситом манную крупу (не горстью, а ситом, чтобы рассеять ее) и продолжать варить только одну-две минуты, все время интенсивно помешивая, а затем закрыть плотной крышкой кастрюлю, где варилась каша, и дать постоять 10—15 минут до ее полного разбухания; После этого можно сдабривать ее маслом и чем угодно, делать как подслащенный, так и “луковый” 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о главное формирование вкуса произойдет именно тогда, когда каша будет не кипеть, не “преть” под крышкой, утрачивая белки, витамины, вкус, а когда она будет настаиваться уже снятой с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0" t="5039" r="0" b="15110"/>
          <a:stretch/>
        </p:blipFill>
        <p:spPr>
          <a:xfrm>
            <a:off x="0" y="0"/>
            <a:ext cx="10069560" cy="7559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60360" y="900000"/>
            <a:ext cx="9361440" cy="594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60360" y="1079640"/>
            <a:ext cx="93614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анная каша, сваренная по всем правилам сильнее разваривается, чем при кипении, ибо температура пара молока выше, чем температура самого молока, варимого при открытой кры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2700360" y="3059280"/>
            <a:ext cx="4762440" cy="3714480"/>
          </a:xfrm>
          <a:prstGeom prst="rect">
            <a:avLst/>
          </a:prstGeom>
          <a:ln w="72000">
            <a:solidFill>
              <a:srgbClr val="000000"/>
            </a:solidFill>
            <a:round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rcRect l="0" t="5039" r="0" b="15110"/>
          <a:stretch/>
        </p:blipFill>
        <p:spPr>
          <a:xfrm>
            <a:off x="0" y="0"/>
            <a:ext cx="1006956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360360" y="900000"/>
            <a:ext cx="9361440" cy="594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39640" y="1079640"/>
            <a:ext cx="900108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ть и еще один прием приготовления манной каши, сходный с описанным. Для этого манную крупу надо разогреть на сковородке вместе со сливочным маслом до легкого пожелтения, но не дать ей подгореть. Затем залить молоком или смесью воды с молоком, где воды было бы чуть больше половины. Заливать надо прямо на сковородке, и поэтому лучше брать глубокую эмалированную. После заливки быстро размешать и дать прокипеть две-три минуты, а затем плотно закрыть крышкой и так же выдержать до полного разбухания. Такая каша еще вкус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11280" y="2851200"/>
            <a:ext cx="9215280" cy="4330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2200" y="2700360"/>
            <a:ext cx="90378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 anchorCtr="1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Крупа — пищевой продукт, состоящий из цельных или дроблёных зёрен различных культур.Процесс выработки крупы заключается в удалении из зерна примесей, снятии твёрдых верхних оболочек и придании ядру соответствующих формы и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Крупы богаты сложными углеводами, за счёт которых происходит полноценное питание всего организма. Из крупы варят главным образом каши</a:t>
            </a:r>
            <a:r>
              <a:rPr b="0" i="1" lang="de-DE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2.wma" descr=""/>
          <p:cNvPicPr/>
          <p:nvPr/>
        </p:nvPicPr>
        <p:blipFill>
          <a:blip r:embed="rId4"/>
          <a:stretch/>
        </p:blipFill>
        <p:spPr>
          <a:xfrm>
            <a:off x="9775800" y="725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16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-71280" y="0"/>
            <a:ext cx="10223280" cy="755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ая выноска 3"/>
          <p:cNvSpPr/>
          <p:nvPr/>
        </p:nvSpPr>
        <p:spPr>
          <a:xfrm>
            <a:off x="2397240" y="20808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ая выноска 14"/>
          <p:cNvSpPr/>
          <p:nvPr/>
        </p:nvSpPr>
        <p:spPr>
          <a:xfrm>
            <a:off x="5183280" y="20808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ш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ая выноска 15"/>
          <p:cNvSpPr/>
          <p:nvPr/>
        </p:nvSpPr>
        <p:spPr>
          <a:xfrm>
            <a:off x="2397240" y="249408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еч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ая выноска 16"/>
          <p:cNvSpPr/>
          <p:nvPr/>
        </p:nvSpPr>
        <p:spPr>
          <a:xfrm>
            <a:off x="5183280" y="249408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ч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ая выноска 17"/>
          <p:cNvSpPr/>
          <p:nvPr/>
        </p:nvSpPr>
        <p:spPr>
          <a:xfrm>
            <a:off x="2397240" y="492300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еркуле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ая выноска 18"/>
          <p:cNvSpPr/>
          <p:nvPr/>
        </p:nvSpPr>
        <p:spPr>
          <a:xfrm>
            <a:off x="5183280" y="4923000"/>
            <a:ext cx="250020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и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ая выноска 19"/>
          <p:cNvSpPr/>
          <p:nvPr/>
        </p:nvSpPr>
        <p:spPr>
          <a:xfrm>
            <a:off x="0" y="2494080"/>
            <a:ext cx="2254320" cy="500040"/>
          </a:xfrm>
          <a:prstGeom prst="wedgeRectCallout">
            <a:avLst>
              <a:gd name="adj1" fmla="val -111"/>
              <a:gd name="adj2" fmla="val 181736"/>
            </a:avLst>
          </a:prstGeom>
          <a:solidFill>
            <a:srgbClr val="9f60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3.wma" descr=""/>
          <p:cNvPicPr/>
          <p:nvPr/>
        </p:nvPicPr>
        <p:blipFill>
          <a:blip r:embed="rId3"/>
          <a:stretch/>
        </p:blipFill>
        <p:spPr>
          <a:xfrm>
            <a:off x="9928080" y="725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6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2"/>
          <p:cNvSpPr/>
          <p:nvPr/>
        </p:nvSpPr>
        <p:spPr>
          <a:xfrm>
            <a:off x="0" y="0"/>
            <a:ext cx="10080720" cy="7559640"/>
          </a:xfrm>
          <a:custGeom>
            <a:avLst/>
            <a:gdLst>
              <a:gd name="textAreaLeft" fmla="*/ 0 w 10080720"/>
              <a:gd name="textAreaRight" fmla="*/ 10081080 w 10080720"/>
              <a:gd name="textAreaTop" fmla="*/ 0 h 7559640"/>
              <a:gd name="textAreaBottom" fmla="*/ 7560000 h 755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e6e6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6720" y="1850760"/>
            <a:ext cx="90712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1. Гречнев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2. Рисов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3. Манн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4. Пшенн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5. Овсян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6. Перлов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Georgia"/>
              </a:rPr>
              <a:t>7. Ячневая к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280" y="279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Georgia"/>
              </a:rPr>
              <a:t>Оглав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2"/>
          <p:cNvSpPr/>
          <p:nvPr/>
        </p:nvSpPr>
        <p:spPr>
          <a:xfrm>
            <a:off x="360360" y="1800360"/>
            <a:ext cx="9360000" cy="5219640"/>
          </a:xfrm>
          <a:custGeom>
            <a:avLst/>
            <a:gdLst>
              <a:gd name="textAreaLeft" fmla="*/ 0 w 9360000"/>
              <a:gd name="textAreaRight" fmla="*/ 9360360 w 9360000"/>
              <a:gd name="textAreaTop" fmla="*/ 0 h 5219640"/>
              <a:gd name="textAreaBottom" fmla="*/ 5220000 h 52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340000" y="539640"/>
            <a:ext cx="5400720" cy="7207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Georgia"/>
              </a:rPr>
              <a:t>1. Гречневая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rmAutofit/>
          </a:bodyPr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Для приготовления гречневой каши необходимо лишь соблюдать несложные условия варки и точно отмерять пропорции. Гречневая каша готовится двумя основными способами: на воде и на молоке. Оба способа хороши, но кардинально отличаются по вкусу. На воде универсальней – крупа остаётся рассыпчатой, не слипается, кашу можно и подсолить, и подсластить, использовать в качестве гарнира к самым разным блюдам. Молочная каша ближе к массообразным мелкофракционным кашам, более питательна, обладает специфическим молочным ароматом и вкусом. Для насыщения вполне достаточно пары горсточек молочной к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360360" y="900000"/>
            <a:ext cx="9361440" cy="6120000"/>
          </a:xfrm>
          <a:prstGeom prst="roundRect">
            <a:avLst>
              <a:gd name="adj" fmla="val 2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2920" y="17701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 anchorCtr="1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Вода/крупа: 1:2 по объему (1 стакан гречки на 2 стакана во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Кастрюля: с толстым дном и плотной крышкой, тяжелой крышкой. Лучше использовать для каш чугунную эмалированную кастрю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Крупу (перебрать, промыть), воду вскипятить. Крупу высыпаем в кипяток, закрываем крышкой, варим ок. 5 минут на сильном огне, затем ок. 10 минут на маленьком. Выключаем плиту, кастрюлю оставляем постоять еще минут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360360" y="900000"/>
            <a:ext cx="9361440" cy="6120000"/>
          </a:xfrm>
          <a:prstGeom prst="roundRect">
            <a:avLst>
              <a:gd name="adj" fmla="val 2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000" y="771480"/>
            <a:ext cx="9070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 anchorCtr="1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Georgia"/>
              </a:rPr>
              <a:t>Открыли, посолили и добавили масла. Наслаждае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00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3480"/>
                <a:tab algn="l" pos="7237440"/>
                <a:tab algn="l" pos="79614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2340000" y="2519280"/>
            <a:ext cx="5219640" cy="4137120"/>
          </a:xfrm>
          <a:prstGeom prst="rect">
            <a:avLst/>
          </a:prstGeom>
          <a:ln w="72000">
            <a:solidFill>
              <a:srgbClr val="00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50328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360360" y="900000"/>
            <a:ext cx="9361440" cy="6120000"/>
          </a:xfrm>
          <a:prstGeom prst="roundRect">
            <a:avLst>
              <a:gd name="adj" fmla="val 2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60360" y="1079640"/>
            <a:ext cx="936144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акже можно приготовить гречневую кашу с мя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ясо порезать небольшими кусочками. На сковороде с подсолнечным маслом обжарить кусочки свинины до полу готовности. Добавить тертую морковку и тушить до готовности. Гречку отварить в подсоленной воде. Слить воду и добавить мясо с морковкой. Хорошо перемешать и посо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731880" y="4319640"/>
            <a:ext cx="3768840" cy="2519280"/>
          </a:xfrm>
          <a:prstGeom prst="rect">
            <a:avLst/>
          </a:prstGeom>
          <a:ln w="72000">
            <a:solidFill>
              <a:srgbClr val="000000"/>
            </a:solidFill>
            <a:round/>
          </a:ln>
        </p:spPr>
      </p:pic>
      <p:sp>
        <p:nvSpPr>
          <p:cNvPr id="165" name="Text Box 6"/>
          <p:cNvSpPr/>
          <p:nvPr/>
        </p:nvSpPr>
        <p:spPr>
          <a:xfrm>
            <a:off x="5400720" y="4408560"/>
            <a:ext cx="41400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00 г гречневой круп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00 г свинины (фил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 морков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дсолнечное ма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539640" y="1800360"/>
            <a:ext cx="9001080" cy="5219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19280" y="539640"/>
            <a:ext cx="5040360" cy="720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0328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2. Рисовая 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68360" y="1800360"/>
            <a:ext cx="9072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звестно, что в странах традиционного рисосеяния  рисом питаются ежедневно и он обладает таким вкусом, который не получается при европейских способах ва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чего? Оттого, что варят у нас рис в большой воде, сливают слизь, промывают затем кипятком, а иногда перед варкой крупу подсушивают, обжаривают — словом, делают массу операций, работают вовсю, чтобы получить такой же рассыпчатый рис, с несклеенными рисинками, как на Востоке. Получают, полное разрушение оболочки и вымывание крахмалистых и белковых веществ риса. В сущности, красивую зернинку, чисто декоративный проду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3:32:32Z</dcterms:created>
  <dc:creator>Елена</dc:creator>
  <dc:description/>
  <dc:language>en-US</dc:language>
  <cp:lastModifiedBy>Елена</cp:lastModifiedBy>
  <dcterms:modified xsi:type="dcterms:W3CDTF">2013-10-16T12:29:50Z</dcterms:modified>
  <cp:revision>60</cp:revision>
  <dc:subject/>
  <dc:title>Слайд 1</dc:title>
</cp:coreProperties>
</file>