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403-A82D-4B7C-A7FE-BBCEC456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E91-303A-45C6-A3A9-0D5B5BBF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9CF-7CE3-4D62-9846-95762D45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90B-F334-4512-89E5-43B97B0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15D-247B-4AD0-BE14-41E6BDF4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384A-3015-4DE8-9434-DC3A96F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18B-1680-4FCD-BB02-EF86708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584-3858-4E6B-A101-6F7D3C06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0CE2-83A9-4E18-8AFB-6B975B2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B32-FD48-47A9-BD92-B3DCEA5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5D68-99B0-4512-B331-43FF3AA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3EC-65EB-4CB3-B8F0-F17136A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A881-E1A2-4655-85F0-9BCDB5A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6005-B769-4D1F-BE32-9F921D9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1376-B821-4DB5-A8B9-6699C2CF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4F4-A943-4552-998B-82F53BB5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523-54F0-42F3-8D73-DE9264F3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2DE-1A00-4A5E-9C79-2085658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158-DAF0-439E-AFA5-7A7671CE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5B4-9634-4133-8BA1-49F990F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05A-C46F-4D29-9FE3-EA58B2F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C15-93B0-4F93-A3BA-3A1134A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04F-51B8-4B27-A411-6266DCF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2E1-5389-474C-9F15-25FBE94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D30-E7C9-4837-8560-7CB26C03E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F08-0A2C-49D2-8DC2-F6D7A7C00EA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5/216/75216607_mq17ne3hvz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50/755/50755284_1257363225_4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1186.photobucket.com/albums/z369/UncleBillSFV/veggie%20quotes/pythagoras-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stat8.blog.ru/lr/0b0af3a9f47254c3b358200011250ff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.i.ua/photo/images/pic/5/0/1831505_17a7daab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hyperlink" Target="http://www.sprinter.ru/pic/big/f2c650fc1069c6a0e3b12be3a6ab2931.jpg" TargetMode="External"/><Relationship Id="rId8" Type="http://schemas.openxmlformats.org/officeDocument/2006/relationships/hyperlink" Target="http://www.sprinter.ru/pic/big/f2c650fc1069c6a0e3b12be3a6ab2931.jpg" TargetMode="External"/><Relationship Id="rId9" Type="http://schemas.openxmlformats.org/officeDocument/2006/relationships/hyperlink" Target="http://www.sprinter.ru/pic/big/f2c650fc1069c6a0e3b12be3a6ab2931.jpg" TargetMode="External"/><Relationship Id="rId10" Type="http://schemas.openxmlformats.org/officeDocument/2006/relationships/hyperlink" Target="http://www.sprinter.ru/pic/big/f2c650fc1069c6a0e3b12be3a6ab2931.jpg" TargetMode="External"/><Relationship Id="rId11" Type="http://schemas.openxmlformats.org/officeDocument/2006/relationships/hyperlink" Target="http://www.sprinter.ru/pic/big/f2c650fc1069c6a0e3b12be3a6ab2931.jpg" TargetMode="External"/><Relationship Id="rId12" Type="http://schemas.openxmlformats.org/officeDocument/2006/relationships/hyperlink" Target="http://www.sprinter.ru/pic/big/f2c650fc1069c6a0e3b12be3a6ab2931.jpg" TargetMode="External"/><Relationship Id="rId13" Type="http://schemas.openxmlformats.org/officeDocument/2006/relationships/hyperlink" Target="http://www.sprinter.ru/pic/big/f2c650fc1069c6a0e3b12be3a6ab2931.jpg" TargetMode="External"/><Relationship Id="rId14" Type="http://schemas.openxmlformats.org/officeDocument/2006/relationships/hyperlink" Target="http://www.sprinter.ru/pic/big/f2c650fc1069c6a0e3b12be3a6ab2931.jpg" TargetMode="External"/><Relationship Id="rId15" Type="http://schemas.openxmlformats.org/officeDocument/2006/relationships/hyperlink" Target="http://www.sprinter.ru/pic/big/f2c650fc1069c6a0e3b12be3a6ab2931.jpg" TargetMode="External"/><Relationship Id="rId16" Type="http://schemas.openxmlformats.org/officeDocument/2006/relationships/hyperlink" Target="http://www.sprinter.ru/pic/big/f2c650fc1069c6a0e3b12be3a6ab2931.jpg" TargetMode="External"/><Relationship Id="rId17" Type="http://schemas.openxmlformats.org/officeDocument/2006/relationships/hyperlink" Target="http://www.sprinter.ru/pic/big/f2c650fc1069c6a0e3b12be3a6ab2931.jpg" TargetMode="External"/><Relationship Id="rId18" Type="http://schemas.openxmlformats.org/officeDocument/2006/relationships/hyperlink" Target="http://www.sprinter.ru/pic/big/f2c650fc1069c6a0e3b12be3a6ab2931.jpg" TargetMode="External"/><Relationship Id="rId19" Type="http://schemas.openxmlformats.org/officeDocument/2006/relationships/hyperlink" Target="http://www.sprinter.ru/pic/big/f2c650fc1069c6a0e3b12be3a6ab2931.jpg" TargetMode="External"/><Relationship Id="rId20" Type="http://schemas.openxmlformats.org/officeDocument/2006/relationships/hyperlink" Target="http://www.sprinter.ru/pic/big/f2c650fc1069c6a0e3b12be3a6ab2931.jpg" TargetMode="External"/><Relationship Id="rId21" Type="http://schemas.openxmlformats.org/officeDocument/2006/relationships/hyperlink" Target="http://www.sprinter.ru/pic/big/f2c650fc1069c6a0e3b12be3a6ab2931.jpg" TargetMode="External"/><Relationship Id="rId22" Type="http://schemas.openxmlformats.org/officeDocument/2006/relationships/hyperlink" Target="http://www.sprinter.ru/pic/big/f2c650fc1069c6a0e3b12be3a6ab2931.jpg" TargetMode="External"/><Relationship Id="rId23" Type="http://schemas.openxmlformats.org/officeDocument/2006/relationships/hyperlink" Target="http://www.sprinter.ru/pic/big/f2c650fc1069c6a0e3b12be3a6ab2931.jpg" TargetMode="External"/><Relationship Id="rId24" Type="http://schemas.openxmlformats.org/officeDocument/2006/relationships/hyperlink" Target="http://www.sprinter.ru/pic/big/f2c650fc1069c6a0e3b12be3a6ab2931.jpg" TargetMode="External"/><Relationship Id="rId25" Type="http://schemas.openxmlformats.org/officeDocument/2006/relationships/hyperlink" Target="http://www.sprinter.ru/pic/big/f2c650fc1069c6a0e3b12be3a6ab2931.jpg" TargetMode="External"/><Relationship Id="rId26" Type="http://schemas.openxmlformats.org/officeDocument/2006/relationships/hyperlink" Target="http://www.sprinter.ru/pic/big/f2c650fc1069c6a0e3b12be3a6ab2931.jpg" TargetMode="External"/><Relationship Id="rId27" Type="http://schemas.openxmlformats.org/officeDocument/2006/relationships/hyperlink" Target="http://www.sprinter.ru/pic/big/f2c650fc1069c6a0e3b12be3a6ab2931.jpg" TargetMode="External"/><Relationship Id="rId28" Type="http://schemas.openxmlformats.org/officeDocument/2006/relationships/hyperlink" Target="http://www.sprinter.ru/pic/big/f2c650fc1069c6a0e3b12be3a6ab2931.jpg" TargetMode="External"/><Relationship Id="rId29" Type="http://schemas.openxmlformats.org/officeDocument/2006/relationships/hyperlink" Target="http://www.sprinter.ru/pic/big/f2c650fc1069c6a0e3b12be3a6ab2931.jpg" TargetMode="External"/><Relationship Id="rId30" Type="http://schemas.openxmlformats.org/officeDocument/2006/relationships/hyperlink" Target="http://www.sprinter.ru/pic/big/f2c650fc1069c6a0e3b12be3a6ab2931.jpg" TargetMode="External"/><Relationship Id="rId31" Type="http://schemas.openxmlformats.org/officeDocument/2006/relationships/hyperlink" Target="http://www.sprinter.ru/pic/big/f2c650fc1069c6a0e3b12be3a6ab2931.jpg" TargetMode="External"/><Relationship Id="rId32" Type="http://schemas.openxmlformats.org/officeDocument/2006/relationships/hyperlink" Target="http://www.sprinter.ru/pic/big/f2c650fc1069c6a0e3b12be3a6ab2931.jpg" TargetMode="External"/><Relationship Id="rId33" Type="http://schemas.openxmlformats.org/officeDocument/2006/relationships/hyperlink" Target="http://www.sprinter.ru/pic/big/f2c650fc1069c6a0e3b12be3a6ab2931.jpg" TargetMode="External"/><Relationship Id="rId34" Type="http://schemas.openxmlformats.org/officeDocument/2006/relationships/hyperlink" Target="http://www.sprinter.ru/pic/big/f2c650fc1069c6a0e3b12be3a6ab2931.jpg" TargetMode="External"/><Relationship Id="rId35" Type="http://schemas.openxmlformats.org/officeDocument/2006/relationships/hyperlink" Target="http://www.sprinter.ru/pic/big/f2c650fc1069c6a0e3b12be3a6ab2931.jpg" TargetMode="External"/><Relationship Id="rId36" Type="http://schemas.openxmlformats.org/officeDocument/2006/relationships/hyperlink" Target="http://www.sprinter.ru/pic/big/f2c650fc1069c6a0e3b12be3a6ab2931.jpg" TargetMode="External"/><Relationship Id="rId37" Type="http://schemas.openxmlformats.org/officeDocument/2006/relationships/hyperlink" Target="http://www.sprinter.ru/pic/big/f2c650fc1069c6a0e3b12be3a6ab2931.jpg" TargetMode="External"/><Relationship Id="rId38" Type="http://schemas.openxmlformats.org/officeDocument/2006/relationships/hyperlink" Target="http://www.sprinter.ru/pic/big/f2c650fc1069c6a0e3b12be3a6ab2931.jpg" TargetMode="External"/><Relationship Id="rId39" Type="http://schemas.openxmlformats.org/officeDocument/2006/relationships/hyperlink" Target="http://www.sprinter.ru/pic/big/f2c650fc1069c6a0e3b12be3a6ab2931.jpg" TargetMode="External"/><Relationship Id="rId40" Type="http://schemas.openxmlformats.org/officeDocument/2006/relationships/hyperlink" Target="http://www.sprinter.ru/pic/big/f2c650fc1069c6a0e3b12be3a6ab2931.jpg" TargetMode="External"/><Relationship Id="rId41" Type="http://schemas.openxmlformats.org/officeDocument/2006/relationships/hyperlink" Target="http://www.sprinter.ru/pic/big/f2c650fc1069c6a0e3b12be3a6ab2931.jpg" TargetMode="External"/><Relationship Id="rId42" Type="http://schemas.openxmlformats.org/officeDocument/2006/relationships/hyperlink" Target="http://www.sprinter.ru/pic/big/f2c650fc1069c6a0e3b12be3a6ab2931.jpg" TargetMode="External"/><Relationship Id="rId43" Type="http://schemas.openxmlformats.org/officeDocument/2006/relationships/hyperlink" Target="http://www.sprinter.ru/pic/big/f2c650fc1069c6a0e3b12be3a6ab2931.jpg" TargetMode="External"/><Relationship Id="rId44" Type="http://schemas.openxmlformats.org/officeDocument/2006/relationships/hyperlink" Target="http://www.sprinter.ru/pic/big/f2c650fc1069c6a0e3b12be3a6ab2931.jpg" TargetMode="External"/><Relationship Id="rId45" Type="http://schemas.openxmlformats.org/officeDocument/2006/relationships/hyperlink" Target="http://www.sprinter.ru/pic/big/f2c650fc1069c6a0e3b12be3a6ab2931.jpg" TargetMode="External"/><Relationship Id="rId46" Type="http://schemas.openxmlformats.org/officeDocument/2006/relationships/hyperlink" Target="http://www.sprinter.ru/pic/big/f2c650fc1069c6a0e3b12be3a6ab2931.jpg" TargetMode="External"/><Relationship Id="rId47" Type="http://schemas.openxmlformats.org/officeDocument/2006/relationships/hyperlink" Target="http://www.sprinter.ru/pic/big/f2c650fc1069c6a0e3b12be3a6ab2931.jpg" TargetMode="External"/><Relationship Id="rId48" Type="http://schemas.openxmlformats.org/officeDocument/2006/relationships/hyperlink" Target="http://www.sprinter.ru/pic/big/f2c650fc1069c6a0e3b12be3a6ab2931.jpg" TargetMode="External"/><Relationship Id="rId49" Type="http://schemas.openxmlformats.org/officeDocument/2006/relationships/hyperlink" Target="http://www.sprinter.ru/pic/big/f2c650fc1069c6a0e3b12be3a6ab2931.jpg" TargetMode="External"/><Relationship Id="rId50" Type="http://schemas.openxmlformats.org/officeDocument/2006/relationships/hyperlink" Target="http://www.sprinter.ru/pic/big/f2c650fc1069c6a0e3b12be3a6ab2931.jpg" TargetMode="External"/><Relationship Id="rId51" Type="http://schemas.openxmlformats.org/officeDocument/2006/relationships/hyperlink" Target="http://www.sprinter.ru/pic/big/f2c650fc1069c6a0e3b12be3a6ab2931.jpg" TargetMode="External"/><Relationship Id="rId52" Type="http://schemas.openxmlformats.org/officeDocument/2006/relationships/hyperlink" Target="http://www.sprinter.ru/pic/big/f2c650fc1069c6a0e3b12be3a6ab2931.jpg" TargetMode="External"/><Relationship Id="rId53" Type="http://schemas.openxmlformats.org/officeDocument/2006/relationships/image" Target="../media/image15.jpeg"/><Relationship Id="rId5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ponica.myblog.it/media/02/02/62328725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02560" cy="269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Листая страницы истории</a:t>
            </a:r>
            <a:br>
              <a:rPr sz="5100"/>
            </a:b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(конференция)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7" descr="Картинка 170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3048120"/>
            <a:ext cx="2943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илософские школ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амыми известны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колами был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колы Фалеса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ифагора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лато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i-main-pic" descr="Картинка 85 из 1304"/>
          <p:cNvPicPr/>
          <p:nvPr/>
        </p:nvPicPr>
        <p:blipFill>
          <a:blip r:embed="rId1"/>
          <a:stretch/>
        </p:blipFill>
        <p:spPr>
          <a:xfrm>
            <a:off x="5292720" y="2133720"/>
            <a:ext cx="3287880" cy="4176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11600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5" descr="Картинка 237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алес Милетский(635-548 гг. до н. э.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144" descr="http://pikalova-ms.narod.ru/matematiki/200px-Heron.jpg"/>
          <p:cNvPicPr/>
          <p:nvPr/>
        </p:nvPicPr>
        <p:blipFill>
          <a:blip r:embed="rId1"/>
          <a:stretch/>
        </p:blipFill>
        <p:spPr>
          <a:xfrm>
            <a:off x="1403280" y="1413000"/>
            <a:ext cx="3684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ифаг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61" descr="Картинка 4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784680" cy="573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3" descr="Картинка 27 из 13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413000"/>
            <a:ext cx="4187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исла правят миром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Картинка 45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53290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076"/>
          <p:cNvPicPr/>
          <p:nvPr/>
        </p:nvPicPr>
        <p:blipFill>
          <a:blip r:embed="rId1"/>
          <a:stretch/>
        </p:blipFill>
        <p:spPr>
          <a:xfrm>
            <a:off x="1619280" y="907920"/>
            <a:ext cx="6435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Евкли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25" descr="Картинка 5 из 9905"/>
          <p:cNvPicPr/>
          <p:nvPr/>
        </p:nvPicPr>
        <p:blipFill>
          <a:blip r:embed="rId1"/>
          <a:stretch/>
        </p:blipFill>
        <p:spPr>
          <a:xfrm>
            <a:off x="0" y="-30061080"/>
            <a:ext cx="2676600" cy="3810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Картинка 643 из 1304"/>
          <p:cNvPicPr/>
          <p:nvPr/>
        </p:nvPicPr>
        <p:blipFill>
          <a:blip r:embed="rId2"/>
          <a:stretch/>
        </p:blipFill>
        <p:spPr>
          <a:xfrm>
            <a:off x="0" y="-16586280"/>
            <a:ext cx="2419200" cy="381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http://pikalova-ms.narod.ru/matematiki/200px-Euklid-von-Alexandria.jpg"/>
          <p:cNvPicPr/>
          <p:nvPr/>
        </p:nvPicPr>
        <p:blipFill>
          <a:blip r:embed="rId3"/>
          <a:stretch/>
        </p:blipFill>
        <p:spPr>
          <a:xfrm>
            <a:off x="0" y="-11310840"/>
            <a:ext cx="2857680" cy="3390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Картинка 42 из 1304"/>
          <p:cNvPicPr/>
          <p:nvPr/>
        </p:nvPicPr>
        <p:blipFill>
          <a:blip r:embed="rId4"/>
          <a:stretch/>
        </p:blipFill>
        <p:spPr>
          <a:xfrm>
            <a:off x="0" y="-7920000"/>
            <a:ext cx="3838680" cy="38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pikalova-ms.narod.ru/matematiki/200px-Frans_Hals_-_Portret_.jpg"/>
          <p:cNvPicPr/>
          <p:nvPr/>
        </p:nvPicPr>
        <p:blipFill>
          <a:blip r:embed="rId5"/>
          <a:stretch/>
        </p:blipFill>
        <p:spPr>
          <a:xfrm>
            <a:off x="0" y="6204096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pikalova-ms.narod.ru/matematiki/200px-Francois_Viete.jpg"/>
          <p:cNvPicPr/>
          <p:nvPr/>
        </p:nvPicPr>
        <p:blipFill>
          <a:blip r:embed="rId6"/>
          <a:stretch/>
        </p:blipFill>
        <p:spPr>
          <a:xfrm>
            <a:off x="0" y="69242040"/>
            <a:ext cx="2857680" cy="4314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6"/>
          <p:cNvSpPr/>
          <p:nvPr/>
        </p:nvSpPr>
        <p:spPr>
          <a:xfrm>
            <a:off x="0" y="-666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0" y="-6289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-5967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0" y="-558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0" y="-520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0" y="-4825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0" y="-4445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0" y="-4248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0" y="-390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-3521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-31341960"/>
            <a:ext cx="91440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7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8"/>
              </a:rPr>
              <a:t>                 </a:t>
            </a:r>
            <a:r>
              <a:rPr b="0" lang="ru-RU" sz="12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9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0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1"/>
              </a:rPr>
              <a:t>         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2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-226440" y="-26260560"/>
            <a:ext cx="7096680" cy="9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3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4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5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6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7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8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19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0"/>
              </a:rPr>
              <a:t>Математика – это точная наука, где ошибаться нельз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1"/>
              </a:rPr>
              <a:t>О том куда могут завести  неточные рассуждения, вы узнаете из сцен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2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3"/>
              </a:rPr>
              <a:t>Сценка(готовят учащиеся 7 класса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4"/>
              </a:rPr>
              <a:t>    Встречаются два друга. Один другому говорит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5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6"/>
              </a:rPr>
              <a:t>-Приве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7"/>
              </a:rPr>
              <a:t>-Приве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8"/>
              </a:rPr>
              <a:t>-Ты почему такой хмурый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29"/>
              </a:rPr>
              <a:t>- Да вот решил подсчитать, сколько дней в году мы учимся и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0"/>
              </a:rPr>
              <a:t> оказалось, что всего 5 дней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1"/>
              </a:rPr>
              <a:t> Ходим, ходим в школу, а только 5 целых дней получилос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2"/>
              </a:rPr>
              <a:t> Зачем же мы 4 четверти ходим в школу, когда можно всего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3"/>
              </a:rPr>
              <a:t>5 целых дня отучится и все. Гуляй, веселис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4"/>
              </a:rPr>
              <a:t>-Ты явно чего-то напутал. Как ты рассуждал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5"/>
              </a:rPr>
              <a:t>- Все очень просто. Вот слушай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6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7"/>
              </a:rPr>
              <a:t>        В году 365 дней. Из них 52 – воскресенья, 10 других дней – праздни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8"/>
              </a:rPr>
              <a:t>        Получается: минус 62 дн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39"/>
              </a:rPr>
              <a:t>        Летние и зимние каникулы длятся не менее 100 дне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0"/>
              </a:rPr>
              <a:t>        Еще минус 100 дней. Т.е. уже выпадает 162 дн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1"/>
              </a:rPr>
              <a:t>        Ночью в школу не ходят, а ночи составляют половину года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2"/>
              </a:rPr>
              <a:t>        Т.е. еще 182 дня отпадае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3"/>
              </a:rPr>
              <a:t>        Остается 20 дней. Но ведь занятия продолжаются не более четверти дня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4"/>
              </a:rPr>
              <a:t>        Поэтому еще 15 дней отпадае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5"/>
              </a:rPr>
              <a:t>        Остается всего-навсего 5 дне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6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7"/>
              </a:rPr>
              <a:t>- Да, по-твоему, мы совсем не учимся. За это время многому ли можно научитс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8"/>
              </a:rPr>
              <a:t>Если бы все школьники учились 5 дней в году, то вот так они бы и считали, как ты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49"/>
              </a:rPr>
              <a:t>Наверное, с математикой у тебя не лады!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50"/>
              </a:rPr>
              <a:t>- Да, опять «2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51"/>
              </a:rPr>
              <a:t>- Ну, ничего, приходи к нам на математический кружок и мы найдем твою ошибк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Arial"/>
                <a:ea typeface="Times New Roman"/>
                <a:hlinkClick r:id="rId52"/>
              </a:rPr>
              <a:t>Мы еще не такие задачи там решаем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- Пок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- До встреч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   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5555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-117000" y="-12757320"/>
            <a:ext cx="551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Вот закончилась игра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                                    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Результат узнать по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                                    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Кто же лучше всех трудилс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                                    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Times New Roman"/>
              </a:rPr>
              <a:t>В КВНе отличился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0" y="-790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0" y="-41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51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Rectangle 53"/>
          <p:cNvSpPr/>
          <p:nvPr/>
        </p:nvSpPr>
        <p:spPr>
          <a:xfrm>
            <a:off x="0" y="671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54"/>
          <p:cNvSpPr/>
          <p:nvPr/>
        </p:nvSpPr>
        <p:spPr>
          <a:xfrm>
            <a:off x="0" y="1052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0" y="143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0" y="162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0" y="1975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Rectangle 58"/>
          <p:cNvSpPr/>
          <p:nvPr/>
        </p:nvSpPr>
        <p:spPr>
          <a:xfrm>
            <a:off x="0" y="2356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62" descr="http://pikalova-ms.narod.ru/matematiki/200px-Euklid-von-Alexandria.jpg"/>
          <p:cNvPicPr/>
          <p:nvPr/>
        </p:nvPicPr>
        <p:blipFill>
          <a:blip r:embed="rId53"/>
          <a:stretch/>
        </p:blipFill>
        <p:spPr>
          <a:xfrm>
            <a:off x="1674720" y="1197000"/>
            <a:ext cx="4489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рхиме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21" descr="Картинка 1 из 1313"/>
          <p:cNvPicPr/>
          <p:nvPr/>
        </p:nvPicPr>
        <p:blipFill>
          <a:blip r:embed="rId1"/>
          <a:stretch/>
        </p:blipFill>
        <p:spPr>
          <a:xfrm>
            <a:off x="2033640" y="1947960"/>
            <a:ext cx="50767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5" descr="Archimedes"/>
          <p:cNvPicPr/>
          <p:nvPr/>
        </p:nvPicPr>
        <p:blipFill>
          <a:blip r:embed="rId1"/>
          <a:stretch/>
        </p:blipFill>
        <p:spPr>
          <a:xfrm>
            <a:off x="468360" y="1569960"/>
            <a:ext cx="80643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 однажды в ванной моясь, .погрузился он по пояс, на пол вылилась вода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5" descr="Картинка 1234 из 1312"/>
          <p:cNvPicPr/>
          <p:nvPr/>
        </p:nvPicPr>
        <p:blipFill>
          <a:blip r:embed="rId1"/>
          <a:stretch/>
        </p:blipFill>
        <p:spPr>
          <a:xfrm>
            <a:off x="2916360" y="1989000"/>
            <a:ext cx="39607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конферен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ступительное слово учител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ница первая « Из истории Древнего мир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ница вторая «Галерея великих математиков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ница третья «Восток. Средние век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ница четвёртая «Отрицательные числ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ница пятая» Создание языка алгебры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ухамед  аль -Хорезм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Picture 5" descr="al-Khwarizmi, Muhammad ibn Musa"/>
          <p:cNvPicPr/>
          <p:nvPr/>
        </p:nvPicPr>
        <p:blipFill>
          <a:blip r:embed="rId1"/>
          <a:stretch/>
        </p:blipFill>
        <p:spPr>
          <a:xfrm>
            <a:off x="2705040" y="1557360"/>
            <a:ext cx="319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3" name="Picture 5" descr="Картинка 506 из 1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рицательные чис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28400" y="1214280"/>
            <a:ext cx="7786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ервые  понятия об отрицательных  величинах сложились примерно к 1 в. до н.э. в процессе   решения уравнений. Этому особенно способствовали коммерческие вычисления, в которых отрицательные числа имели наглядный смысл убытка, расхода, недостатка и т. д. Впервые употребили отрицательные числа математики Индии Ариабхата (5 в.) и Брахмагуп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не Декар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7" name="Picture 3" descr="Рене Декарт (1596-1650)"/>
          <p:cNvPicPr/>
          <p:nvPr/>
        </p:nvPicPr>
        <p:blipFill>
          <a:blip r:embed="rId1"/>
          <a:stretch/>
        </p:blipFill>
        <p:spPr>
          <a:xfrm>
            <a:off x="2700360" y="1413000"/>
            <a:ext cx="4594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http://pikalova-ms.narod.ru/matematiki/200px-Francois_Viete.jpg"/>
          <p:cNvPicPr/>
          <p:nvPr/>
        </p:nvPicPr>
        <p:blipFill>
          <a:blip r:embed="rId1"/>
          <a:stretch/>
        </p:blipFill>
        <p:spPr>
          <a:xfrm>
            <a:off x="0" y="69242040"/>
            <a:ext cx="2857680" cy="4314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http://pikalova-ms.narod.ru/matematiki/200px-Francois_Viete.jpg"/>
          <p:cNvPicPr/>
          <p:nvPr/>
        </p:nvPicPr>
        <p:blipFill>
          <a:blip r:embed="rId2"/>
          <a:stretch/>
        </p:blipFill>
        <p:spPr>
          <a:xfrm>
            <a:off x="216000" y="69458040"/>
            <a:ext cx="2857320" cy="4314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http://pikalova-ms.narod.ru/matematiki/200px-Francois_Viete.jpg"/>
          <p:cNvPicPr/>
          <p:nvPr/>
        </p:nvPicPr>
        <p:blipFill>
          <a:blip r:embed="rId3"/>
          <a:stretch/>
        </p:blipFill>
        <p:spPr>
          <a:xfrm>
            <a:off x="431640" y="69673680"/>
            <a:ext cx="2857680" cy="431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pikalova-ms.narod.ru/matematiki/200px-Francois_Viete.jpg"/>
          <p:cNvPicPr/>
          <p:nvPr/>
        </p:nvPicPr>
        <p:blipFill>
          <a:blip r:embed="rId4"/>
          <a:stretch/>
        </p:blipFill>
        <p:spPr>
          <a:xfrm>
            <a:off x="2173320" y="1197000"/>
            <a:ext cx="3576600" cy="54007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9"/>
          <p:cNvSpPr/>
          <p:nvPr/>
        </p:nvSpPr>
        <p:spPr>
          <a:xfrm>
            <a:off x="2000160" y="42876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Франсу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иет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244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ма Вие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орней квадратного уравн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аву достойна в стихах быть воспе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 свойствах корней теорема Вие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лучше, скажи, постоянства такого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ножишь ты корни – и дробь уж готов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ислителе с, в знаменателе 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сумма корней тоже дроби равн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оть с минусом дробь эта, что за беда –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ислителе в, а в знаменателе 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857160" y="925560"/>
            <a:ext cx="87156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ах</a:t>
            </a:r>
            <a:r>
              <a:rPr b="0" lang="ru-RU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+вх+с=0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6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6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=с/а, х</a:t>
            </a:r>
            <a:r>
              <a:rPr b="0" lang="ru-RU" sz="6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6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=-в/а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14200" y="28800"/>
            <a:ext cx="892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ahoma"/>
                <a:ea typeface="Times New Roman"/>
              </a:rPr>
              <a:t>     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Математика владеет не только истиной, но и высшей красотой – красотой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 отточенной и строгой, возвышенно чистой и стремящейся к подлинному совершенству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И мы должны быть благодарны Истории человечества, которая не только подарила миру таких лю­дей как Пифагор, Евклид, Архимед, но и сохранила память о ни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Не будем и мы забывать о них..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рождение алгеб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-468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i-main-pic" descr="Картинка 200 из 1304"/>
          <p:cNvPicPr/>
          <p:nvPr/>
        </p:nvPicPr>
        <p:blipFill>
          <a:blip r:embed="rId1"/>
          <a:stretch/>
        </p:blipFill>
        <p:spPr>
          <a:xfrm>
            <a:off x="755640" y="1413000"/>
            <a:ext cx="76802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 клинописных пластинках и египетских папирусах содержится ряд задач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i-main-pic" descr="Картинка 37 из 1304"/>
          <p:cNvPicPr/>
          <p:nvPr/>
        </p:nvPicPr>
        <p:blipFill>
          <a:blip r:embed="rId1"/>
          <a:stretch/>
        </p:blipFill>
        <p:spPr>
          <a:xfrm>
            <a:off x="900000" y="1844640"/>
            <a:ext cx="7596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Картинка 109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189080"/>
            <a:ext cx="662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пирус Ахме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Куча, её седьмая часть, её целое. Что составляет 19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+1/7Х=19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авило ложного положения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уча это 7. Тогда 1/7 кучи составляет 1, а вместе-8, но по условию должна составить 19. Допущенное значение кучи 7 надо увеличить в 19 раз и уменьшить в 8 раз,т. е. 7*19/8=16 5/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равнения в Древней Гре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95640" y="1484280"/>
          <a:ext cx="4824360" cy="4392720"/>
        </p:xfrm>
        <a:graphic>
          <a:graphicData uri="http://schemas.openxmlformats.org/drawingml/2006/table">
            <a:tbl>
              <a:tblPr/>
              <a:tblGrid>
                <a:gridCol w="2735280"/>
                <a:gridCol w="208908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</a:t>
                      </a:r>
                      <a:r>
                        <a:rPr b="0" lang="ru-RU" sz="4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</a:t>
                      </a:r>
                      <a:r>
                        <a:rPr b="0" lang="ru-RU" sz="40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в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21"/>
          <p:cNvSpPr/>
          <p:nvPr/>
        </p:nvSpPr>
        <p:spPr>
          <a:xfrm>
            <a:off x="3832200" y="423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3633480" y="1676520"/>
            <a:ext cx="8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ав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иофа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i-main-pic" descr="Картинка 9 из 1304"/>
          <p:cNvPicPr/>
          <p:nvPr/>
        </p:nvPicPr>
        <p:blipFill>
          <a:blip r:embed="rId1"/>
          <a:stretch/>
        </p:blipFill>
        <p:spPr>
          <a:xfrm>
            <a:off x="250920" y="1341360"/>
            <a:ext cx="3228840" cy="3924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564000" y="2421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/6х+1/12х+1/7х+5+1/2х+4=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"/>
              </a:rPr>
              <a:t>Великие математик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4:17:44Z</dcterms:created>
  <dc:creator>User</dc:creator>
  <dc:description/>
  <dc:language>en-US</dc:language>
  <cp:lastModifiedBy>Admin</cp:lastModifiedBy>
  <dcterms:modified xsi:type="dcterms:W3CDTF">2013-03-10T16:22:21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