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24E-955F-4956-AC66-187FCBF3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6A0-CC6E-4A76-9231-C038B0A0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AD9-5268-4D58-9F85-12EC3549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8AD-DBB2-43BD-BE2B-09F49048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650D-2C4F-4A80-A5CE-11EBE89F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1D1D-70F2-455E-9E9C-BB31A39E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0DE6-904A-437A-9017-CA396516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B1A2-1316-488E-BEF1-13BFD1F9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3572-01E0-489C-BE64-81F04EA9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DB7E-A8C7-4538-B857-1DF78F2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9CEF-AF3B-4450-9002-D87FF8B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2D4-4A93-45BA-A62B-5B0CBBE9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0344-9658-48BC-A321-8885973C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D3FF-6EE6-40C2-B15E-E29CAB65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3B78-90EA-42CE-AB1A-BD8BE517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F26D-D751-4086-B314-47F2FF13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A455-F2AC-41DA-ABD1-AE6B37C9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51E-1EA4-4E8B-868E-434EAA2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40B-C235-4E75-93BD-6F5A98D9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D2F-50E2-4512-99BB-169E0AA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0A9-BE14-4CBB-B5F7-EFE3D706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B62-57BD-4372-9536-C79D974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605-EEF5-4285-B7BD-A388211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D7A-1CB3-4461-BB99-07A72A00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2250-FE5A-41E8-8F69-53CBC3E6A17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B794-E335-495D-B4A0-057654DDA43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valex.vistcom.ru/obz3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58920" y="620640"/>
            <a:ext cx="676908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Franklin Gothic Medium"/>
              </a:rPr>
              <a:t>РОДИТЕЛЯМ О ПРАВИЛАХ ДОРОЖНОГО ДВИЖЕНИЯ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33336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- Привлекайте ребёнка к участию в ваших наблюдениях за обстановкой на дороге: показывайте ему те машины, которые готовятся поворачивать, едут с большой скоростью и т.д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- Не выходите с ребёнком из-за машины, кустов, не осмотрев предварительно дороги, - это типичная ошибка, и нельзя допускать, чтобы дети её повторял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- Не разрешайте детям играть вблизи дорог и на проезжей части улиц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765440" y="2944800"/>
            <a:ext cx="6905880" cy="391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591160" cy="39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ОБЛЮДАТЬ ПРАВИЛА НЕОБХОДИМО И В АВТОМОБИЛЕ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593880" cy="4737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омните, последствия могут быть ужасными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1189080" y="2133720"/>
            <a:ext cx="6121440" cy="4079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84720" y="2754360"/>
            <a:ext cx="5715000" cy="410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2960" cy="354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140360" y="2906640"/>
            <a:ext cx="4821120" cy="361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410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5580000" cy="35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541440" y="-243000"/>
            <a:ext cx="9685440" cy="726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76360" y="1397160"/>
            <a:ext cx="5543640" cy="363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При создании презентации были использованы ресурсы сайта работников дошкольного работник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ivalex.vistcom.ru/obz3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544500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одготовила Зотьева Мария Олеговн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оспитатель ГБДОУ ЦРР детский сад №29 Красносельского района г. Санкт-Петербург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6360" y="260280"/>
            <a:ext cx="3816360" cy="78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Franklin Gothic Medium"/>
              </a:rPr>
              <a:t>Причиной</a:t>
            </a:r>
            <a:r>
              <a:rPr b="1" lang="en-US" sz="2800" spc="-1" strike="noStrike">
                <a:solidFill>
                  <a:srgbClr val="000066"/>
                </a:solidFill>
                <a:latin typeface="Franklin Gothic Medium"/>
              </a:rPr>
              <a:t> дорожно-транспортных происшествий чаще всего являются сами дети. Приводит к этому незнание элементарных основ правил дорожного движения, безучастное отношение взрослых к поведению детей на проезжей част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26736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27280" y="0"/>
            <a:ext cx="56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ranklin Gothic Medium"/>
              </a:rPr>
              <a:t>Дети не умеют ещё в должной степени управлять своим поведением. Они не в состоянии правильно определить расстояние до приближающейся машины и её скорость, и переоценивают собственные возможности, считают себя быстрыми и ловкими. Избежать этих опасностей можно лишь путём соответствующего воспитания и обучения ребён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16360" y="3925800"/>
            <a:ext cx="4427640" cy="293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Важно знать что могут сами дети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12536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НАЧИНАЯ с 3-4 л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 ребёнок может отличить движущуюся машину от стоящей на месте. О тормозном пути он ещё представления не имеет. Он уверен, что машина может остановиться мгновенно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2997360"/>
            <a:ext cx="5083200" cy="34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4710240" cy="35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0.899999976158142">
                                      <p:cBhvr additive="repl">
                                        <p:cTn id="4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16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16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3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16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549360"/>
            <a:ext cx="77752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НАЧИНАЯ с 6 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- ребёнок всё ещё имеет довольно ограниченный угол зрения: боковым зрением он видит примерно две трети того, что видят взрослые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- большинство детей не сумеют определить, что движется быстрее: велосипед или спортивная машина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- они ещё не умеют правильно распределять внимание и отделять существенное от незначительного. Мяч катящийся по проезжей части, может занять всё их внимани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430440"/>
            <a:ext cx="4572000" cy="3427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27640" y="3411360"/>
            <a:ext cx="4595760" cy="34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9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3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74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74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674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ЛИШЬ НАЧИНАЯ с 7 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дети могут более уверенно отличить правую сторону дороги от лев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229360" cy="392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6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86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14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НАЧИНАЯ с 8 ле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дети уже могут реагировать мгновенно, то есть тут же останавливаться на оклик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они уже наполовину опытные пешеходы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они развивают основные навыки езды на велосипеде. Теперь они постепенно учатся объезжать препятствия, делать крутые повороты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они могут определить, откуда доносится шу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они учатся понимать связь между величиной предмета, его удалённостью и временем. Они усваивают, что автомобиль кажется тем больше, чем ближе он находитс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они могут отказываться от начатого действия, то есть, ступив на проезжую часть, вновь вернуться на тротуар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но они по прежнему не могут распознавать чреватые опасностью ситуац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4427640" cy="42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26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62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10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70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61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986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Важно чтобы родители были примером для детей в соблюдении правил дорожного движения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844640"/>
            <a:ext cx="37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- Не спешите, переходите дорогу размеренным шаго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- Выходя на проезжую часть дороги, прекратите разговаривать - ребёнок должен привыкнуть, что при переходе дороги нужно сосредоточиться</a:t>
            </a:r>
            <a:r>
              <a:rPr b="0" lang="en-US" sz="2000" spc="-1" strike="noStrike">
                <a:solidFill>
                  <a:srgbClr val="eaeaea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30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333360"/>
            <a:ext cx="820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- Не переходите дорогу на красный или жёлтый сигнал светофор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- Переходите дорогу только в местах, обозначенных дорожным знаком "Пешеходный переход"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- Из автобуса, троллейбуса, трамвая, такси выходите первыми. В противном случае ребёнок может упасть или побежать на проезжую часть дорог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2806560"/>
            <a:ext cx="6084720" cy="405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541440" y="2781360"/>
            <a:ext cx="4608720" cy="40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6:21:31Z</dcterms:created>
  <dc:creator>XTreme</dc:creator>
  <dc:description/>
  <dc:language>en-US</dc:language>
  <cp:lastModifiedBy>XTreme</cp:lastModifiedBy>
  <dcterms:modified xsi:type="dcterms:W3CDTF">2013-10-16T05:55:55Z</dcterms:modified>
  <cp:revision>5</cp:revision>
  <dc:subject/>
  <dc:title> </dc:title>
</cp:coreProperties>
</file>