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C971-E19B-402F-89EF-53037ADF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15A-B0F3-4089-862F-FD4EA8DF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5578-CF4C-4132-9C3A-81BF720A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F48-62E1-4535-A4DC-2EEFF5DE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B6F9-F6AE-47BE-AB00-3C45E1E4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6C4C-0506-489B-B2D7-1987484B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D909-FDC4-494B-B797-54CA1929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8813-ADB2-467E-A1C2-CC7B64AC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E401-48DE-4F66-8948-0C694400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B1D2-B2B5-4BB8-82E7-E2A1E60F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D71F-ABC1-4996-8F7D-DB777109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F99-C24F-49E7-A39D-3CA73A5A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DAEA-2453-40E5-AF60-CF6BE220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FB3F-88B0-470E-A731-ECF854B4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BE09-686F-4A1C-903F-93F75852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1B4F-3953-40A7-A15F-9B469620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26CE-92F7-4A39-B7DB-A4B43103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E39-F5E9-453A-A94F-52309EE8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892-3160-4A9C-B949-7FC1BCE7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F20-0587-4E42-9E07-92A89E5A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E224-1957-4148-A975-D24179B8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7B2-4985-4007-9F77-ABBFE797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AAB-2439-48FA-9BCB-AFEFCD2A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5704-BAD3-4BBB-8E55-B68C8C96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0788-E47D-443B-8BF3-419B858307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0B08-62D0-4732-825B-D865582672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Организация обучения школьников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 интеллектуальной недостаточность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86064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им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гиз Ахмадилае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специального коррекцио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а МКОУ «СОШ №1 г.Называев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мской обла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609300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33520" y="189000"/>
            <a:ext cx="711684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Формы обучения в специальной (коррекционной) общеобразовательной школе для детей с нарушением интелл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131840" y="874800"/>
            <a:ext cx="7761240" cy="5829120"/>
            <a:chOff x="1131840" y="874800"/>
            <a:chExt cx="7761240" cy="5829120"/>
          </a:xfrm>
        </p:grpSpPr>
        <p:sp>
          <p:nvSpPr>
            <p:cNvPr id="162" name=""/>
            <p:cNvSpPr/>
            <p:nvPr/>
          </p:nvSpPr>
          <p:spPr>
            <a:xfrm>
              <a:off x="4365720" y="874800"/>
              <a:ext cx="4527360" cy="3427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оллективные (фронтальны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31840" y="988920"/>
              <a:ext cx="2586240" cy="9144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По обхвату детей обучени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31840" y="2246400"/>
              <a:ext cx="2586240" cy="7984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По месту организации обуч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1840" y="3274920"/>
              <a:ext cx="2586240" cy="5716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Традиционные формы обуч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31840" y="4075200"/>
              <a:ext cx="2586240" cy="799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Специальные коррекционные занят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31840" y="5103720"/>
              <a:ext cx="2586240" cy="6876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Сопутствующие (дополнительные) занят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65720" y="6018120"/>
              <a:ext cx="4527360" cy="6843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роки – соревнования, викторины, конкурсы, игры, концерты, праздники, театрализованные уроки, уроки типа КВН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31840" y="6018120"/>
              <a:ext cx="2586240" cy="6858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Нетрадиционные формы обуч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65720" y="1332000"/>
              <a:ext cx="4527360" cy="3427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Группов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65720" y="4941720"/>
              <a:ext cx="4527360" cy="962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онсультации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ополнительные индивидуальные занят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акультативы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Группы выравни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65720" y="3933720"/>
              <a:ext cx="4527360" cy="9414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огопедические занят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ечебная физкультура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итмика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оциально-бытовая ориентиров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65720" y="3274920"/>
              <a:ext cx="4527360" cy="457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рок, экскурсия, предметные уроки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омашняя учебная подготов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65720" y="2817720"/>
              <a:ext cx="4527360" cy="343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нешколь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65720" y="2360520"/>
              <a:ext cx="4527360" cy="343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Школьные (урочные и внеурочны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65720" y="1789200"/>
              <a:ext cx="4527360" cy="3427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ндивидуаль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18080" y="2475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18080" y="29322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18080" y="3618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18080" y="4417920"/>
              <a:ext cx="48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18080" y="54468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18080" y="62467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18080" y="12175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18080" y="1446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18080" y="17892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197720" y="528120"/>
            <a:ext cx="7144920" cy="5957640"/>
            <a:chOff x="1197720" y="528120"/>
            <a:chExt cx="7144920" cy="5957640"/>
          </a:xfrm>
        </p:grpSpPr>
        <p:sp>
          <p:nvSpPr>
            <p:cNvPr id="188" name=""/>
            <p:cNvSpPr/>
            <p:nvPr/>
          </p:nvSpPr>
          <p:spPr>
            <a:xfrm>
              <a:off x="1352880" y="528120"/>
              <a:ext cx="6989760" cy="3718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Урок как основная традиционная форма обучения школьни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28000" y="1397520"/>
              <a:ext cx="2950920" cy="3718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бразователь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28000" y="2514600"/>
              <a:ext cx="2950920" cy="3718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оррекционно-развивающ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28000" y="3135240"/>
              <a:ext cx="4814640" cy="4957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рок сообщения новых знаний (урок первоначального изучения материала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00640" y="1397520"/>
              <a:ext cx="1242000" cy="14889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дачи уро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28000" y="1893600"/>
              <a:ext cx="2950920" cy="3718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спитатель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28000" y="3879720"/>
              <a:ext cx="4814640" cy="4957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рок формирования и закрепления знаний и умений (практический урок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52880" y="3135240"/>
              <a:ext cx="1708560" cy="3350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Тип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уроко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о дидактическим цел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97720" y="1397520"/>
              <a:ext cx="2018880" cy="14889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Функци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уро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84920" y="900360"/>
              <a:ext cx="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16600" y="1645200"/>
              <a:ext cx="31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16600" y="2018160"/>
              <a:ext cx="31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16600" y="2763000"/>
              <a:ext cx="31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6478560" y="1521360"/>
              <a:ext cx="6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478560" y="2018160"/>
              <a:ext cx="6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478560" y="2638080"/>
              <a:ext cx="6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28000" y="4624200"/>
              <a:ext cx="4814640" cy="496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рок обобщения и систематизации знаний (повторительно-обобщающий урок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28000" y="5245200"/>
              <a:ext cx="4814640" cy="4957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роки проверки и оценки знаний, умений и навыков (контрольно-проверочный урок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28000" y="5989680"/>
              <a:ext cx="4814640" cy="3722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омбинированный уро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29760" y="2886840"/>
              <a:ext cx="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61440" y="338256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61440" y="412740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61440" y="487188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61440" y="549252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1440" y="623700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77520" y="900360"/>
              <a:ext cx="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77520" y="2886840"/>
              <a:ext cx="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418040" y="958680"/>
            <a:ext cx="7242120" cy="2736000"/>
            <a:chOff x="1418040" y="958680"/>
            <a:chExt cx="7242120" cy="2736000"/>
          </a:xfrm>
        </p:grpSpPr>
        <p:sp>
          <p:nvSpPr>
            <p:cNvPr id="216" name=""/>
            <p:cNvSpPr/>
            <p:nvPr/>
          </p:nvSpPr>
          <p:spPr>
            <a:xfrm>
              <a:off x="1418040" y="2086200"/>
              <a:ext cx="2091960" cy="16084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водная часть – подготовка учащихся к работе на уроке, включение в учебный процес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85800" y="2086200"/>
              <a:ext cx="2574360" cy="16084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аключительная часть – подведение итогов проделанной работы, снятие напряжения, подготовка к отдыху на перемен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31840" y="2086200"/>
              <a:ext cx="1770480" cy="16084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сновная часть – усвоение и закрепление нового матери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18040" y="958680"/>
              <a:ext cx="7242120" cy="8593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Основные части уро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83560" y="17636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36800" y="17636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73160" y="17636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7636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истема работы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чественная диагност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подготовка педагог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хранительный режим при обуче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ершенствование методов обуч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заимодействие с родителя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144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Организация обучения школьников с интеллектуальной недостаточностью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ы специальных (коррекционных) общеобразовательных учрежде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а под редакцией В.В. Воронков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ики для специальных (коррекционных) школ, допущенных Министерством образования и наук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чие тетради к учебника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 пособия для специальных (коррекционных) шко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алы сайта дефектолог Шишкова М.И., Д. Худенк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4360" y="331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191592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ет вопрос: можно ли прибегать к образованию глухих, слепых и отсталых, которы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-за физического недостатка невозможно в достаточной мере привить знания? -  Отвечаю: из человеческого образования нельзя исключить никого, кроме нечелове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Ян Амос Комен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216000" y="-2700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3280" y="-4932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Характеристика умственно отсталого ребенк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83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тройство мышл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ение процессов ощущения и восприят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тройство вним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ение реч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тройство памя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5537160" y="74232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58920" y="260280"/>
            <a:ext cx="6769080" cy="6253200"/>
            <a:chOff x="1258920" y="260280"/>
            <a:chExt cx="6769080" cy="6253200"/>
          </a:xfrm>
        </p:grpSpPr>
        <p:sp>
          <p:nvSpPr>
            <p:cNvPr id="109" name=""/>
            <p:cNvSpPr/>
            <p:nvPr/>
          </p:nvSpPr>
          <p:spPr>
            <a:xfrm>
              <a:off x="1319040" y="1152360"/>
              <a:ext cx="3090600" cy="7956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Общ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с образовательной школ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19040" y="5173560"/>
              <a:ext cx="3236400" cy="1339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своение учащимися системы знаний о природе, обществе, человеке, его труде, а также приемов самостоятельной деятель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92720" y="1152360"/>
              <a:ext cx="2647440" cy="7956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Специфиче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92720" y="4280040"/>
              <a:ext cx="2647440" cy="7952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фессиональная подготов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58920" y="260280"/>
              <a:ext cx="6769080" cy="446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Задачи специальной (коррекционной) общеобразовательной школ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92720" y="2195640"/>
              <a:ext cx="2647440" cy="7952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оррекция нарушений психофизического развит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92720" y="5472000"/>
              <a:ext cx="2647440" cy="10414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оциальная адаптация и интеграция в общество нормально развивающих люд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92720" y="3238560"/>
              <a:ext cx="2647440" cy="7952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Лечебно-профилактическая рабо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19040" y="2195640"/>
              <a:ext cx="3234960" cy="10411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оздание благоприятных условий для умственного, нравственного, эмоционального и физического развития лич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19040" y="3684600"/>
              <a:ext cx="3234960" cy="10447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ормирование научно-диалектического мировоззр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14560" y="70632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38320" y="189720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38320" y="323856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8320" y="4726080"/>
              <a:ext cx="0" cy="44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64040" y="70632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64040" y="189720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64040" y="398160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64040" y="294012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64040" y="5024520"/>
              <a:ext cx="0" cy="44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318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омплексный подход к процессу обуч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гопед  (обследование, индивидуальные и групповые занят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фектоло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сихоло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984600" y="1297800"/>
            <a:ext cx="7589880" cy="4481280"/>
            <a:chOff x="984600" y="1297800"/>
            <a:chExt cx="7589880" cy="4481280"/>
          </a:xfrm>
        </p:grpSpPr>
        <p:sp>
          <p:nvSpPr>
            <p:cNvPr id="131" name=""/>
            <p:cNvSpPr/>
            <p:nvPr/>
          </p:nvSpPr>
          <p:spPr>
            <a:xfrm>
              <a:off x="1301400" y="1297800"/>
              <a:ext cx="7116120" cy="4741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Педагогическая дифференциация умственно отсталых дет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95160" y="2246400"/>
              <a:ext cx="1579320" cy="1897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 группа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– плохо успевающие школьн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39560" y="2246400"/>
              <a:ext cx="1739520" cy="1897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II групп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– школьники, с трудом успевающие школьную программ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0200" y="2246400"/>
              <a:ext cx="1581840" cy="1897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I групп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– относительно хорошо успевающие школьн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84600" y="2246400"/>
              <a:ext cx="1739880" cy="1897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 групп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– успешно обучающихся школьни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33560" y="1771920"/>
              <a:ext cx="0" cy="47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31120" y="1771920"/>
              <a:ext cx="0" cy="47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88160" y="17719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80240" y="1770840"/>
              <a:ext cx="0" cy="47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86080" y="1771920"/>
              <a:ext cx="0" cy="47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2640" y="4934880"/>
              <a:ext cx="1265760" cy="844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имерн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0-1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99320" y="4934880"/>
              <a:ext cx="1262520" cy="844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имерн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5-3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55280" y="4934880"/>
              <a:ext cx="1264680" cy="844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имерн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35-4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10880" y="4934880"/>
              <a:ext cx="1262520" cy="844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имерн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0-1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75520" y="4143600"/>
              <a:ext cx="0" cy="7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31120" y="4143600"/>
              <a:ext cx="0" cy="7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88160" y="4143600"/>
              <a:ext cx="0" cy="7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86080" y="4143600"/>
              <a:ext cx="0" cy="7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84360" y="879480"/>
            <a:ext cx="8239680" cy="3628800"/>
            <a:chOff x="684360" y="879480"/>
            <a:chExt cx="8239680" cy="3628800"/>
          </a:xfrm>
        </p:grpSpPr>
        <p:sp>
          <p:nvSpPr>
            <p:cNvPr id="151" name=""/>
            <p:cNvSpPr/>
            <p:nvPr/>
          </p:nvSpPr>
          <p:spPr>
            <a:xfrm>
              <a:off x="1169280" y="879480"/>
              <a:ext cx="7272720" cy="8791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Группы умственно отсталых дет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со специфическими особенностя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149600" y="2528280"/>
              <a:ext cx="1774440" cy="1980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т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 нарушениями работоспосо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87360" y="2528280"/>
              <a:ext cx="2100960" cy="1980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ти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 нарушениями зрительного восприятия и пространствен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й ориентиров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84960" y="2528280"/>
              <a:ext cx="1939320" cy="1980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т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 двигатель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ыми нарушения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4360" y="2528280"/>
              <a:ext cx="1938240" cy="1980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 фонетико-фонемати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ческими нарушения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15120" y="1703160"/>
              <a:ext cx="0" cy="82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54800" y="1703160"/>
              <a:ext cx="0" cy="82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18480" y="1703160"/>
              <a:ext cx="0" cy="82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58160" y="1703160"/>
              <a:ext cx="0" cy="82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0-16T17:00:06Z</dcterms:modified>
  <cp:revision>16</cp:revision>
  <dc:subject/>
  <dc:title>Слайд 1</dc:title>
</cp:coreProperties>
</file>