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7172-0491-4A7C-A3D9-98DA6A7F5B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C158-AD1F-43EB-9761-74A119FDA96A}" type="slidenum">
              <a:rPr b="0" lang="ru-RU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7B2F-FBD6-4305-832B-B0BE8311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2E15-1DC9-447E-A5FD-3967D792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613B-8892-45FD-84B2-FD3F7756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B950-3ABE-45E1-A2AC-B33F669F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D7E9-3ED1-4F79-8076-36E27A0A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F149-C85B-426E-860F-ACCA5679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3EF0-E738-469B-B0DF-0719DD85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FE2E-37D2-4604-9FF6-12A72A47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B595-472F-40BC-9CE8-37927B00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1085-C912-475A-A241-91425788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F437-BE12-427F-82A3-EA1D724C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9B70-C264-4803-B0AB-9DE8B3C7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73F7-F466-4C62-96BC-0FA5EE8F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4009-E8FD-4648-8C75-8873AD2F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FF66-45DE-4BC2-AED2-A0DA4BD8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0B28-9C40-4A73-AC79-63B752D4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73F3-CCC7-439F-A6DE-5196B8A8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84D0C-E67E-4CD8-B36E-04026246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BCB12-2B5A-4A34-B764-8E47B1FC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5E801-56CC-42AE-8D38-CD8281A3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81EE5-CD9E-45B5-86CF-B912E0F0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A628E-425A-4C28-BE62-B4AC0D5A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4320-C06A-4C16-974F-05376A94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1A85B-2AFF-4F8E-9112-A43F5D19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54CF8-97A7-4C40-85BE-2FBAC5B9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4692F-A2D4-47C2-A18D-49DC24D9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58979-5AE7-4FFB-A8C2-BDCBF1D5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55367-A32A-4889-B157-6C148213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C890A-7872-47CB-BF73-6BCEF876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EC3F6-204E-4C2F-998E-DB4F41F3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48FD0-B009-46CA-A321-8AD5B86E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B4E81-8534-4180-AC3F-3CED157E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F5ACC-6A45-4BEF-A2EC-4BB9E3E3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E78-7597-409E-AFE3-DC408D24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659B6-6F2E-4FA3-8683-C9E53A56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B3264-47AA-4473-8778-F194CBEC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7AA4C-D4B7-4764-9870-5A45337B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3F1C0-4B01-44DE-B670-16B82DBC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0AAE9-8100-4AEC-AF1F-7433FF1D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8A216-4ACA-4E4C-AE06-B3FD1F23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4ACB5-5D6C-428C-87C0-3C92F135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A1FED-224B-4666-AE3E-1213BAFB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A6303-DBEC-4AE0-9A56-09CDC573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5912F-203B-4F2A-B3F7-6976369E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707B-7410-4140-98C8-3C340405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9CF88-3D9B-43EB-8504-89AB0CD6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2613D-1984-480E-8267-A9F51212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D7C0C-BE61-42AB-A2A6-D73093EF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85439-269E-4B31-82BF-699313DD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DF5FB-410C-4EE0-8DDA-BC55A0C5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4EF39-AA49-4EBF-BF7C-F42523A8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EF7EA-82E0-430D-A386-0EC13D30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B4EA1-AC6B-489C-9200-7628A23F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4D0C4-7FFC-4327-ACEE-1769C310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CCF9C-1D46-4443-96A6-D85DF356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4C3A-188D-48B1-BF07-9E944005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45D55-6767-474A-969A-9BF3D170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C5F3A-CF1F-4B90-BE90-1C5233D9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AB51D-9222-4403-B9B7-76687FCD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7A593-A9E3-4BAB-8201-B28BCAEC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6B819-C977-4A59-828A-250B9333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9A974-894D-41DD-BFEC-DC36205A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C0DD9-E1AB-4C2B-AA53-BB07A965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737C2-21B5-4922-800A-B530D438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9B187-EB9A-4743-8704-699F4A6E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14F11-316D-489C-A6D1-0CE9ABF7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84F2-750F-45F5-9D18-AD8A86DF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6069B-E9AC-4B71-ACCF-6B506322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4948A-F710-4D96-88CF-F4DFBD71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8DD05-D80D-422C-8E89-9549CC09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FE3E5-B477-46B8-A8A3-F808D1FB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FA72C-8179-4FFB-BC94-A4C8523B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6B519-5516-4F91-B387-3ECE17C5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33070-7D80-4E45-AF7A-6E1ABF0A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6BCFE-341C-4C22-B11A-FD3162F2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8FD08-2396-4D32-99AC-4B2ED2E8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5EDFA-DF9C-4427-BDC1-64255E48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A7EC-7665-465B-B03E-858E6C2B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163C4-277B-4F43-A635-68A3DD4D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ABEAF-A02F-4A96-B9BF-9A44469A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567C8-DF3B-45C0-8884-0BE42EC6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94962-F9FA-49AF-AA19-1EED5B8F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32BCD-BBED-436F-A081-6B133AD34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602F-66F1-4DF0-AE06-BDB68835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EA54-EFA1-4C8E-A48B-E3E39647567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E64A-CFD4-40B8-BB8C-06CD439E6A6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2F94-51B3-4928-BC7F-45B850B3C72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3836-45D7-4833-B7CA-41DDB863674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8CA8-08F1-4419-94F0-B39B0643FFE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31F0-C66F-448D-B7E6-270CA26576E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932C-7D14-4D56-9A01-96A9AD6ABD0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Прямоугольник 3" descr=""/>
          <p:cNvPicPr/>
          <p:nvPr/>
        </p:nvPicPr>
        <p:blipFill>
          <a:blip r:embed="rId1"/>
          <a:stretch/>
        </p:blipFill>
        <p:spPr>
          <a:xfrm>
            <a:off x="-1090440" y="785880"/>
            <a:ext cx="11374200" cy="60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TextBox 1"/>
          <p:cNvGrpSpPr/>
          <p:nvPr/>
        </p:nvGrpSpPr>
        <p:grpSpPr>
          <a:xfrm>
            <a:off x="-152280" y="798480"/>
            <a:ext cx="9448560" cy="5383080"/>
            <a:chOff x="-152280" y="798480"/>
            <a:chExt cx="9448560" cy="5383080"/>
          </a:xfrm>
        </p:grpSpPr>
        <p:pic>
          <p:nvPicPr>
            <p:cNvPr id="344" name="TextBox 1" descr=""/>
            <p:cNvPicPr/>
            <p:nvPr/>
          </p:nvPicPr>
          <p:blipFill>
            <a:blip r:embed="rId1"/>
            <a:stretch/>
          </p:blipFill>
          <p:spPr>
            <a:xfrm>
              <a:off x="-152280" y="798480"/>
              <a:ext cx="944856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0" y="949320"/>
              <a:ext cx="9144000" cy="50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6600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5400" spc="-1" strike="noStrike">
                  <a:solidFill>
                    <a:srgbClr val="6600ff"/>
                  </a:solidFill>
                  <a:latin typeface="Times New Roman"/>
                  <a:ea typeface="Times New Roman"/>
                </a:rPr>
                <a:t>1, 2 Polizei       3,4 Offizier</a:t>
              </a:r>
              <a:endParaRPr b="0" lang="en-US" sz="5400" spc="-1" strike="noStrike">
                <a:solidFill>
                  <a:srgbClr val="000000"/>
                </a:solidFill>
                <a:latin typeface="Candar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6600ff"/>
                  </a:solidFill>
                  <a:latin typeface="Times New Roman"/>
                  <a:ea typeface="Times New Roman"/>
                </a:rPr>
                <a:t>5,6 alte Hex     7,8 gute Nacht</a:t>
              </a:r>
              <a:endParaRPr b="0" lang="en-US" sz="5400" spc="-1" strike="noStrike">
                <a:solidFill>
                  <a:srgbClr val="000000"/>
                </a:solidFill>
                <a:latin typeface="Candar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6600ff"/>
                  </a:solidFill>
                  <a:latin typeface="Times New Roman"/>
                  <a:ea typeface="Times New Roman"/>
                </a:rPr>
                <a:t>9, 10 auf Wiedersehen</a:t>
              </a:r>
              <a:endParaRPr b="0" lang="en-US" sz="5400" spc="-1" strike="noStrike">
                <a:solidFill>
                  <a:srgbClr val="000000"/>
                </a:solidFill>
                <a:latin typeface="Candar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6600ff"/>
                  </a:solidFill>
                  <a:latin typeface="Times New Roman"/>
                  <a:ea typeface="Times New Roman"/>
                </a:rPr>
                <a:t>11, 12 böse Wolf</a:t>
              </a:r>
              <a:endParaRPr b="0" lang="en-US" sz="5400" spc="-1" strike="noStrike">
                <a:solidFill>
                  <a:srgbClr val="000000"/>
                </a:solidFill>
                <a:latin typeface="Candar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6600ff"/>
                  </a:solidFill>
                  <a:latin typeface="Times New Roman"/>
                  <a:ea typeface="Times New Roman"/>
                </a:rPr>
                <a:t>13, 14 kleine Maus</a:t>
              </a:r>
              <a:endParaRPr b="0" lang="en-US" sz="5400" spc="-1" strike="noStrike">
                <a:solidFill>
                  <a:srgbClr val="000000"/>
                </a:solidFill>
                <a:latin typeface="Candar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6600ff"/>
                  </a:solidFill>
                  <a:latin typeface="Times New Roman"/>
                  <a:ea typeface="Times New Roman"/>
                </a:rPr>
                <a:t>Ich bin drin und du bist raus</a:t>
              </a:r>
              <a:endParaRPr b="0" lang="en-US" sz="54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Рисунок 2" descr=""/>
          <p:cNvPicPr/>
          <p:nvPr/>
        </p:nvPicPr>
        <p:blipFill>
          <a:blip r:embed="rId1"/>
          <a:stretch/>
        </p:blipFill>
        <p:spPr>
          <a:xfrm>
            <a:off x="168120" y="100080"/>
            <a:ext cx="8964720" cy="67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Рисунок 6" descr=""/>
          <p:cNvPicPr/>
          <p:nvPr/>
        </p:nvPicPr>
        <p:blipFill>
          <a:blip r:embed="rId1"/>
          <a:stretch/>
        </p:blipFill>
        <p:spPr>
          <a:xfrm>
            <a:off x="193680" y="44280"/>
            <a:ext cx="8842320" cy="690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1"/>
          <p:cNvSpPr/>
          <p:nvPr/>
        </p:nvSpPr>
        <p:spPr>
          <a:xfrm>
            <a:off x="539640" y="2852640"/>
            <a:ext cx="813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Berlin Sans FB Demi"/>
              </a:rPr>
              <a:t>Ich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bin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	</a:t>
            </a:r>
            <a:r>
              <a:rPr b="0" lang="en-US" sz="4000" spc="-1" strike="noStrike">
                <a:solidFill>
                  <a:srgbClr val="002060"/>
                </a:solidFill>
                <a:latin typeface="Berlin Sans FB Demi"/>
              </a:rPr>
              <a:t>wir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sind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Berlin Sans FB Demi"/>
              </a:rPr>
              <a:t>Du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bist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	</a:t>
            </a:r>
            <a:r>
              <a:rPr b="0" lang="en-US" sz="4000" spc="-1" strike="noStrike">
                <a:solidFill>
                  <a:srgbClr val="002060"/>
                </a:solidFill>
                <a:latin typeface="Berlin Sans FB Demi"/>
              </a:rPr>
              <a:t>ihr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seid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Berlin Sans FB Demi"/>
              </a:rPr>
              <a:t>Er, sie, es</a:t>
            </a:r>
            <a:r>
              <a:rPr b="0" lang="ru-RU" sz="4000" spc="-1" strike="noStrike">
                <a:solidFill>
                  <a:srgbClr val="002060"/>
                </a:solidFill>
                <a:latin typeface="Berlin Sans FB Demi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ist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	</a:t>
            </a:r>
            <a:r>
              <a:rPr b="0" lang="en-US" sz="4000" spc="-1" strike="noStrike">
                <a:solidFill>
                  <a:srgbClr val="002060"/>
                </a:solidFill>
                <a:latin typeface="Berlin Sans FB Demi"/>
              </a:rPr>
              <a:t>sie, Sie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sind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49" name="Прямоугольник 2" descr=""/>
          <p:cNvPicPr/>
          <p:nvPr/>
        </p:nvPicPr>
        <p:blipFill>
          <a:blip r:embed="rId1"/>
          <a:stretch/>
        </p:blipFill>
        <p:spPr>
          <a:xfrm>
            <a:off x="-274680" y="1328760"/>
            <a:ext cx="95043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Рисунок 1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76260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2" descr=""/>
          <p:cNvPicPr/>
          <p:nvPr/>
        </p:nvPicPr>
        <p:blipFill>
          <a:blip r:embed="rId2"/>
          <a:stretch/>
        </p:blipFill>
        <p:spPr>
          <a:xfrm>
            <a:off x="3780000" y="4076640"/>
            <a:ext cx="18190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TextBox 1"/>
          <p:cNvGrpSpPr/>
          <p:nvPr/>
        </p:nvGrpSpPr>
        <p:grpSpPr>
          <a:xfrm>
            <a:off x="365040" y="1322280"/>
            <a:ext cx="8529840" cy="3975120"/>
            <a:chOff x="365040" y="1322280"/>
            <a:chExt cx="8529840" cy="3975120"/>
          </a:xfrm>
        </p:grpSpPr>
        <p:pic>
          <p:nvPicPr>
            <p:cNvPr id="353" name="TextBox 1" descr=""/>
            <p:cNvPicPr/>
            <p:nvPr/>
          </p:nvPicPr>
          <p:blipFill>
            <a:blip r:embed="rId1"/>
            <a:stretch/>
          </p:blipFill>
          <p:spPr>
            <a:xfrm>
              <a:off x="365040" y="1322280"/>
              <a:ext cx="8529840" cy="39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598320" y="1557360"/>
              <a:ext cx="8064720" cy="34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00000"/>
                  </a:solidFill>
                  <a:latin typeface="Broadway"/>
                </a:rPr>
                <a:t>Die Hausaufgabe </a:t>
              </a:r>
              <a:endParaRPr b="0" lang="en-US" sz="6600" spc="-1" strike="noStrike">
                <a:solidFill>
                  <a:srgbClr val="000000"/>
                </a:solidFill>
                <a:latin typeface="Candar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6600ff"/>
                  </a:solidFill>
                  <a:latin typeface="Broadway"/>
                </a:rPr>
                <a:t>sind  Seite 25, Ubung 3,4,5</a:t>
              </a:r>
              <a:endParaRPr b="0" lang="en-US" sz="66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1219320"/>
            <a:ext cx="3187800" cy="5632200"/>
          </a:xfrm>
          <a:prstGeom prst="rect">
            <a:avLst/>
          </a:prstGeom>
          <a:ln w="0">
            <a:noFill/>
          </a:ln>
        </p:spPr>
      </p:pic>
      <p:pic>
        <p:nvPicPr>
          <p:cNvPr id="356" name="Прямоугольник 2" descr=""/>
          <p:cNvPicPr/>
          <p:nvPr/>
        </p:nvPicPr>
        <p:blipFill>
          <a:blip r:embed="rId2"/>
          <a:stretch/>
        </p:blipFill>
        <p:spPr>
          <a:xfrm>
            <a:off x="4956120" y="1298520"/>
            <a:ext cx="3614760" cy="5638680"/>
          </a:xfrm>
          <a:prstGeom prst="rect">
            <a:avLst/>
          </a:prstGeom>
          <a:ln w="0">
            <a:noFill/>
          </a:ln>
        </p:spPr>
      </p:pic>
      <p:pic>
        <p:nvPicPr>
          <p:cNvPr id="357" name="Прямоугольник 3" descr=""/>
          <p:cNvPicPr/>
          <p:nvPr/>
        </p:nvPicPr>
        <p:blipFill>
          <a:blip r:embed="rId3"/>
          <a:stretch/>
        </p:blipFill>
        <p:spPr>
          <a:xfrm>
            <a:off x="2481120" y="554040"/>
            <a:ext cx="352296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4T18:08:09Z</dcterms:created>
  <dc:creator>Ann</dc:creator>
  <dc:description/>
  <dc:language>en-US</dc:language>
  <cp:lastModifiedBy>Ann</cp:lastModifiedBy>
  <dcterms:modified xsi:type="dcterms:W3CDTF">2013-10-11T19:08:21Z</dcterms:modified>
  <cp:revision>15</cp:revision>
  <dc:subject/>
  <dc:title>Презентация PowerPoint</dc:title>
</cp:coreProperties>
</file>