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8.gif" ContentType="image/gif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5A20-FFDA-4BCD-8325-0CA36BBCE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8C2C-8024-4706-93C7-BF432AC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8B46-92D7-4E66-BB19-D885801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9EB9-BA7C-473C-9A0E-DC1566A25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EBE6-6A55-4DA2-B154-FB9F17D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1145-B44B-44F1-A936-B7DE059C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A36A-C237-4CB1-A008-4F654D4A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EE96-C55E-45DF-837D-CBFB088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64F1-CBBF-4973-8844-0F9D72C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C414-2443-499E-9898-40BBED5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2F5D-57A9-49D8-84AC-F3D6A135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97D5-7ED3-4476-9A35-B8E2BB7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/10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C01DA-F5D0-439F-AE9B-348FFE1CE80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89000"/>
            <a:ext cx="4295880" cy="7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ниципальное общеобразовательное учреждени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яя общеобразовательная школа № 37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спублики Мордавия г.о. Саранск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844640"/>
            <a:ext cx="568800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artika"/>
              </a:rPr>
              <a:t>Пасха в Германии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998960"/>
            <a:ext cx="61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501035"/>
                </a:solidFill>
                <a:latin typeface="Times New Roman"/>
              </a:rPr>
              <a:t>Подготовила:</a:t>
            </a:r>
            <a:r>
              <a:rPr b="0" lang="ru-RU" sz="2000" spc="-1" strike="noStrike">
                <a:solidFill>
                  <a:srgbClr val="265f00"/>
                </a:solidFill>
                <a:latin typeface="Times New Roman"/>
              </a:rPr>
              <a:t> Трякина Александра Николаевна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265f00"/>
                </a:solidFill>
                <a:latin typeface="Times New Roman"/>
              </a:rPr>
              <a:t>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3789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501035"/>
                </a:solidFill>
                <a:latin typeface="Times New Roman"/>
              </a:rPr>
              <a:t>Урок немецкого языка, 5 класс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FA2AFE-A2AC-4188-B594-EE84D624B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56000" y="3610080"/>
            <a:ext cx="4788000" cy="324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89000"/>
            <a:ext cx="73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e Deutschen schmücken mit viel Geschmack ihre Höfe und Gä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321080" cy="453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303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4F5221-5132-400D-A5DD-A318D2380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Schaufenstern sieht man Szenen aus Familienleben der Osterha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Man kauft nette Geschenke fürein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9640" y="2924280"/>
            <a:ext cx="4068720" cy="3527280"/>
            <a:chOff x="539640" y="2924280"/>
            <a:chExt cx="4068720" cy="35272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39640" y="2924280"/>
              <a:ext cx="406872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9640" y="2924280"/>
              <a:ext cx="406872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671640" cy="38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3036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904388-93D5-44BF-98C7-34E9A7E59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-2970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191120" cy="381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381024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3867120"/>
            <a:ext cx="502920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64924" t="39431" r="2885" b="2885"/>
          <a:stretch/>
        </p:blipFill>
        <p:spPr>
          <a:xfrm>
            <a:off x="5292720" y="2349360"/>
            <a:ext cx="2550960" cy="347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 Ostern bekommen die deutschen Kinder Ostereier. Wer bringt die E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in unbekannter Men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e Geschw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e Verwand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in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e Gro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ßel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64924" t="39431" r="2885" b="2885"/>
          <a:stretch/>
        </p:blipFill>
        <p:spPr>
          <a:xfrm>
            <a:off x="5292720" y="2349360"/>
            <a:ext cx="2550960" cy="3473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lches Tier  bringt  den deutschen    Kindern die Ostere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 Der Kucku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Der Wolf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. Die Ma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. Der H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5. Die Ga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6. Der Fuch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. Das Huh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 Das Kanin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üllt die Tabelle an, was richtig oder falsch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628640"/>
          <a:ext cx="7920000" cy="4413240"/>
        </p:xfrm>
        <a:graphic>
          <a:graphicData uri="http://schemas.openxmlformats.org/drawingml/2006/table">
            <a:tbl>
              <a:tblPr/>
              <a:tblGrid>
                <a:gridCol w="790560"/>
                <a:gridCol w="4249800"/>
                <a:gridCol w="1511280"/>
                <a:gridCol w="1368360"/>
              </a:tblGrid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 Sätz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hti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c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s Ei ist ein Ostersymbol in Deutschlan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ern feiert man im Winter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 Eier werden bemalt und geschenkt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 Fuchs, der Hase, der 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n und der Kuckuck sind Ostereierbringer in Deutsch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 Hase ist das Symbol der Fruchtbark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128520"/>
            <a:ext cx="8577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twortet auf die Frag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0488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ann feiert man Ost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as sind die Ostersymbo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emalt man die E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er bringt die Osterei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enkt man einander die Eier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291780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227640" y="16095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337440" y="4581360"/>
            <a:ext cx="2806560" cy="2075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92360" y="4724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4200" y="1143000"/>
            <a:ext cx="85010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ikipedia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google.ru/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www.hanni-has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stern-mit-dem-osterhas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464364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stern in Deutsch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167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981000"/>
            <a:ext cx="822960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604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Times New Roman"/>
                <a:ea typeface="Calibri"/>
              </a:rPr>
              <a:t>Findet im Wortsalat alle Wörter zum Thema “Ostern” und nennt s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349360"/>
          <a:ext cx="7559640" cy="3862440"/>
        </p:xfrm>
        <a:graphic>
          <a:graphicData uri="http://schemas.openxmlformats.org/drawingml/2006/table">
            <a:tbl>
              <a:tblPr/>
              <a:tblGrid>
                <a:gridCol w="3311640"/>
                <a:gridCol w="42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Frühst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Es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Kir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N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ma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Sonn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Wo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T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Fami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Fest der Aufersteh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tec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Sp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Bra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Ke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Früh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Feri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4464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57440" y="1143000"/>
            <a:ext cx="58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0320" y="1096920"/>
            <a:ext cx="100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ir bilden Komposita. </a:t>
            </a:r>
            <a:r>
              <a:rPr b="1" lang="de-DE" sz="3200" spc="-1" strike="noStrike">
                <a:solidFill>
                  <a:srgbClr val="009900"/>
                </a:solidFill>
                <a:latin typeface="Times New Roman"/>
              </a:rPr>
              <a:t>Übersetzt bitte zusammengesetzte Wörter mit dem Wort „Oster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Fe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Ha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N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stern                 die Kerz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Strauß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Sonnt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Gesche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Gebä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3860640"/>
            <a:ext cx="151128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3860640"/>
            <a:ext cx="143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86064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92360" y="1915920"/>
            <a:ext cx="14396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92360" y="2349360"/>
            <a:ext cx="1439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92360" y="3789360"/>
            <a:ext cx="1439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860640"/>
            <a:ext cx="1366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692360" y="3284640"/>
            <a:ext cx="1366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692360" y="2852640"/>
            <a:ext cx="143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10973-3C9C-4AB3-AA66-55A0F2FF1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1628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265f00"/>
                </a:solidFill>
                <a:latin typeface="Times New Roman"/>
              </a:rPr>
              <a:t>Ostern ist ein religiöses F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265f00"/>
                </a:solidFill>
                <a:latin typeface="Times New Roman"/>
              </a:rPr>
              <a:t>Die Christen feiern in dieser Zeit die Auferstehung von Jesus Christus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4148280" cy="58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95640" y="549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A" sz="4000" spc="-1" strike="noStrike">
                <a:solidFill>
                  <a:srgbClr val="77933c"/>
                </a:solidFill>
                <a:latin typeface="Times New Roman"/>
              </a:rPr>
              <a:t>OSTERSYMB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86200" y="3071880"/>
            <a:ext cx="4105440" cy="322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4880" y="1343160"/>
            <a:ext cx="815904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Times New Roman"/>
              </a:rPr>
              <a:t>Symbole der Osterfeier sind die Ostereier und der Oster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Hase ist das Symbol der Fruchtbark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4200" y="3071880"/>
            <a:ext cx="4262400" cy="31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3956040"/>
            <a:ext cx="3168720" cy="290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4f6228"/>
                </a:solidFill>
                <a:latin typeface="Times New Roman"/>
              </a:rPr>
              <a:t>Ostereier werden gefärbt, bemal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4f6228"/>
                </a:solidFill>
                <a:latin typeface="Times New Roman"/>
              </a:rPr>
              <a:t>verziert und bekl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1052640"/>
            <a:ext cx="54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4470480"/>
            <a:ext cx="3598560" cy="2387520"/>
            <a:chOff x="324000" y="4470480"/>
            <a:chExt cx="3598560" cy="238752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24000" y="4470480"/>
              <a:ext cx="3598560" cy="23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4000" y="4470480"/>
              <a:ext cx="3598560" cy="23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2611440" cy="30546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859360" y="1413000"/>
            <a:ext cx="3284640" cy="2376360"/>
            <a:chOff x="5859360" y="1413000"/>
            <a:chExt cx="3284640" cy="237636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859360" y="1413000"/>
              <a:ext cx="32846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59360" y="1413000"/>
              <a:ext cx="328464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340000" y="18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265f00"/>
                </a:solidFill>
                <a:latin typeface="Times New Roman"/>
              </a:rPr>
              <a:t>Das  Ei ist Lebens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3640" y="2492280"/>
            <a:ext cx="2143080" cy="173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203640" y="2492280"/>
            <a:ext cx="2143080" cy="17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2D42A8-B135-4EAD-9731-02E2A398A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3929040" cy="284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Kinder glauben, dass die Osterhasen die Eier bringen. Die kleinen Kinder suchen sie gern im Gar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3357720"/>
            <a:ext cx="4176720" cy="3311280"/>
            <a:chOff x="4572000" y="3357720"/>
            <a:chExt cx="4176720" cy="33112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572000" y="3357720"/>
              <a:ext cx="41767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0" y="3357720"/>
              <a:ext cx="417672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65f00"/>
                </a:solidFill>
                <a:latin typeface="Times New Roman"/>
              </a:rPr>
              <a:t>OSTERSYMB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265f00"/>
                </a:solidFill>
                <a:latin typeface="Times New Roman"/>
              </a:rPr>
              <a:t>Zu den  Ostersymbolen gehören auch das Osternest, der Osterbaum, das Osterfeuer, der Osterlamm, die Osterkerzen, der Osterstrauß und die Osterbl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94804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51640" y="4143240"/>
            <a:ext cx="297792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43080" cy="148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276720" y="3718080"/>
            <a:ext cx="211932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8:26:51Z</dcterms:created>
  <dc:creator>Игорь</dc:creator>
  <dc:description/>
  <dc:language>en-US</dc:language>
  <cp:lastModifiedBy>User</cp:lastModifiedBy>
  <dcterms:modified xsi:type="dcterms:W3CDTF">2013-10-15T17:43:40Z</dcterms:modified>
  <cp:revision>71</cp:revision>
  <dc:subject/>
  <dc:title>Слайд 1</dc:title>
</cp:coreProperties>
</file>