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0F34-7D51-463F-86EC-997AE90D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C68B-9072-476A-A79B-D48888D1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ED2B-88DE-421D-B4CD-6510508D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D96CC-6E72-48CE-A73E-91A70F7A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A2D6-DF58-4C61-B884-6A3D9B26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720C-97EB-42B0-93D7-54C68FDE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C98F-428C-4345-831C-B0BE7E0B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7AE1-B2B0-455C-8D7F-297CA7FC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59AC-59FA-4F83-B07B-CED91F72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5975-12AA-480E-8213-E17B7C55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F3DD-EC9B-4E9F-8C6E-6DA1E8CF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E418-C038-478E-9EF1-F93E38FE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AF69-9A72-4F01-A6E2-C341EED0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880D-0840-4576-B8C0-895227FC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B933-9FF1-4B5D-A9EE-FB1ACD74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7B68-FB66-48A3-A0E2-6C8EBFD5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7C09-678B-4F1C-B605-E9C3921B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940B9-1340-411E-819A-CA5FBF46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F760-B841-4FEE-849F-F4355DFA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ADCB-64AD-4D83-8849-9D93D5B4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B589-1EFC-48D3-BF29-9B078C79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1AFD-82DF-4249-9A77-795D07AE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66AC-E89A-4238-BCC4-1EA73536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6F1B-1103-4585-BC4A-850F6DD8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cc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BF78-A21E-4C76-BC99-C4EF923409B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cc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9536-75F1-447C-BAEB-C73BB84E565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Impact"/>
              </a:rPr>
              <a:t>ПРЕЗЕНТАЦИЯ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82738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учителя начальных клас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МОУ « Ивановская основна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общеобразовательная школа»                          Шматовой Натальи Иванов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Рославль   2010 г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Училис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53006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71516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ети войн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войны и веет холод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войны и пахнет голодо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войны и дыбом вол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чёлках детских седые вол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я омыта слезами детск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ьми советскими и не советск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ая разница, где был под немцам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Дахау, Лидице или в Освенцем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х кровь алеет на лицах мак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ва поникла, где дети плак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войны боль отчаян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сколько надо им мину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лчания!                Л.М. Голодяев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9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еликая Отечественная Война закончилась 65 лет назад, но мы помним тех, кто подарил нам жизнь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270f0028fc09805951e336ebbc9960d6"/>
          <p:cNvPicPr/>
          <p:nvPr/>
        </p:nvPicPr>
        <p:blipFill>
          <a:blip r:embed="rId1"/>
          <a:stretch/>
        </p:blipFill>
        <p:spPr>
          <a:xfrm>
            <a:off x="1332000" y="2565360"/>
            <a:ext cx="6480000" cy="42926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спользуемая литерату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зета « Советская Россия» №28 от 03.02.198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 « Дети  войн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кольная энциклопедия Руссика» . История России 20 в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 viktory.rusop chivts.ru/index.ph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1941-1945 v cvete/pho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417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Impact"/>
              </a:rPr>
              <a:t>Внеклассное мероприятие на тему: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cc"/>
                </a:solidFill>
                <a:latin typeface="Impact"/>
              </a:rPr>
              <a:t>« ДЕТИ   ВОЙНЫ »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22 июня 1941 года началась Великая Отечественная Войн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22 июня 1941 годаОбъявление о начале Великой Отечественной войны. Москва, улица 25-го Октября."/>
          <p:cNvPicPr/>
          <p:nvPr/>
        </p:nvPicPr>
        <p:blipFill>
          <a:blip r:embed="rId1"/>
          <a:stretch/>
        </p:blipFill>
        <p:spPr>
          <a:xfrm>
            <a:off x="250920" y="1773360"/>
            <a:ext cx="4321080" cy="50846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33" name="Picture 11" descr="22 июня 1941 года. "/>
          <p:cNvPicPr/>
          <p:nvPr/>
        </p:nvPicPr>
        <p:blipFill>
          <a:blip r:embed="rId2"/>
          <a:stretch/>
        </p:blipFill>
        <p:spPr>
          <a:xfrm>
            <a:off x="4788000" y="1773360"/>
            <a:ext cx="3960720" cy="50846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Дети и война- это самое скорбное сочетание, какое только можно себе представить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12" descr="1730a69926a9"/>
          <p:cNvPicPr/>
          <p:nvPr/>
        </p:nvPicPr>
        <p:blipFill>
          <a:blip r:embed="rId1"/>
          <a:stretch/>
        </p:blipFill>
        <p:spPr>
          <a:xfrm>
            <a:off x="6156360" y="1844640"/>
            <a:ext cx="2987640" cy="403236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136" name="Picture 14" descr="591153989"/>
          <p:cNvPicPr/>
          <p:nvPr/>
        </p:nvPicPr>
        <p:blipFill>
          <a:blip r:embed="rId2"/>
          <a:stretch/>
        </p:blipFill>
        <p:spPr>
          <a:xfrm>
            <a:off x="2627280" y="1773360"/>
            <a:ext cx="3384720" cy="26398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137" name="Picture 18" descr="Появится льготная категория &quot;Дети войны.  "/>
          <p:cNvPicPr/>
          <p:nvPr/>
        </p:nvPicPr>
        <p:blipFill>
          <a:blip r:embed="rId3"/>
          <a:stretch/>
        </p:blipFill>
        <p:spPr>
          <a:xfrm>
            <a:off x="85680" y="1844640"/>
            <a:ext cx="2398680" cy="43210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138" name="Picture 20" descr="DataLife Engine Версия для печати Фото войны.  Часть 1. "/>
          <p:cNvPicPr/>
          <p:nvPr/>
        </p:nvPicPr>
        <p:blipFill>
          <a:blip r:embed="rId4"/>
          <a:stretch/>
        </p:blipFill>
        <p:spPr>
          <a:xfrm>
            <a:off x="2700360" y="4365720"/>
            <a:ext cx="3311640" cy="24922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Тяжелейшие испытания выпали на долю того поколения детей: бомбёжки, голод, холод, страх потерять родных и самому потеряться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047"/>
          <p:cNvPicPr/>
          <p:nvPr/>
        </p:nvPicPr>
        <p:blipFill>
          <a:blip r:embed="rId1"/>
          <a:stretch/>
        </p:blipFill>
        <p:spPr>
          <a:xfrm>
            <a:off x="250920" y="1700280"/>
            <a:ext cx="4248000" cy="41050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142" name="Picture 6" descr="cda7975dc84a"/>
          <p:cNvPicPr/>
          <p:nvPr/>
        </p:nvPicPr>
        <p:blipFill>
          <a:blip r:embed="rId2"/>
          <a:stretch/>
        </p:blipFill>
        <p:spPr>
          <a:xfrm>
            <a:off x="4716360" y="2060640"/>
            <a:ext cx="4176720" cy="417672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Дети заменили взрослых на заводах и фабриках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748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11" descr="img2"/>
          <p:cNvPicPr/>
          <p:nvPr/>
        </p:nvPicPr>
        <p:blipFill>
          <a:blip r:embed="rId1"/>
          <a:stretch/>
        </p:blipFill>
        <p:spPr>
          <a:xfrm>
            <a:off x="179280" y="1916280"/>
            <a:ext cx="3240360" cy="45370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146" name="Picture 16" descr="l"/>
          <p:cNvPicPr/>
          <p:nvPr/>
        </p:nvPicPr>
        <p:blipFill>
          <a:blip r:embed="rId2"/>
          <a:stretch/>
        </p:blipFill>
        <p:spPr>
          <a:xfrm>
            <a:off x="6227640" y="2060640"/>
            <a:ext cx="2737080" cy="45352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147" name="Picture 19" descr="Дети Великой Отечественной Войны. "/>
          <p:cNvPicPr/>
          <p:nvPr/>
        </p:nvPicPr>
        <p:blipFill>
          <a:blip r:embed="rId3"/>
          <a:stretch/>
        </p:blipFill>
        <p:spPr>
          <a:xfrm>
            <a:off x="3564000" y="2637000"/>
            <a:ext cx="2520720" cy="30970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лужили в действующей арм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12" descr="Сын полка Володя Тарновский с боевыми товарищами в Берлине [2]"/>
          <p:cNvPicPr/>
          <p:nvPr/>
        </p:nvPicPr>
        <p:blipFill>
          <a:blip r:embed="rId1"/>
          <a:stretch/>
        </p:blipFill>
        <p:spPr>
          <a:xfrm>
            <a:off x="250920" y="1557360"/>
            <a:ext cx="4105080" cy="446400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150" name="Picture 17" descr="1255972670_1255965846_27"/>
          <p:cNvPicPr/>
          <p:nvPr/>
        </p:nvPicPr>
        <p:blipFill>
          <a:blip r:embed="rId2"/>
          <a:stretch/>
        </p:blipFill>
        <p:spPr>
          <a:xfrm>
            <a:off x="4716360" y="1628640"/>
            <a:ext cx="4253040" cy="45100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Дети в годы войны были разведчиками, связными в партизанских отрядах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img5"/>
          <p:cNvPicPr/>
          <p:nvPr/>
        </p:nvPicPr>
        <p:blipFill>
          <a:blip r:embed="rId1"/>
          <a:stretch/>
        </p:blipFill>
        <p:spPr>
          <a:xfrm>
            <a:off x="3419640" y="1773360"/>
            <a:ext cx="2857320" cy="41338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154" name="Picture 7" descr="Дети о войне.  "/>
          <p:cNvPicPr/>
          <p:nvPr/>
        </p:nvPicPr>
        <p:blipFill>
          <a:blip r:embed="rId2"/>
          <a:stretch/>
        </p:blipFill>
        <p:spPr>
          <a:xfrm>
            <a:off x="6443640" y="3716280"/>
            <a:ext cx="2521080" cy="27370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155" name="Picture 8" descr="6b86b40be23f"/>
          <p:cNvPicPr/>
          <p:nvPr/>
        </p:nvPicPr>
        <p:blipFill>
          <a:blip r:embed="rId3"/>
          <a:stretch/>
        </p:blipFill>
        <p:spPr>
          <a:xfrm>
            <a:off x="324000" y="2205000"/>
            <a:ext cx="2858760" cy="28814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могали в госпиталя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1255972641_1255965870_15"/>
          <p:cNvPicPr/>
          <p:nvPr/>
        </p:nvPicPr>
        <p:blipFill>
          <a:blip r:embed="rId1"/>
          <a:stretch/>
        </p:blipFill>
        <p:spPr>
          <a:xfrm>
            <a:off x="282600" y="2349360"/>
            <a:ext cx="3718080" cy="41752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sp>
        <p:nvSpPr>
          <p:cNvPr id="159" name="AutoShape 6"/>
          <p:cNvSpPr/>
          <p:nvPr/>
        </p:nvSpPr>
        <p:spPr>
          <a:xfrm>
            <a:off x="1403280" y="2205000"/>
            <a:ext cx="63374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0" name="Picture 9" descr="госпиталь"/>
          <p:cNvPicPr/>
          <p:nvPr/>
        </p:nvPicPr>
        <p:blipFill>
          <a:blip r:embed="rId2"/>
          <a:stretch/>
        </p:blipFill>
        <p:spPr>
          <a:xfrm>
            <a:off x="4175280" y="1484280"/>
            <a:ext cx="4968720" cy="455940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6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6:42:22Z</dcterms:created>
  <dc:creator>Школа</dc:creator>
  <dc:description/>
  <dc:language>en-US</dc:language>
  <cp:lastModifiedBy>admin</cp:lastModifiedBy>
  <dcterms:modified xsi:type="dcterms:W3CDTF">2013-10-16T13:15:42Z</dcterms:modified>
  <cp:revision>6</cp:revision>
  <dc:subject/>
  <dc:title>Выпускная работа</dc:title>
</cp:coreProperties>
</file>