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camera.wav" ContentType="audio/x-wav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053-1597-4640-AA3C-24E5F341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E33-EC2F-4BDA-B01F-EC45E73D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6D562-1FCB-4643-B2A3-90F8A4E3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CC06C-4EA9-4C1D-B1B5-3D9FAB7F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CB50C-8E22-41E6-8A7F-8619D5B5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43F51-79C9-4BBD-8659-DA33EBB5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C2380-9591-4C1B-8C3B-FBB94831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9F42C-7C85-40E2-9226-7269843F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63E64-D20B-4E4B-8EAA-8ACB9D4E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994B6-2848-4204-8351-4E7420C5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45124-9AD7-49A2-9FDC-DA666AB6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53D16-6815-4A79-83E8-906A8F92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2F1-3C16-4763-8554-8A3959D0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AA832-23A1-4517-AB9B-52F098A5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6B705-2C21-4180-8666-0668C2E5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F0D29-32F1-4A6F-B833-86817685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6ED83-FA56-499F-BDA8-61648458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B61FD-A944-45D8-B464-204B82E0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999F7-2BB8-40ED-A489-DC6A87F7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7B920-D0F0-4AD5-AB0C-64D688B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0A97B-8B81-487D-9FDD-77BDAE34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7424B-0ED7-4B42-85B0-DD16A1EE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0D9D0-B39D-4D9D-83C8-4827DE0C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363-7870-4B12-9A20-23759D32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D449E-4D73-4D14-9E59-5390EF34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E1991-D1D4-4DB5-BA41-683CCDFB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12BEC-96FA-493D-BB00-8A6A6601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9AFEA-FEFF-44A9-8705-F00020AC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16414-512C-4BC6-8E3D-80041160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5ED94-5EB7-4CCA-A051-74C8C355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BC66F-55E1-47FE-B503-328D9886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18D7E-F8D8-4815-B390-5626694C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9126B-28CF-46D4-AE8D-5E1B2401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A86AE-0BA2-43F3-AEDD-C9A05F04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18FA-4A34-4C60-929D-8C4EC54E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EFE2C-272F-4349-A1D2-159CF6CA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534D9-E033-41C3-85B8-BA91938A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5B9EB-A277-41E5-B99D-B08B3705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32C7F-F4F2-4863-9E17-66D07D3A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608A7-A3DC-4594-AAA2-9EDC7CE6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14FD3-6FD9-4D3C-A9E7-61A53A35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FE5DE-D704-499D-9C5D-AC25AD47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0F2D6-57F8-4EC3-88F9-4A94C2FD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07C70-26C7-4789-97D6-A1B07130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B8C89-48B9-44BC-9B84-73903F49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B476-284B-4707-97DB-3CA82C83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A74F8-663B-4657-8E11-61A2D8EF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6F2D0-3311-42EB-BA56-F3FE6035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EE185-E5FC-4ECE-825D-478F50F9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68F8F-042A-4295-9379-0CD7A2F8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9B382-A71B-48C2-BD09-21B3DC99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739C1-48ED-436A-8C29-B2CCEFD5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1CD12-93AB-45D9-9159-7749C5AA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86AAC-6E2D-4954-9CBF-3B9AF741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7FC27-8C28-48E7-B55A-C816A115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94980-DB2B-4DC9-B719-62C9D537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E822-DC33-460B-BEBB-FDBE0ACB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FBC37-B9E7-441A-ADD1-07875C06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FA04F-6343-402B-AAF3-F1085751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5FB36-55E0-4EFF-A6B1-75B8D69A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E7445-C252-4939-BDBE-50A8F52F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94FF6-F03D-4050-BC64-C1AD86DB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73C5F-7262-410F-BC9F-92070781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A3CC9-B0ED-4D30-8D74-4C0471D6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AA5DE-158A-4C26-9A46-1AB68763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2BF60-BCB0-43D0-B5B2-97EDC6D9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015BD-7444-45FF-B05E-D5B69A54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5250-60E2-4B2A-A588-67715C03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D8341-FC9B-4CDA-BD10-2EFA53FB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7D097-6DB7-46ED-B1B6-8F4D75E9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77FA5-BBC5-4198-B33A-348F72EC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7A47D-53C6-4884-8C22-4573C2C9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627E8-C6B5-4E3E-8E87-7D5ECB04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23D88-3799-4893-8C32-7F841E0D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55F67-78FC-4A02-909E-72754CA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6CF33-8D71-40A9-AC2C-951BFA46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D2277-BF75-4709-BB7A-7A9FE7B9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81F5F-FE5D-4864-A90C-6BADAD59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B246-0140-4EE7-B369-92F8227E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F72FC0-EC43-4027-992A-D9DE705D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9D8FBA-9B97-4CC5-AFC4-4A3E5C5C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5DFEC-D8DF-4240-9D5D-0692C7E8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DC6EF7-8432-4677-AE4D-942924E6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97E7E-C9AF-41F6-B352-F73F97E7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F0BC3-48CE-44F3-9247-A32E0FF7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3CBD5-E12F-4134-B796-221D0176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54F3F4-F0B3-43DD-AB6E-57FF2342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A7D28-5F2D-4A54-B6FC-9529A15D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A54E2-04E4-4129-BEC8-64680A66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B52F-799A-40A5-83E7-E414A4D5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114A0-11D7-4460-A68A-4FFF2D90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A86F5B-F7C2-4E5C-A007-ABE0DBED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F1C31-DC30-4559-AC87-518CB2D3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D2068-DDC4-4FB5-A5AF-5EF7B257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F9A27-37EB-40A0-B1B8-37DAD506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0350C-7C2A-442C-AEA8-8455B197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0DB0CD-36F4-472D-B4B2-06CE18D3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D16351-6BDA-41BD-BBB5-65086D1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E9DE7-A22C-4B7E-B075-C50AC901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999BFB-AC90-497D-9AE8-A4944C5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6590-91CA-4D99-B975-A4ADCC52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9C2A0-6A47-4495-9B1A-BBEFF600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9887FE-FEB7-4501-9580-3BBA0DE7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E6099-788A-4779-8C8E-ACB33FA9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09F11-D78E-45BC-A36C-D34A424F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2FD4A-FCA0-4A43-8A99-AD1E114E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743A9-D9CF-4BBF-8DEC-7FFE652C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F97A0-68F0-4E98-89E9-7D93B649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6D0B1-3A76-4C62-9E62-3B5462C0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26A34-9F63-4810-9335-F71DEE47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491A9-F5FD-4939-9E42-8911B86B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CDB-35E8-4B25-8AE6-B4732757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E6E3-4B99-4008-9C4E-0E90AA4A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A8D5A-84E5-4630-BDB1-338D40C1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BD7A3-2486-470F-9088-24CB0735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343C6-337D-476B-BAE5-BB3AF4ED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4ADEF8-59EC-4F8C-BF4B-C0862CAB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5F337C-C73C-4D9F-9F57-B0D0D3AA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7BA6D-EDA8-4A00-A253-70B105F4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FDB95E-1565-474F-B0FA-C18B6336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012825-ED95-4664-9B18-8A0D9B84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F4D634-0164-4E97-9E76-E01C6085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3D5DF-6DB4-49F3-BF90-B7A06CAC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5B56-2CE2-42AE-8B9B-F6F1B3D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F30D4-733F-4514-BFB9-5D78C04B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70BD6-8F23-4C6D-A7CF-A30E81E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99B128-E770-4488-9C23-83BBC160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A55C95-623C-46F4-B194-4F3E116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6877B-ADA1-4A88-B51E-E13F183D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DD3B45-7558-4F56-BDB3-57968657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76561B-331C-413E-A1C8-8657F81B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3AC1-89DC-413C-81DD-CC430C93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F07F-AEE1-4DD4-8139-52C79727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887E-1AE3-4190-8D9B-82445170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6887F-12A7-4963-A2ED-6819B82F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38D0-0354-4F31-B2BB-FB479A9D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9F23-222F-4693-BDDE-CE3588B2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82D5-85B3-481B-837D-FBE17A5E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0344-1FE2-41C6-8F8B-F3498A1D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AE1-69BA-4A41-AF2B-0C29018A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06EB1-1AB9-4021-B1D1-7FA588EC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10FC-A195-4420-A6A4-6A97A16D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C4CA-C811-4A9A-A442-6C4C202F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6F01-DC1D-4942-810B-3EA92E43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3C77-B760-443A-BC10-D93A41AB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F7D4-3647-495D-BFEA-5C7E9C70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758D5-0033-4D29-8301-EA259B02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5298D-687B-4CE6-9504-8FCE1A4E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2EF8E-3204-4545-893E-11AFF8C4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878EC-9D0A-4F67-AF74-051A21DF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1BC-A769-406D-ADC1-9234D5CE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48E85-03BA-4186-9FCA-C5795187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B40C-A4EB-43DD-A913-69D0E817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6B8C6-E9CD-4AA7-A2AF-E0F97DD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97ABB-B5F9-48E8-860E-B30B598C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23722-50AC-4B1D-A819-7C0D7303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459D-961C-40FC-AC32-8532529D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0890F-C6D8-4AD8-BB1E-A9D2E76E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AC1BC-9679-44CB-954E-9E5A35FF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F541-B606-4ED9-BF67-56A1C9FD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3415A-E6C7-44B4-B203-F0779A43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732-94D7-477E-BE5D-C73F7115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6D6E2-6B18-4314-82EC-BDC7DA4C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9B57C-1781-4F1C-B002-EDE6A410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7BF2C-2769-4025-A14A-65877E6D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F39AF-80E6-4E2D-BFA1-D179B4AA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0C24A-B51F-4E44-9CCE-8103EF7F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6131A-525E-4E64-8711-14F49389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1F74-6DB4-48DE-9320-F12CBB60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1BB6C-14FF-414B-8BBF-7C965AB4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467B8-42FD-4F6B-9BFC-067CEE70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3A795-CB5B-4C34-97A1-66693D84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B6A-7FBB-4C05-AA89-E869B558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0FCD5-502F-4343-90EF-9A631192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EB043-4E29-4A9C-9887-370F2D81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881F7-5746-45EC-8CBA-870F2132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08BB8-ADBC-4EEE-9946-8FD58E22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F4B68-7610-44DF-9800-252CFBC6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1AECC-6EBC-4ABB-9676-FC833356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56463-7822-46CF-A7B2-BFFF7CE7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FF72D-B26B-455C-A5E5-DF1AD4B2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6BE19-203F-46FF-8428-1EA19F1B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CDA07-7521-4F2A-98DA-AE472E07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79D-D5E7-4E0B-B5B7-F0F5B65E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F120-2E5F-47DB-846B-2EDB6819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0B2EB-E0CA-4A1C-9023-BDD1C104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8C99B-AA8C-497E-9B65-33973EB5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DE717-C3F8-4EE1-99D8-BE871ABD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0B983-7DBE-4ED5-B364-74C35A9E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F366D-B5E3-4106-BC4D-CBA6CAB9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E5851-9411-48B3-93A6-42951BD0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07A95-C5C0-41D6-9FDD-CC6AA4FE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D36A9-CC1C-4E42-BDB9-AC632E8E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D1BE8-6D8E-4F09-9B3F-E68A90CD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D52-65B4-4799-B172-36A30685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79CD0-DD97-49D9-A682-17CADA29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1AD37-D081-48B9-8D46-99867341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62376-6A7E-44DA-9E5D-C538A16C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2DA04-9C38-4687-B336-994A6A96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DED5C-603E-443F-BF33-4B0DC076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ABFA0-8F7F-4947-A4A1-1035E49A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3C482-B687-432A-8590-540DC9A6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A085A-D0DF-4BC5-9819-E399BDC8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71134-D711-4A58-A72D-331B0A3D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D701F-8A11-41BA-9919-B71C3B7C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3ED-B253-425C-BF56-66A9BB24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1C189-E5BB-40F2-9889-313469F4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CDC5A-57D3-4F49-95AF-7D85B97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9181F-FA16-4A5C-88D7-F7FF205E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A0137-567A-437D-9E47-4F2AC4D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36FE6-2468-4D99-889F-201B90E5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B7BC5-8762-45DD-AC3F-B5D8EDE4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48774-3F14-45E8-8AE3-33049564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8FDEF-D6FF-4D5C-ABD2-0CEDC13A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4FF80-F2E1-4996-BAAD-3400A05F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D42FF-2697-4926-819F-D351CB48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7099-F7B7-47D4-A3C5-315D7739AE5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6B61-CBB4-4AEA-BE57-23F2B1D018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46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47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48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49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4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5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6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7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8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9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0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80BD-729A-4F55-AAAA-FC4E716A36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0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1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1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1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1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1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1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1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1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AB86-F6E8-4BD0-8F32-1FCA336FF8F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3031-A9AB-4B03-A6DC-78ACF9040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0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3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3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3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3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3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3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3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3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3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3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4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4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F7F7-565A-42DA-9C56-22C5E0F686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8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61B6-4EC9-4A8D-BA07-F5E9383FD6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4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4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4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4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4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4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5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5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5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5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5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5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95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5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5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6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6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6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6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6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6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6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6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6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6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7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7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7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7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7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7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7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7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7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7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8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8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2DDD-E083-4774-BC8B-8EDE8E51C2D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1024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25" name="Rectangle 4"/>
            <p:cNvSpPr/>
            <p:nvPr/>
          </p:nvSpPr>
          <p:spPr>
            <a:xfrm>
              <a:off x="0" y="61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26" name="Rectangle 5"/>
            <p:cNvSpPr/>
            <p:nvPr/>
          </p:nvSpPr>
          <p:spPr>
            <a:xfrm>
              <a:off x="7953480" y="6120"/>
              <a:ext cx="1203120" cy="68515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1027" name="Group 6"/>
            <p:cNvGrpSpPr/>
            <p:nvPr/>
          </p:nvGrpSpPr>
          <p:grpSpPr>
            <a:xfrm>
              <a:off x="7848720" y="-360"/>
              <a:ext cx="1295280" cy="6310440"/>
              <a:chOff x="7848720" y="-360"/>
              <a:chExt cx="1295280" cy="6310440"/>
            </a:xfrm>
          </p:grpSpPr>
          <p:grpSp>
            <p:nvGrpSpPr>
              <p:cNvPr id="1028" name="Group 7"/>
              <p:cNvGrpSpPr/>
              <p:nvPr/>
            </p:nvGrpSpPr>
            <p:grpSpPr>
              <a:xfrm>
                <a:off x="8381880" y="-360"/>
                <a:ext cx="762120" cy="2275560"/>
                <a:chOff x="8381880" y="-360"/>
                <a:chExt cx="762120" cy="2275560"/>
              </a:xfrm>
            </p:grpSpPr>
            <p:grpSp>
              <p:nvGrpSpPr>
                <p:cNvPr id="1029" name="Group 8"/>
                <p:cNvGrpSpPr/>
                <p:nvPr/>
              </p:nvGrpSpPr>
              <p:grpSpPr>
                <a:xfrm>
                  <a:off x="8713800" y="-360"/>
                  <a:ext cx="279360" cy="276120"/>
                  <a:chOff x="8713800" y="-360"/>
                  <a:chExt cx="279360" cy="276120"/>
                </a:xfrm>
              </p:grpSpPr>
              <p:grpSp>
                <p:nvGrpSpPr>
                  <p:cNvPr id="1030" name="Group 9"/>
                  <p:cNvGrpSpPr/>
                  <p:nvPr/>
                </p:nvGrpSpPr>
                <p:grpSpPr>
                  <a:xfrm>
                    <a:off x="8713800" y="-360"/>
                    <a:ext cx="279360" cy="276120"/>
                    <a:chOff x="8713800" y="-360"/>
                    <a:chExt cx="279360" cy="276120"/>
                  </a:xfrm>
                </p:grpSpPr>
                <p:sp>
                  <p:nvSpPr>
                    <p:cNvPr id="1031" name="Freeform 10"/>
                    <p:cNvSpPr/>
                    <p:nvPr/>
                  </p:nvSpPr>
                  <p:spPr>
                    <a:xfrm rot="16200000">
                      <a:off x="8752680" y="-39240"/>
                      <a:ext cx="201600" cy="279360"/>
                    </a:xfrm>
                    <a:custGeom>
                      <a:avLst/>
                      <a:gdLst>
                        <a:gd name="textAreaLeft" fmla="*/ 0 w 201600"/>
                        <a:gd name="textAreaRight" fmla="*/ 201960 w 2016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32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033" name="Oval 12"/>
                  <p:cNvSpPr/>
                  <p:nvPr/>
                </p:nvSpPr>
                <p:spPr>
                  <a:xfrm rot="16200000">
                    <a:off x="8833320" y="1353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4" name="Freeform 13"/>
                  <p:cNvSpPr/>
                  <p:nvPr/>
                </p:nvSpPr>
                <p:spPr>
                  <a:xfrm rot="16200000">
                    <a:off x="8767080" y="7200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5" name="Freeform 14"/>
                  <p:cNvSpPr/>
                  <p:nvPr/>
                </p:nvSpPr>
                <p:spPr>
                  <a:xfrm rot="16200000">
                    <a:off x="883800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6" name="Freeform 15"/>
                  <p:cNvSpPr/>
                  <p:nvPr/>
                </p:nvSpPr>
                <p:spPr>
                  <a:xfrm rot="16200000">
                    <a:off x="8907480" y="1090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7" name="Freeform 16"/>
                  <p:cNvSpPr/>
                  <p:nvPr/>
                </p:nvSpPr>
                <p:spPr>
                  <a:xfrm rot="16200000">
                    <a:off x="8833320" y="19764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8" name="Freeform 17"/>
                  <p:cNvSpPr/>
                  <p:nvPr/>
                </p:nvSpPr>
                <p:spPr>
                  <a:xfrm rot="16200000">
                    <a:off x="8781840" y="17280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103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4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4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9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9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3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4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5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47" name="Group 26"/>
              <p:cNvGrpSpPr/>
              <p:nvPr/>
            </p:nvGrpSpPr>
            <p:grpSpPr>
              <a:xfrm>
                <a:off x="7848720" y="1604880"/>
                <a:ext cx="828720" cy="4705200"/>
                <a:chOff x="7848720" y="1604880"/>
                <a:chExt cx="828720" cy="4705200"/>
              </a:xfrm>
            </p:grpSpPr>
            <p:pic>
              <p:nvPicPr>
                <p:cNvPr id="104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48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6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8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3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9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8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3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0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67" name="Freeform 46"/>
            <p:cNvSpPr/>
            <p:nvPr/>
          </p:nvSpPr>
          <p:spPr>
            <a:xfrm>
              <a:off x="7953480" y="4910400"/>
              <a:ext cx="1190520" cy="193788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7880"/>
                <a:gd name="textAreaBottom" fmla="*/ 1938240 h 193788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68" name="Freeform 47"/>
            <p:cNvSpPr/>
            <p:nvPr/>
          </p:nvSpPr>
          <p:spPr>
            <a:xfrm>
              <a:off x="7939080" y="4859640"/>
              <a:ext cx="1219320" cy="1998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8000"/>
                <a:gd name="textAreaBottom" fmla="*/ 1998360 h 199800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69" name="Freeform 48"/>
            <p:cNvSpPr/>
            <p:nvPr/>
          </p:nvSpPr>
          <p:spPr>
            <a:xfrm>
              <a:off x="7927920" y="2821320"/>
              <a:ext cx="1231920" cy="40330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3080"/>
                <a:gd name="textAreaBottom" fmla="*/ 4033440 h 40330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70" name="Freeform 49"/>
            <p:cNvSpPr/>
            <p:nvPr/>
          </p:nvSpPr>
          <p:spPr>
            <a:xfrm>
              <a:off x="8010360" y="3541320"/>
              <a:ext cx="979560" cy="21823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2320"/>
                <a:gd name="textAreaBottom" fmla="*/ 2182680 h 218232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71" name="Freeform 50"/>
            <p:cNvSpPr/>
            <p:nvPr/>
          </p:nvSpPr>
          <p:spPr>
            <a:xfrm>
              <a:off x="8244000" y="432720"/>
              <a:ext cx="914400" cy="5043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72" name="Freeform 51"/>
            <p:cNvSpPr/>
            <p:nvPr/>
          </p:nvSpPr>
          <p:spPr>
            <a:xfrm>
              <a:off x="8250120" y="268200"/>
              <a:ext cx="909720" cy="306828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8280"/>
                <a:gd name="textAreaBottom" fmla="*/ 3068640 h 306828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73" name="Freeform 52"/>
            <p:cNvSpPr/>
            <p:nvPr/>
          </p:nvSpPr>
          <p:spPr>
            <a:xfrm>
              <a:off x="7943760" y="6120"/>
              <a:ext cx="576360" cy="33494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9440"/>
                <a:gd name="textAreaBottom" fmla="*/ 3349800 h 33494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74" name="Freeform 53"/>
            <p:cNvSpPr/>
            <p:nvPr/>
          </p:nvSpPr>
          <p:spPr>
            <a:xfrm>
              <a:off x="7943760" y="7560"/>
              <a:ext cx="300240" cy="334980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75" name="Rectangle 54"/>
            <p:cNvSpPr/>
            <p:nvPr/>
          </p:nvSpPr>
          <p:spPr>
            <a:xfrm>
              <a:off x="7866000" y="7560"/>
              <a:ext cx="88920" cy="68515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76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77" name="AutoShape 56"/>
            <p:cNvSpPr/>
            <p:nvPr/>
          </p:nvSpPr>
          <p:spPr>
            <a:xfrm rot="5400000">
              <a:off x="4327200" y="3319200"/>
              <a:ext cx="6851520" cy="225360"/>
            </a:xfrm>
            <a:custGeom>
              <a:avLst/>
              <a:gdLst>
                <a:gd name="textAreaLeft" fmla="*/ 667440 w 6851520"/>
                <a:gd name="textAreaRight" fmla="*/ 6184080 w 68515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BC03-9D50-442C-9093-FCA4E0A973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12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2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2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2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112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2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2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2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2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2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grpSp>
        <p:nvGrpSpPr>
          <p:cNvPr id="113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131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32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33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113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13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3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3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3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3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114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BA51-9111-4EC9-BB7D-818513B23A7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660F-CC24-4813-8D4A-8EA493BC598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5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8BF5-7AE1-43EA-8ED8-96F0CADA6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6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9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9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9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9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9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6351-8059-4951-8C1B-F117A442D1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4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6D92-4397-435C-AA3E-EC00A92FBF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0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3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D060-178A-40ED-9719-A215FE2DCEB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8023-6A7E-4415-9C61-2F14EBF9A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2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2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2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2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43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2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3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4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43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4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6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6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6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6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6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7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7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7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7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7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7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EC15-7045-403A-8E34-FFB256AF68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9E7D-4007-45E2-9318-32B02E79414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2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3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3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3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3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3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4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4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grpSp>
            <p:nvGrpSpPr>
              <p:cNvPr id="54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4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4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4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4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4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4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5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5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5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5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555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556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55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grpSp>
            <p:nvGrpSpPr>
              <p:cNvPr id="558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559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60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61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62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63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64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65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66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ттестационная работа на тему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богащение и активизация словаря дете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-3 лет»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 : учитель-логопе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инова Елена Геннадьев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трольный эксперимен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бота проводилась путём проведения сравнительного анализа контрольной и экспериментальной групп по следующим направлениям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нимание сути художественного произведения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мение выразительно, логически и последовательно пересказывать отрывок из произведения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лно и чётко отвечать на поставленные вопросы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пользование грамматически правильно выстроенных языковых конструкций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ктивное участие в процессе заняти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ru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 позитивных        изменениях  вследствие проделанной нами работы свидетельствует тот факт, что в экспериментальной группе число детей с высоким уровнем обогащения и активизации словаря на 20 % больше, со средним и низким на 10 % и 10 % меньше, чем в контрольно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12" name="Object 4"/>
          <p:cNvGraphicFramePr/>
          <p:nvPr/>
        </p:nvGraphicFramePr>
        <p:xfrm>
          <a:off x="4648320" y="1219320"/>
          <a:ext cx="403848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219320"/>
                    <a:ext cx="40384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4"/>
          <p:cNvSpPr/>
          <p:nvPr/>
        </p:nvSpPr>
        <p:spPr>
          <a:xfrm>
            <a:off x="380880" y="841680"/>
            <a:ext cx="85345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ahoma"/>
              </a:rPr>
              <a:t>Заключение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Педагогический эксперимент показал, что систематическое использование практического взаимодействия детей друг с другом и логопедом, т.е. драматизация с использованием пальчиковых игр, благотворно влияет на уровень эффективности обогащения и активизации словаря и повышения речевой активности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Таким образом, индивидуальный подход на занятиях по развитию речи, выраженный в элементах драматизации с использованием пальчиков и кистей рук, является эффективным средством  обогащения и активизации словаря  детей 2-3 летнего возраста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cover dir="ru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4"/>
          <p:cNvSpPr/>
          <p:nvPr/>
        </p:nvSpPr>
        <p:spPr>
          <a:xfrm>
            <a:off x="2819520" y="340200"/>
            <a:ext cx="6019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«Если в мире есть вещи,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остойные названия «чудо»,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о слово, бесспорно, первая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 самая чудесная из них.»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ев Успенский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5" name="Прямоугольник 2"/>
          <p:cNvSpPr/>
          <p:nvPr/>
        </p:nvSpPr>
        <p:spPr>
          <a:xfrm>
            <a:off x="1143000" y="373392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ель  -  выбрать и применить на практике работу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 обогащению и активизации словаря детей 2-3 летнего возраста.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cover dir="ru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4"/>
          <p:cNvSpPr/>
          <p:nvPr/>
        </p:nvSpPr>
        <p:spPr>
          <a:xfrm>
            <a:off x="228600" y="548640"/>
            <a:ext cx="86104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Задачи</a:t>
            </a: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1 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Изучить научную литературу по проблеме обогащения и активизации словаря детей 2-3 летнего возраста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2. Выбрать и применить на практике систему работы по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богащению и активизации словаря детей данного возраста,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проанализировать и сделать выводы об эффективности проделанной работы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3. Разработать комплекс элементов пальчиковых игр к определённому художественному произведению , учитывая индивидуальные психо- физиологические особенности ребёнка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4. Разработать серию занятий с постепенным введением элементов  пальчиковых  игр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7" name="Rectangle 5"/>
          <p:cNvSpPr/>
          <p:nvPr/>
        </p:nvSpPr>
        <p:spPr>
          <a:xfrm>
            <a:off x="2128320" y="635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cover dir="ru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4"/>
          <p:cNvSpPr/>
          <p:nvPr/>
        </p:nvSpPr>
        <p:spPr>
          <a:xfrm>
            <a:off x="457200" y="704880"/>
            <a:ext cx="838188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Гипотеза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исследования-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ahoma"/>
              </a:rPr>
              <a:t>система индивидуальных занятий стимулирующих      обогащение и активизацию словаря ребёнка 2-3 летнего возраста, позволяет   предупредить появление отклонений в развитии ребёнка и достичь более   высокого уровня общего развития детей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Для диагностики  речевого развития детей раннего возраста была использована методика Грибовой О.Е., Гаркуши Ю.Ф.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cover dir="ru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Oval 4"/>
          <p:cNvSpPr/>
          <p:nvPr/>
        </p:nvSpPr>
        <p:spPr>
          <a:xfrm>
            <a:off x="4419720" y="2590920"/>
            <a:ext cx="1728720" cy="14414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оказ картинок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 простым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южетом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0" name="Oval 5"/>
          <p:cNvSpPr/>
          <p:nvPr/>
        </p:nvSpPr>
        <p:spPr>
          <a:xfrm>
            <a:off x="2438280" y="380880"/>
            <a:ext cx="1729080" cy="14414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ассматривание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редмета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1" name="Oval 6"/>
          <p:cNvSpPr/>
          <p:nvPr/>
        </p:nvSpPr>
        <p:spPr>
          <a:xfrm>
            <a:off x="3564000" y="1413000"/>
            <a:ext cx="158436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етоды и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риёмы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аботы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2" name="Freeform 7"/>
          <p:cNvSpPr/>
          <p:nvPr/>
        </p:nvSpPr>
        <p:spPr>
          <a:xfrm>
            <a:off x="4356000" y="2997360"/>
            <a:ext cx="311400" cy="2447640"/>
          </a:xfrm>
          <a:custGeom>
            <a:avLst/>
            <a:gdLst>
              <a:gd name="textAreaLeft" fmla="*/ 0 w 311400"/>
              <a:gd name="textAreaRight" fmla="*/ 311760 w 311400"/>
              <a:gd name="textAreaTop" fmla="*/ 0 h 2447640"/>
              <a:gd name="textAreaBottom" fmla="*/ 2448000 h 2447640"/>
            </a:gdLst>
            <a:ahLst/>
            <a:rect l="textAreaLeft" t="textAreaTop" r="textAreaRight" b="textAreaBottom"/>
            <a:pathLst>
              <a:path w="196" h="862">
                <a:moveTo>
                  <a:pt x="0" y="0"/>
                </a:moveTo>
                <a:cubicBezTo>
                  <a:pt x="15" y="76"/>
                  <a:pt x="30" y="152"/>
                  <a:pt x="45" y="227"/>
                </a:cubicBezTo>
                <a:cubicBezTo>
                  <a:pt x="60" y="302"/>
                  <a:pt x="68" y="408"/>
                  <a:pt x="91" y="453"/>
                </a:cubicBezTo>
                <a:cubicBezTo>
                  <a:pt x="114" y="498"/>
                  <a:pt x="166" y="476"/>
                  <a:pt x="181" y="499"/>
                </a:cubicBezTo>
                <a:cubicBezTo>
                  <a:pt x="196" y="522"/>
                  <a:pt x="188" y="545"/>
                  <a:pt x="181" y="590"/>
                </a:cubicBezTo>
                <a:cubicBezTo>
                  <a:pt x="174" y="635"/>
                  <a:pt x="143" y="726"/>
                  <a:pt x="136" y="771"/>
                </a:cubicBezTo>
                <a:cubicBezTo>
                  <a:pt x="129" y="816"/>
                  <a:pt x="132" y="839"/>
                  <a:pt x="136" y="862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3" name="Freeform 8"/>
          <p:cNvSpPr/>
          <p:nvPr/>
        </p:nvSpPr>
        <p:spPr>
          <a:xfrm>
            <a:off x="4495680" y="4419720"/>
            <a:ext cx="2432160" cy="1307880"/>
          </a:xfrm>
          <a:custGeom>
            <a:avLst/>
            <a:gdLst>
              <a:gd name="textAreaLeft" fmla="*/ 0 w 2432160"/>
              <a:gd name="textAreaRight" fmla="*/ 2432520 w 2432160"/>
              <a:gd name="textAreaTop" fmla="*/ 0 h 1307880"/>
              <a:gd name="textAreaBottom" fmla="*/ 1307880 h 1307880"/>
            </a:gdLst>
            <a:ahLst/>
            <a:rect l="textAreaLeft" t="textAreaTop" r="textAreaRight" b="textAreaBottom"/>
            <a:pathLst>
              <a:path w="1532" h="824">
                <a:moveTo>
                  <a:pt x="0" y="606"/>
                </a:moveTo>
                <a:cubicBezTo>
                  <a:pt x="28" y="603"/>
                  <a:pt x="57" y="607"/>
                  <a:pt x="83" y="597"/>
                </a:cubicBezTo>
                <a:cubicBezTo>
                  <a:pt x="92" y="594"/>
                  <a:pt x="85" y="577"/>
                  <a:pt x="92" y="570"/>
                </a:cubicBezTo>
                <a:cubicBezTo>
                  <a:pt x="99" y="563"/>
                  <a:pt x="110" y="564"/>
                  <a:pt x="119" y="561"/>
                </a:cubicBezTo>
                <a:cubicBezTo>
                  <a:pt x="144" y="535"/>
                  <a:pt x="185" y="517"/>
                  <a:pt x="220" y="506"/>
                </a:cubicBezTo>
                <a:cubicBezTo>
                  <a:pt x="273" y="470"/>
                  <a:pt x="304" y="449"/>
                  <a:pt x="348" y="405"/>
                </a:cubicBezTo>
                <a:cubicBezTo>
                  <a:pt x="415" y="338"/>
                  <a:pt x="332" y="444"/>
                  <a:pt x="403" y="360"/>
                </a:cubicBezTo>
                <a:cubicBezTo>
                  <a:pt x="410" y="351"/>
                  <a:pt x="413" y="340"/>
                  <a:pt x="421" y="332"/>
                </a:cubicBezTo>
                <a:cubicBezTo>
                  <a:pt x="435" y="318"/>
                  <a:pt x="453" y="309"/>
                  <a:pt x="467" y="296"/>
                </a:cubicBezTo>
                <a:cubicBezTo>
                  <a:pt x="487" y="232"/>
                  <a:pt x="629" y="160"/>
                  <a:pt x="695" y="158"/>
                </a:cubicBezTo>
                <a:cubicBezTo>
                  <a:pt x="908" y="152"/>
                  <a:pt x="1122" y="152"/>
                  <a:pt x="1335" y="149"/>
                </a:cubicBezTo>
                <a:cubicBezTo>
                  <a:pt x="1353" y="143"/>
                  <a:pt x="1377" y="138"/>
                  <a:pt x="1390" y="122"/>
                </a:cubicBezTo>
                <a:cubicBezTo>
                  <a:pt x="1396" y="114"/>
                  <a:pt x="1394" y="102"/>
                  <a:pt x="1399" y="94"/>
                </a:cubicBezTo>
                <a:cubicBezTo>
                  <a:pt x="1412" y="75"/>
                  <a:pt x="1435" y="62"/>
                  <a:pt x="1454" y="49"/>
                </a:cubicBezTo>
                <a:cubicBezTo>
                  <a:pt x="1460" y="40"/>
                  <a:pt x="1465" y="30"/>
                  <a:pt x="1472" y="21"/>
                </a:cubicBezTo>
                <a:cubicBezTo>
                  <a:pt x="1477" y="14"/>
                  <a:pt x="1483" y="0"/>
                  <a:pt x="1491" y="3"/>
                </a:cubicBezTo>
                <a:cubicBezTo>
                  <a:pt x="1500" y="6"/>
                  <a:pt x="1497" y="21"/>
                  <a:pt x="1500" y="30"/>
                </a:cubicBezTo>
                <a:cubicBezTo>
                  <a:pt x="1496" y="121"/>
                  <a:pt x="1532" y="257"/>
                  <a:pt x="1427" y="296"/>
                </a:cubicBezTo>
                <a:cubicBezTo>
                  <a:pt x="1397" y="339"/>
                  <a:pt x="1411" y="313"/>
                  <a:pt x="1390" y="378"/>
                </a:cubicBezTo>
                <a:cubicBezTo>
                  <a:pt x="1382" y="401"/>
                  <a:pt x="1367" y="407"/>
                  <a:pt x="1353" y="424"/>
                </a:cubicBezTo>
                <a:cubicBezTo>
                  <a:pt x="1346" y="432"/>
                  <a:pt x="1343" y="444"/>
                  <a:pt x="1335" y="451"/>
                </a:cubicBezTo>
                <a:cubicBezTo>
                  <a:pt x="1328" y="457"/>
                  <a:pt x="1317" y="456"/>
                  <a:pt x="1308" y="460"/>
                </a:cubicBezTo>
                <a:cubicBezTo>
                  <a:pt x="1298" y="465"/>
                  <a:pt x="1289" y="471"/>
                  <a:pt x="1280" y="478"/>
                </a:cubicBezTo>
                <a:cubicBezTo>
                  <a:pt x="1257" y="496"/>
                  <a:pt x="1250" y="527"/>
                  <a:pt x="1225" y="542"/>
                </a:cubicBezTo>
                <a:cubicBezTo>
                  <a:pt x="1191" y="563"/>
                  <a:pt x="1157" y="580"/>
                  <a:pt x="1125" y="606"/>
                </a:cubicBezTo>
                <a:cubicBezTo>
                  <a:pt x="1104" y="624"/>
                  <a:pt x="1090" y="654"/>
                  <a:pt x="1070" y="670"/>
                </a:cubicBezTo>
                <a:cubicBezTo>
                  <a:pt x="1066" y="673"/>
                  <a:pt x="1019" y="688"/>
                  <a:pt x="1015" y="689"/>
                </a:cubicBezTo>
                <a:cubicBezTo>
                  <a:pt x="981" y="740"/>
                  <a:pt x="1017" y="695"/>
                  <a:pt x="960" y="734"/>
                </a:cubicBezTo>
                <a:cubicBezTo>
                  <a:pt x="927" y="756"/>
                  <a:pt x="941" y="775"/>
                  <a:pt x="896" y="789"/>
                </a:cubicBezTo>
                <a:cubicBezTo>
                  <a:pt x="333" y="781"/>
                  <a:pt x="477" y="824"/>
                  <a:pt x="229" y="762"/>
                </a:cubicBezTo>
                <a:cubicBezTo>
                  <a:pt x="199" y="715"/>
                  <a:pt x="156" y="693"/>
                  <a:pt x="110" y="661"/>
                </a:cubicBezTo>
                <a:cubicBezTo>
                  <a:pt x="90" y="647"/>
                  <a:pt x="55" y="661"/>
                  <a:pt x="37" y="643"/>
                </a:cubicBezTo>
                <a:cubicBezTo>
                  <a:pt x="25" y="631"/>
                  <a:pt x="12" y="618"/>
                  <a:pt x="0" y="606"/>
                </a:cubicBezTo>
                <a:close/>
              </a:path>
            </a:pathLst>
          </a:custGeom>
          <a:solidFill>
            <a:srgbClr val="00b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4" name="Freeform 9"/>
          <p:cNvSpPr/>
          <p:nvPr/>
        </p:nvSpPr>
        <p:spPr>
          <a:xfrm>
            <a:off x="2162160" y="5037120"/>
            <a:ext cx="1452600" cy="4636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915" h="292">
                <a:moveTo>
                  <a:pt x="0" y="0"/>
                </a:moveTo>
                <a:cubicBezTo>
                  <a:pt x="134" y="15"/>
                  <a:pt x="270" y="5"/>
                  <a:pt x="403" y="27"/>
                </a:cubicBezTo>
                <a:cubicBezTo>
                  <a:pt x="496" y="58"/>
                  <a:pt x="358" y="9"/>
                  <a:pt x="457" y="54"/>
                </a:cubicBezTo>
                <a:cubicBezTo>
                  <a:pt x="528" y="86"/>
                  <a:pt x="567" y="96"/>
                  <a:pt x="613" y="164"/>
                </a:cubicBezTo>
                <a:cubicBezTo>
                  <a:pt x="627" y="207"/>
                  <a:pt x="632" y="217"/>
                  <a:pt x="677" y="228"/>
                </a:cubicBezTo>
                <a:cubicBezTo>
                  <a:pt x="754" y="288"/>
                  <a:pt x="817" y="292"/>
                  <a:pt x="915" y="2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5" name="Freeform 10"/>
          <p:cNvSpPr/>
          <p:nvPr/>
        </p:nvSpPr>
        <p:spPr>
          <a:xfrm>
            <a:off x="5334120" y="4800600"/>
            <a:ext cx="1552320" cy="425520"/>
          </a:xfrm>
          <a:custGeom>
            <a:avLst/>
            <a:gdLst>
              <a:gd name="textAreaLeft" fmla="*/ 0 w 1552320"/>
              <a:gd name="textAreaRight" fmla="*/ 1552680 w 155232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978" h="268">
                <a:moveTo>
                  <a:pt x="0" y="265"/>
                </a:moveTo>
                <a:cubicBezTo>
                  <a:pt x="120" y="225"/>
                  <a:pt x="251" y="268"/>
                  <a:pt x="374" y="237"/>
                </a:cubicBezTo>
                <a:cubicBezTo>
                  <a:pt x="412" y="213"/>
                  <a:pt x="451" y="206"/>
                  <a:pt x="493" y="192"/>
                </a:cubicBezTo>
                <a:cubicBezTo>
                  <a:pt x="549" y="136"/>
                  <a:pt x="678" y="111"/>
                  <a:pt x="758" y="100"/>
                </a:cubicBezTo>
                <a:cubicBezTo>
                  <a:pt x="812" y="83"/>
                  <a:pt x="758" y="99"/>
                  <a:pt x="832" y="82"/>
                </a:cubicBezTo>
                <a:cubicBezTo>
                  <a:pt x="856" y="76"/>
                  <a:pt x="905" y="64"/>
                  <a:pt x="905" y="64"/>
                </a:cubicBezTo>
                <a:cubicBezTo>
                  <a:pt x="932" y="45"/>
                  <a:pt x="955" y="23"/>
                  <a:pt x="9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6" name="Freeform 11"/>
          <p:cNvSpPr/>
          <p:nvPr/>
        </p:nvSpPr>
        <p:spPr>
          <a:xfrm>
            <a:off x="1619280" y="4581360"/>
            <a:ext cx="2874960" cy="1325880"/>
          </a:xfrm>
          <a:custGeom>
            <a:avLst/>
            <a:gdLst>
              <a:gd name="textAreaLeft" fmla="*/ 0 w 2874960"/>
              <a:gd name="textAreaRight" fmla="*/ 2875320 w 2874960"/>
              <a:gd name="textAreaTop" fmla="*/ 0 h 1325880"/>
              <a:gd name="textAreaBottom" fmla="*/ 1326240 h 1325880"/>
            </a:gdLst>
            <a:ahLst/>
            <a:rect l="textAreaLeft" t="textAreaTop" r="textAreaRight" b="textAreaBottom"/>
            <a:pathLst>
              <a:path w="1811" h="835">
                <a:moveTo>
                  <a:pt x="1811" y="533"/>
                </a:moveTo>
                <a:cubicBezTo>
                  <a:pt x="1786" y="530"/>
                  <a:pt x="1760" y="532"/>
                  <a:pt x="1737" y="524"/>
                </a:cubicBezTo>
                <a:cubicBezTo>
                  <a:pt x="1651" y="494"/>
                  <a:pt x="1708" y="499"/>
                  <a:pt x="1664" y="469"/>
                </a:cubicBezTo>
                <a:cubicBezTo>
                  <a:pt x="1614" y="435"/>
                  <a:pt x="1565" y="399"/>
                  <a:pt x="1518" y="360"/>
                </a:cubicBezTo>
                <a:cubicBezTo>
                  <a:pt x="1485" y="333"/>
                  <a:pt x="1458" y="300"/>
                  <a:pt x="1417" y="286"/>
                </a:cubicBezTo>
                <a:cubicBezTo>
                  <a:pt x="1388" y="243"/>
                  <a:pt x="1409" y="263"/>
                  <a:pt x="1344" y="241"/>
                </a:cubicBezTo>
                <a:cubicBezTo>
                  <a:pt x="1335" y="238"/>
                  <a:pt x="1317" y="232"/>
                  <a:pt x="1317" y="232"/>
                </a:cubicBezTo>
                <a:cubicBezTo>
                  <a:pt x="1266" y="179"/>
                  <a:pt x="1079" y="162"/>
                  <a:pt x="1006" y="149"/>
                </a:cubicBezTo>
                <a:cubicBezTo>
                  <a:pt x="753" y="104"/>
                  <a:pt x="672" y="136"/>
                  <a:pt x="275" y="131"/>
                </a:cubicBezTo>
                <a:cubicBezTo>
                  <a:pt x="257" y="125"/>
                  <a:pt x="236" y="124"/>
                  <a:pt x="220" y="113"/>
                </a:cubicBezTo>
                <a:cubicBezTo>
                  <a:pt x="211" y="107"/>
                  <a:pt x="202" y="99"/>
                  <a:pt x="192" y="94"/>
                </a:cubicBezTo>
                <a:cubicBezTo>
                  <a:pt x="166" y="82"/>
                  <a:pt x="134" y="83"/>
                  <a:pt x="110" y="67"/>
                </a:cubicBezTo>
                <a:cubicBezTo>
                  <a:pt x="75" y="44"/>
                  <a:pt x="93" y="52"/>
                  <a:pt x="55" y="40"/>
                </a:cubicBezTo>
                <a:cubicBezTo>
                  <a:pt x="48" y="33"/>
                  <a:pt x="20" y="0"/>
                  <a:pt x="9" y="3"/>
                </a:cubicBezTo>
                <a:cubicBezTo>
                  <a:pt x="0" y="5"/>
                  <a:pt x="3" y="21"/>
                  <a:pt x="0" y="30"/>
                </a:cubicBezTo>
                <a:cubicBezTo>
                  <a:pt x="3" y="42"/>
                  <a:pt x="3" y="56"/>
                  <a:pt x="9" y="67"/>
                </a:cubicBezTo>
                <a:cubicBezTo>
                  <a:pt x="19" y="87"/>
                  <a:pt x="46" y="122"/>
                  <a:pt x="46" y="122"/>
                </a:cubicBezTo>
                <a:cubicBezTo>
                  <a:pt x="50" y="154"/>
                  <a:pt x="55" y="258"/>
                  <a:pt x="83" y="286"/>
                </a:cubicBezTo>
                <a:cubicBezTo>
                  <a:pt x="118" y="322"/>
                  <a:pt x="151" y="358"/>
                  <a:pt x="183" y="396"/>
                </a:cubicBezTo>
                <a:cubicBezTo>
                  <a:pt x="208" y="425"/>
                  <a:pt x="191" y="421"/>
                  <a:pt x="220" y="442"/>
                </a:cubicBezTo>
                <a:cubicBezTo>
                  <a:pt x="265" y="474"/>
                  <a:pt x="301" y="496"/>
                  <a:pt x="348" y="524"/>
                </a:cubicBezTo>
                <a:cubicBezTo>
                  <a:pt x="389" y="549"/>
                  <a:pt x="421" y="601"/>
                  <a:pt x="467" y="616"/>
                </a:cubicBezTo>
                <a:cubicBezTo>
                  <a:pt x="521" y="634"/>
                  <a:pt x="579" y="633"/>
                  <a:pt x="631" y="652"/>
                </a:cubicBezTo>
                <a:cubicBezTo>
                  <a:pt x="667" y="665"/>
                  <a:pt x="694" y="680"/>
                  <a:pt x="732" y="689"/>
                </a:cubicBezTo>
                <a:cubicBezTo>
                  <a:pt x="771" y="715"/>
                  <a:pt x="815" y="714"/>
                  <a:pt x="860" y="725"/>
                </a:cubicBezTo>
                <a:cubicBezTo>
                  <a:pt x="907" y="750"/>
                  <a:pt x="956" y="754"/>
                  <a:pt x="1006" y="771"/>
                </a:cubicBezTo>
                <a:cubicBezTo>
                  <a:pt x="1082" y="796"/>
                  <a:pt x="1138" y="824"/>
                  <a:pt x="1216" y="835"/>
                </a:cubicBezTo>
                <a:cubicBezTo>
                  <a:pt x="1547" y="824"/>
                  <a:pt x="1392" y="835"/>
                  <a:pt x="1564" y="798"/>
                </a:cubicBezTo>
                <a:cubicBezTo>
                  <a:pt x="1577" y="760"/>
                  <a:pt x="1619" y="725"/>
                  <a:pt x="1655" y="707"/>
                </a:cubicBezTo>
                <a:cubicBezTo>
                  <a:pt x="1666" y="691"/>
                  <a:pt x="1682" y="678"/>
                  <a:pt x="1692" y="661"/>
                </a:cubicBezTo>
                <a:cubicBezTo>
                  <a:pt x="1703" y="643"/>
                  <a:pt x="1695" y="597"/>
                  <a:pt x="1719" y="597"/>
                </a:cubicBezTo>
              </a:path>
            </a:pathLst>
          </a:custGeom>
          <a:solidFill>
            <a:srgbClr val="00b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7" name="Freeform 12"/>
          <p:cNvSpPr/>
          <p:nvPr/>
        </p:nvSpPr>
        <p:spPr>
          <a:xfrm>
            <a:off x="1771560" y="4734000"/>
            <a:ext cx="2874960" cy="1325520"/>
          </a:xfrm>
          <a:custGeom>
            <a:avLst/>
            <a:gdLst>
              <a:gd name="textAreaLeft" fmla="*/ 0 w 2874960"/>
              <a:gd name="textAreaRight" fmla="*/ 2875320 w 2874960"/>
              <a:gd name="textAreaTop" fmla="*/ 0 h 1325520"/>
              <a:gd name="textAreaBottom" fmla="*/ 1325880 h 1325520"/>
            </a:gdLst>
            <a:ahLst/>
            <a:rect l="textAreaLeft" t="textAreaTop" r="textAreaRight" b="textAreaBottom"/>
            <a:pathLst>
              <a:path w="1811" h="835">
                <a:moveTo>
                  <a:pt x="1811" y="533"/>
                </a:moveTo>
                <a:cubicBezTo>
                  <a:pt x="1786" y="530"/>
                  <a:pt x="1760" y="532"/>
                  <a:pt x="1737" y="524"/>
                </a:cubicBezTo>
                <a:cubicBezTo>
                  <a:pt x="1651" y="494"/>
                  <a:pt x="1708" y="499"/>
                  <a:pt x="1664" y="469"/>
                </a:cubicBezTo>
                <a:cubicBezTo>
                  <a:pt x="1614" y="435"/>
                  <a:pt x="1565" y="399"/>
                  <a:pt x="1518" y="360"/>
                </a:cubicBezTo>
                <a:cubicBezTo>
                  <a:pt x="1485" y="333"/>
                  <a:pt x="1458" y="300"/>
                  <a:pt x="1417" y="286"/>
                </a:cubicBezTo>
                <a:cubicBezTo>
                  <a:pt x="1388" y="243"/>
                  <a:pt x="1409" y="263"/>
                  <a:pt x="1344" y="241"/>
                </a:cubicBezTo>
                <a:cubicBezTo>
                  <a:pt x="1335" y="238"/>
                  <a:pt x="1317" y="232"/>
                  <a:pt x="1317" y="232"/>
                </a:cubicBezTo>
                <a:cubicBezTo>
                  <a:pt x="1266" y="179"/>
                  <a:pt x="1079" y="162"/>
                  <a:pt x="1006" y="149"/>
                </a:cubicBezTo>
                <a:cubicBezTo>
                  <a:pt x="753" y="104"/>
                  <a:pt x="672" y="136"/>
                  <a:pt x="275" y="131"/>
                </a:cubicBezTo>
                <a:cubicBezTo>
                  <a:pt x="257" y="125"/>
                  <a:pt x="236" y="124"/>
                  <a:pt x="220" y="113"/>
                </a:cubicBezTo>
                <a:cubicBezTo>
                  <a:pt x="211" y="107"/>
                  <a:pt x="202" y="99"/>
                  <a:pt x="192" y="94"/>
                </a:cubicBezTo>
                <a:cubicBezTo>
                  <a:pt x="166" y="82"/>
                  <a:pt x="134" y="83"/>
                  <a:pt x="110" y="67"/>
                </a:cubicBezTo>
                <a:cubicBezTo>
                  <a:pt x="75" y="44"/>
                  <a:pt x="93" y="52"/>
                  <a:pt x="55" y="40"/>
                </a:cubicBezTo>
                <a:cubicBezTo>
                  <a:pt x="48" y="33"/>
                  <a:pt x="20" y="0"/>
                  <a:pt x="9" y="3"/>
                </a:cubicBezTo>
                <a:cubicBezTo>
                  <a:pt x="0" y="5"/>
                  <a:pt x="3" y="21"/>
                  <a:pt x="0" y="30"/>
                </a:cubicBezTo>
                <a:cubicBezTo>
                  <a:pt x="3" y="42"/>
                  <a:pt x="3" y="56"/>
                  <a:pt x="9" y="67"/>
                </a:cubicBezTo>
                <a:cubicBezTo>
                  <a:pt x="19" y="87"/>
                  <a:pt x="46" y="122"/>
                  <a:pt x="46" y="122"/>
                </a:cubicBezTo>
                <a:cubicBezTo>
                  <a:pt x="50" y="154"/>
                  <a:pt x="55" y="258"/>
                  <a:pt x="83" y="286"/>
                </a:cubicBezTo>
                <a:cubicBezTo>
                  <a:pt x="118" y="322"/>
                  <a:pt x="151" y="358"/>
                  <a:pt x="183" y="396"/>
                </a:cubicBezTo>
                <a:cubicBezTo>
                  <a:pt x="208" y="425"/>
                  <a:pt x="191" y="421"/>
                  <a:pt x="220" y="442"/>
                </a:cubicBezTo>
                <a:cubicBezTo>
                  <a:pt x="265" y="474"/>
                  <a:pt x="301" y="496"/>
                  <a:pt x="348" y="524"/>
                </a:cubicBezTo>
                <a:cubicBezTo>
                  <a:pt x="389" y="549"/>
                  <a:pt x="421" y="601"/>
                  <a:pt x="467" y="616"/>
                </a:cubicBezTo>
                <a:cubicBezTo>
                  <a:pt x="521" y="634"/>
                  <a:pt x="579" y="633"/>
                  <a:pt x="631" y="652"/>
                </a:cubicBezTo>
                <a:cubicBezTo>
                  <a:pt x="667" y="665"/>
                  <a:pt x="694" y="680"/>
                  <a:pt x="732" y="689"/>
                </a:cubicBezTo>
                <a:cubicBezTo>
                  <a:pt x="771" y="715"/>
                  <a:pt x="815" y="714"/>
                  <a:pt x="860" y="725"/>
                </a:cubicBezTo>
                <a:cubicBezTo>
                  <a:pt x="907" y="750"/>
                  <a:pt x="956" y="754"/>
                  <a:pt x="1006" y="771"/>
                </a:cubicBezTo>
                <a:cubicBezTo>
                  <a:pt x="1082" y="796"/>
                  <a:pt x="1138" y="824"/>
                  <a:pt x="1216" y="835"/>
                </a:cubicBezTo>
                <a:cubicBezTo>
                  <a:pt x="1547" y="824"/>
                  <a:pt x="1392" y="835"/>
                  <a:pt x="1564" y="798"/>
                </a:cubicBezTo>
                <a:cubicBezTo>
                  <a:pt x="1577" y="760"/>
                  <a:pt x="1619" y="725"/>
                  <a:pt x="1655" y="707"/>
                </a:cubicBezTo>
                <a:cubicBezTo>
                  <a:pt x="1666" y="691"/>
                  <a:pt x="1682" y="678"/>
                  <a:pt x="1692" y="661"/>
                </a:cubicBezTo>
                <a:cubicBezTo>
                  <a:pt x="1703" y="643"/>
                  <a:pt x="1695" y="597"/>
                  <a:pt x="1719" y="597"/>
                </a:cubicBezTo>
              </a:path>
            </a:pathLst>
          </a:custGeom>
          <a:solidFill>
            <a:srgbClr val="00b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8" name="Freeform 13"/>
          <p:cNvSpPr/>
          <p:nvPr/>
        </p:nvSpPr>
        <p:spPr>
          <a:xfrm>
            <a:off x="1752480" y="4648320"/>
            <a:ext cx="2874960" cy="1325520"/>
          </a:xfrm>
          <a:custGeom>
            <a:avLst/>
            <a:gdLst>
              <a:gd name="textAreaLeft" fmla="*/ 0 w 2874960"/>
              <a:gd name="textAreaRight" fmla="*/ 2875320 w 2874960"/>
              <a:gd name="textAreaTop" fmla="*/ 0 h 1325520"/>
              <a:gd name="textAreaBottom" fmla="*/ 1325880 h 1325520"/>
            </a:gdLst>
            <a:ahLst/>
            <a:rect l="textAreaLeft" t="textAreaTop" r="textAreaRight" b="textAreaBottom"/>
            <a:pathLst>
              <a:path w="1811" h="835">
                <a:moveTo>
                  <a:pt x="1811" y="533"/>
                </a:moveTo>
                <a:cubicBezTo>
                  <a:pt x="1786" y="530"/>
                  <a:pt x="1760" y="532"/>
                  <a:pt x="1737" y="524"/>
                </a:cubicBezTo>
                <a:cubicBezTo>
                  <a:pt x="1651" y="494"/>
                  <a:pt x="1708" y="499"/>
                  <a:pt x="1664" y="469"/>
                </a:cubicBezTo>
                <a:cubicBezTo>
                  <a:pt x="1614" y="435"/>
                  <a:pt x="1565" y="399"/>
                  <a:pt x="1518" y="360"/>
                </a:cubicBezTo>
                <a:cubicBezTo>
                  <a:pt x="1485" y="333"/>
                  <a:pt x="1458" y="300"/>
                  <a:pt x="1417" y="286"/>
                </a:cubicBezTo>
                <a:cubicBezTo>
                  <a:pt x="1388" y="243"/>
                  <a:pt x="1409" y="263"/>
                  <a:pt x="1344" y="241"/>
                </a:cubicBezTo>
                <a:cubicBezTo>
                  <a:pt x="1335" y="238"/>
                  <a:pt x="1317" y="232"/>
                  <a:pt x="1317" y="232"/>
                </a:cubicBezTo>
                <a:cubicBezTo>
                  <a:pt x="1266" y="179"/>
                  <a:pt x="1079" y="162"/>
                  <a:pt x="1006" y="149"/>
                </a:cubicBezTo>
                <a:cubicBezTo>
                  <a:pt x="753" y="104"/>
                  <a:pt x="672" y="136"/>
                  <a:pt x="275" y="131"/>
                </a:cubicBezTo>
                <a:cubicBezTo>
                  <a:pt x="257" y="125"/>
                  <a:pt x="236" y="124"/>
                  <a:pt x="220" y="113"/>
                </a:cubicBezTo>
                <a:cubicBezTo>
                  <a:pt x="211" y="107"/>
                  <a:pt x="202" y="99"/>
                  <a:pt x="192" y="94"/>
                </a:cubicBezTo>
                <a:cubicBezTo>
                  <a:pt x="166" y="82"/>
                  <a:pt x="134" y="83"/>
                  <a:pt x="110" y="67"/>
                </a:cubicBezTo>
                <a:cubicBezTo>
                  <a:pt x="75" y="44"/>
                  <a:pt x="93" y="52"/>
                  <a:pt x="55" y="40"/>
                </a:cubicBezTo>
                <a:cubicBezTo>
                  <a:pt x="48" y="33"/>
                  <a:pt x="20" y="0"/>
                  <a:pt x="9" y="3"/>
                </a:cubicBezTo>
                <a:cubicBezTo>
                  <a:pt x="0" y="5"/>
                  <a:pt x="3" y="21"/>
                  <a:pt x="0" y="30"/>
                </a:cubicBezTo>
                <a:cubicBezTo>
                  <a:pt x="3" y="42"/>
                  <a:pt x="3" y="56"/>
                  <a:pt x="9" y="67"/>
                </a:cubicBezTo>
                <a:cubicBezTo>
                  <a:pt x="19" y="87"/>
                  <a:pt x="46" y="122"/>
                  <a:pt x="46" y="122"/>
                </a:cubicBezTo>
                <a:cubicBezTo>
                  <a:pt x="50" y="154"/>
                  <a:pt x="55" y="258"/>
                  <a:pt x="83" y="286"/>
                </a:cubicBezTo>
                <a:cubicBezTo>
                  <a:pt x="118" y="322"/>
                  <a:pt x="151" y="358"/>
                  <a:pt x="183" y="396"/>
                </a:cubicBezTo>
                <a:cubicBezTo>
                  <a:pt x="208" y="425"/>
                  <a:pt x="191" y="421"/>
                  <a:pt x="220" y="442"/>
                </a:cubicBezTo>
                <a:cubicBezTo>
                  <a:pt x="265" y="474"/>
                  <a:pt x="301" y="496"/>
                  <a:pt x="348" y="524"/>
                </a:cubicBezTo>
                <a:cubicBezTo>
                  <a:pt x="389" y="549"/>
                  <a:pt x="421" y="601"/>
                  <a:pt x="467" y="616"/>
                </a:cubicBezTo>
                <a:cubicBezTo>
                  <a:pt x="521" y="634"/>
                  <a:pt x="579" y="633"/>
                  <a:pt x="631" y="652"/>
                </a:cubicBezTo>
                <a:cubicBezTo>
                  <a:pt x="667" y="665"/>
                  <a:pt x="694" y="680"/>
                  <a:pt x="732" y="689"/>
                </a:cubicBezTo>
                <a:cubicBezTo>
                  <a:pt x="771" y="715"/>
                  <a:pt x="815" y="714"/>
                  <a:pt x="860" y="725"/>
                </a:cubicBezTo>
                <a:cubicBezTo>
                  <a:pt x="907" y="750"/>
                  <a:pt x="956" y="754"/>
                  <a:pt x="1006" y="771"/>
                </a:cubicBezTo>
                <a:cubicBezTo>
                  <a:pt x="1082" y="796"/>
                  <a:pt x="1138" y="824"/>
                  <a:pt x="1216" y="835"/>
                </a:cubicBezTo>
                <a:cubicBezTo>
                  <a:pt x="1547" y="824"/>
                  <a:pt x="1392" y="835"/>
                  <a:pt x="1564" y="798"/>
                </a:cubicBezTo>
                <a:cubicBezTo>
                  <a:pt x="1577" y="760"/>
                  <a:pt x="1619" y="725"/>
                  <a:pt x="1655" y="707"/>
                </a:cubicBezTo>
                <a:cubicBezTo>
                  <a:pt x="1666" y="691"/>
                  <a:pt x="1682" y="678"/>
                  <a:pt x="1692" y="661"/>
                </a:cubicBezTo>
                <a:cubicBezTo>
                  <a:pt x="1703" y="643"/>
                  <a:pt x="1695" y="597"/>
                  <a:pt x="1719" y="597"/>
                </a:cubicBezTo>
              </a:path>
            </a:pathLst>
          </a:custGeom>
          <a:solidFill>
            <a:srgbClr val="00b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9" name="Freeform 14"/>
          <p:cNvSpPr/>
          <p:nvPr/>
        </p:nvSpPr>
        <p:spPr>
          <a:xfrm>
            <a:off x="3564000" y="5300640"/>
            <a:ext cx="1944720" cy="11336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1078" h="714">
                <a:moveTo>
                  <a:pt x="0" y="576"/>
                </a:moveTo>
                <a:cubicBezTo>
                  <a:pt x="18" y="588"/>
                  <a:pt x="46" y="593"/>
                  <a:pt x="54" y="613"/>
                </a:cubicBezTo>
                <a:cubicBezTo>
                  <a:pt x="57" y="622"/>
                  <a:pt x="57" y="633"/>
                  <a:pt x="64" y="640"/>
                </a:cubicBezTo>
                <a:cubicBezTo>
                  <a:pt x="71" y="647"/>
                  <a:pt x="83" y="645"/>
                  <a:pt x="91" y="649"/>
                </a:cubicBezTo>
                <a:cubicBezTo>
                  <a:pt x="147" y="677"/>
                  <a:pt x="192" y="686"/>
                  <a:pt x="256" y="695"/>
                </a:cubicBezTo>
                <a:cubicBezTo>
                  <a:pt x="286" y="692"/>
                  <a:pt x="317" y="694"/>
                  <a:pt x="347" y="686"/>
                </a:cubicBezTo>
                <a:cubicBezTo>
                  <a:pt x="355" y="684"/>
                  <a:pt x="358" y="672"/>
                  <a:pt x="365" y="667"/>
                </a:cubicBezTo>
                <a:cubicBezTo>
                  <a:pt x="418" y="627"/>
                  <a:pt x="406" y="634"/>
                  <a:pt x="457" y="622"/>
                </a:cubicBezTo>
                <a:cubicBezTo>
                  <a:pt x="561" y="631"/>
                  <a:pt x="603" y="640"/>
                  <a:pt x="694" y="686"/>
                </a:cubicBezTo>
                <a:cubicBezTo>
                  <a:pt x="740" y="709"/>
                  <a:pt x="895" y="711"/>
                  <a:pt x="923" y="713"/>
                </a:cubicBezTo>
                <a:cubicBezTo>
                  <a:pt x="953" y="710"/>
                  <a:pt x="985" y="714"/>
                  <a:pt x="1014" y="704"/>
                </a:cubicBezTo>
                <a:cubicBezTo>
                  <a:pt x="1023" y="701"/>
                  <a:pt x="1023" y="687"/>
                  <a:pt x="1024" y="677"/>
                </a:cubicBezTo>
                <a:cubicBezTo>
                  <a:pt x="1050" y="376"/>
                  <a:pt x="1014" y="567"/>
                  <a:pt x="1060" y="430"/>
                </a:cubicBezTo>
                <a:cubicBezTo>
                  <a:pt x="1042" y="287"/>
                  <a:pt x="1078" y="375"/>
                  <a:pt x="859" y="347"/>
                </a:cubicBezTo>
                <a:cubicBezTo>
                  <a:pt x="840" y="345"/>
                  <a:pt x="787" y="293"/>
                  <a:pt x="758" y="283"/>
                </a:cubicBezTo>
                <a:cubicBezTo>
                  <a:pt x="752" y="274"/>
                  <a:pt x="748" y="263"/>
                  <a:pt x="740" y="256"/>
                </a:cubicBezTo>
                <a:cubicBezTo>
                  <a:pt x="723" y="241"/>
                  <a:pt x="685" y="219"/>
                  <a:pt x="685" y="219"/>
                </a:cubicBezTo>
                <a:cubicBezTo>
                  <a:pt x="677" y="195"/>
                  <a:pt x="676" y="170"/>
                  <a:pt x="667" y="146"/>
                </a:cubicBezTo>
                <a:cubicBezTo>
                  <a:pt x="656" y="116"/>
                  <a:pt x="624" y="104"/>
                  <a:pt x="603" y="82"/>
                </a:cubicBezTo>
                <a:cubicBezTo>
                  <a:pt x="586" y="30"/>
                  <a:pt x="590" y="17"/>
                  <a:pt x="539" y="0"/>
                </a:cubicBezTo>
                <a:cubicBezTo>
                  <a:pt x="530" y="9"/>
                  <a:pt x="516" y="15"/>
                  <a:pt x="512" y="27"/>
                </a:cubicBezTo>
                <a:cubicBezTo>
                  <a:pt x="503" y="60"/>
                  <a:pt x="513" y="96"/>
                  <a:pt x="502" y="128"/>
                </a:cubicBezTo>
                <a:cubicBezTo>
                  <a:pt x="499" y="137"/>
                  <a:pt x="484" y="136"/>
                  <a:pt x="475" y="137"/>
                </a:cubicBezTo>
                <a:cubicBezTo>
                  <a:pt x="427" y="142"/>
                  <a:pt x="378" y="143"/>
                  <a:pt x="329" y="146"/>
                </a:cubicBezTo>
                <a:cubicBezTo>
                  <a:pt x="282" y="193"/>
                  <a:pt x="285" y="274"/>
                  <a:pt x="246" y="329"/>
                </a:cubicBezTo>
                <a:cubicBezTo>
                  <a:pt x="243" y="338"/>
                  <a:pt x="242" y="348"/>
                  <a:pt x="237" y="357"/>
                </a:cubicBezTo>
                <a:cubicBezTo>
                  <a:pt x="198" y="427"/>
                  <a:pt x="188" y="419"/>
                  <a:pt x="109" y="430"/>
                </a:cubicBezTo>
                <a:cubicBezTo>
                  <a:pt x="86" y="464"/>
                  <a:pt x="52" y="489"/>
                  <a:pt x="18" y="512"/>
                </a:cubicBezTo>
                <a:cubicBezTo>
                  <a:pt x="5" y="551"/>
                  <a:pt x="11" y="530"/>
                  <a:pt x="0" y="576"/>
                </a:cubicBezTo>
                <a:close/>
              </a:path>
            </a:pathLst>
          </a:custGeom>
          <a:solidFill>
            <a:srgbClr val="dbc08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0" name="Oval 15"/>
          <p:cNvSpPr/>
          <p:nvPr/>
        </p:nvSpPr>
        <p:spPr>
          <a:xfrm>
            <a:off x="5181480" y="1295280"/>
            <a:ext cx="1729080" cy="14414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ыполнение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оручений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етьми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1" name="Oval 16"/>
          <p:cNvSpPr/>
          <p:nvPr/>
        </p:nvSpPr>
        <p:spPr>
          <a:xfrm>
            <a:off x="4191120" y="152280"/>
            <a:ext cx="1728720" cy="14414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оказ действия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 предметами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и их наз-е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2" name="Oval 17"/>
          <p:cNvSpPr/>
          <p:nvPr/>
        </p:nvSpPr>
        <p:spPr>
          <a:xfrm>
            <a:off x="1828800" y="1676520"/>
            <a:ext cx="1728720" cy="14414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оказ предмета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и его называние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3" name="Oval 19"/>
          <p:cNvSpPr/>
          <p:nvPr/>
        </p:nvSpPr>
        <p:spPr>
          <a:xfrm>
            <a:off x="2743200" y="2743200"/>
            <a:ext cx="1728720" cy="14414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блюдение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за живыми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объектами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4"/>
          <p:cNvSpPr/>
          <p:nvPr/>
        </p:nvSpPr>
        <p:spPr>
          <a:xfrm>
            <a:off x="380880" y="189360"/>
            <a:ext cx="845820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Цель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применить на практике систему работы по обогащению и активизации словаря детей 2-3 лет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Задачи эксперимента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Провести логопедическое обследование детей 2-3 летнего возраст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Проанализировать данные логопедического обследования и выбрать  содержание работы по обогащению и развитию словаря детей 2-3 лет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Применить  на практике  систему  работы по обогащению и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активизации  словаря  и проследить динамику речевого развития детей 2-3 лет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бъект исследовани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20 детей 2-3 летнего возраста МДОУ црр д/с № 8 «Сказка» г. Семёнова Нижегородской области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cover dir="ru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5"/>
          <p:cNvSpPr/>
          <p:nvPr/>
        </p:nvSpPr>
        <p:spPr>
          <a:xfrm>
            <a:off x="380880" y="907920"/>
            <a:ext cx="85345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Коррекционная работа по обогащению и активизации словаря детей 2-3 лет 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ahoma"/>
              </a:rPr>
              <a:t>предполагала изучение дошкольниками художественной литературы: рус. нар. сказки «Колобок» с целью обогащения и активизации словаря детей существительными (дикие животные – заяц, волк, медведь, лиса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cover dir="ru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66"/>
          <p:cNvSpPr/>
          <p:nvPr/>
        </p:nvSpPr>
        <p:spPr>
          <a:xfrm>
            <a:off x="228600" y="542520"/>
            <a:ext cx="8610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лученных данных показал, что в экспериментальной группе детей с высоким уровнем на 20% меньше, чем в контрольной; детей со средним уровнем в экспериментальной группе больше на 10%, а количество детей с низким уровнем в экспериментальной группе относительно контрольной больше на 10%.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констатирующего эксперимента мы взяли детей с более низким уровнем развития словаря. 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7" name="Rectangle 84"/>
          <p:cNvSpPr/>
          <p:nvPr/>
        </p:nvSpPr>
        <p:spPr>
          <a:xfrm>
            <a:off x="-4527360" y="2267640"/>
            <a:ext cx="192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cover dir="ru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74772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Формирующий эксперимент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Основные задачи: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разработать комплекс элементов пальчиковых игр к определённому художественному произведению для обогащения и активизации словаря детей;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разработать серию занятий с постепенным введением элементов пальчиковых игр.</a:t>
            </a:r>
            <a:br>
              <a:rPr sz="28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azka</cp:lastModifiedBy>
  <dcterms:modified xsi:type="dcterms:W3CDTF">2013-10-16T11:39:5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