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812-CB65-41CE-8F4A-D1F5C5C8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F74-199C-4A86-8FA7-91052A6F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AD6-FF1C-476F-8FA4-5ABCF9D5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AEB-6ECA-4FAE-A047-126C2CC5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F9BA-AF3E-4299-AA32-DE9C01EB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317F-7ED0-4BEE-B237-38F1882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94A1-99B2-49D3-8041-5F1D331F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F11E-C4A8-412D-B122-CEB4FF73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AA35-39C2-4E48-906F-63303579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E535-FCF6-47CC-932C-FA8040B4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C333-88A0-4D93-9B88-8A6D9C0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30B-8F90-4EDB-92C7-50447968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7E2F-653A-46B3-A667-1E78245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0F4F-D327-4C4D-8EA3-6DEE4F3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D621-A2F0-4B41-8FE9-4623BE5C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606F-8801-4195-857E-45D690F5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E472-70EF-4B3A-9910-4BA0268D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BBA-B930-4CA9-83DD-1AAE6B9B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F6A-D6D1-4103-93F3-70D84363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CFB-6464-4F96-B709-A65A8759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748-3A7D-4510-ADD2-9530533C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CE9-B748-4B79-A3BF-F5E9109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9D9-4276-4BF6-8FB2-38973F05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96B-FE60-426B-AC6A-B6C6058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AA5B-4434-4FE8-84EA-4D2E4CF4AD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5D66-D365-4D93-AF53-490C20B4FD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ribnoe.info/article248.html" TargetMode="External"/><Relationship Id="rId2" Type="http://schemas.openxmlformats.org/officeDocument/2006/relationships/hyperlink" Target="http://zagribami.narod.ru/foto.html" TargetMode="External"/><Relationship Id="rId3" Type="http://schemas.openxmlformats.org/officeDocument/2006/relationships/hyperlink" Target="http://zagribami.narod.ru/foto.html" TargetMode="External"/><Relationship Id="rId4" Type="http://schemas.openxmlformats.org/officeDocument/2006/relationships/hyperlink" Target="http://zagribami.narod.ru/foto.html" TargetMode="External"/><Relationship Id="rId5" Type="http://schemas.openxmlformats.org/officeDocument/2006/relationships/hyperlink" Target="http://zagribami.narod.ru/foto.html" TargetMode="External"/><Relationship Id="rId6" Type="http://schemas.openxmlformats.org/officeDocument/2006/relationships/hyperlink" Target="http://zagribami.narod.ru/foto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Учебный проект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В царстве грибов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369600">
            <a:off x="6084720" y="2349000"/>
            <a:ext cx="2267280" cy="2009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4437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 rot="952200">
            <a:off x="3635280" y="4005000"/>
            <a:ext cx="1743120" cy="2628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940360" y="450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 rot="21364200">
            <a:off x="684000" y="249192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276720" y="2060640"/>
            <a:ext cx="24192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формационные источн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gribnoe.info/article248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allgrib.r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darlesa.r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zagribami.narod.ru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foto.htm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тлас – определитель «От земли до неба» А.А.Плеша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кружающий мир: Хрестомати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.Н.Федотова, Г.В.Трафим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Группа «Теоретики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2927520"/>
            <a:ext cx="800244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Проблемный вопрос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: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Грибы – это кто или что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Учебные вопросы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Какие бывают грибы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Из каких частей состоит гриб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Где растут грибы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Какие правила нужно соблюдать при сборе грибов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ие бывают грибы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оворя о грибах, люди чаще всего имеют в виду шляпочные грибы, которые растут в лесу. Например, грузди, лисички, опята, мухомо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грибном царстве есть карлики – это дрожжевые и плесневые грибы. Их используют, например, при производстве хлеба, сыра, кефира, некоторых лекарст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0" y="3733920"/>
            <a:ext cx="9117000" cy="3124080"/>
          </a:xfrm>
          <a:prstGeom prst="rect">
            <a:avLst/>
          </a:prstGeom>
          <a:ln w="0">
            <a:noFill/>
          </a:ln>
        </p:spPr>
      </p:pic>
      <p:sp>
        <p:nvSpPr>
          <p:cNvPr id="108" name="Freeform 11"/>
          <p:cNvSpPr/>
          <p:nvPr/>
        </p:nvSpPr>
        <p:spPr>
          <a:xfrm>
            <a:off x="3924360" y="1557360"/>
            <a:ext cx="1523880" cy="2793960"/>
          </a:xfrm>
          <a:prstGeom prst="pie">
            <a:avLst/>
          </a:prstGeom>
          <a:gradFill rotWithShape="0">
            <a:gsLst>
              <a:gs pos="0">
                <a:srgbClr val="969696"/>
              </a:gs>
              <a:gs pos="50000">
                <a:srgbClr val="dcdcdc"/>
              </a:gs>
              <a:gs pos="100000">
                <a:srgbClr val="969696"/>
              </a:gs>
            </a:gsLst>
            <a:lin ang="0"/>
          </a:gra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Freeform 12"/>
          <p:cNvSpPr/>
          <p:nvPr/>
        </p:nvSpPr>
        <p:spPr>
          <a:xfrm>
            <a:off x="2987640" y="981000"/>
            <a:ext cx="3657600" cy="1486080"/>
          </a:xfrm>
          <a:prstGeom prst="pi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 rot="20506800">
            <a:off x="395280" y="4292280"/>
            <a:ext cx="4203720" cy="2070000"/>
          </a:xfrm>
          <a:prstGeom prst="pie">
            <a:avLst/>
          </a:prstGeom>
          <a:gradFill rotWithShape="0">
            <a:gsLst>
              <a:gs pos="0">
                <a:srgbClr val="4c5444"/>
              </a:gs>
              <a:gs pos="50000">
                <a:srgbClr val="33cccc"/>
              </a:gs>
              <a:gs pos="100000">
                <a:srgbClr val="4c5444"/>
              </a:gs>
            </a:gsLst>
            <a:lin ang="6492000"/>
          </a:gra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4859280" y="2997360"/>
            <a:ext cx="3873600" cy="1777320"/>
            <a:chOff x="4859280" y="2997360"/>
            <a:chExt cx="3873600" cy="1777320"/>
          </a:xfrm>
        </p:grpSpPr>
        <p:sp>
          <p:nvSpPr>
            <p:cNvPr id="112" name="Freeform 16"/>
            <p:cNvSpPr/>
            <p:nvPr/>
          </p:nvSpPr>
          <p:spPr>
            <a:xfrm>
              <a:off x="4859280" y="3301920"/>
              <a:ext cx="3873600" cy="147276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4c5444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5913360" y="2997360"/>
              <a:ext cx="457200" cy="419040"/>
            </a:xfrm>
            <a:prstGeom prst="pie">
              <a:avLst/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Freeform 18"/>
            <p:cNvSpPr/>
            <p:nvPr/>
          </p:nvSpPr>
          <p:spPr>
            <a:xfrm>
              <a:off x="7666200" y="3378240"/>
              <a:ext cx="380880" cy="228240"/>
            </a:xfrm>
            <a:prstGeom prst="pie">
              <a:avLst/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5" name="AutoShape 25"/>
          <p:cNvSpPr/>
          <p:nvPr/>
        </p:nvSpPr>
        <p:spPr>
          <a:xfrm rot="20541600">
            <a:off x="5148000" y="2852640"/>
            <a:ext cx="1257120" cy="268560"/>
          </a:xfrm>
          <a:prstGeom prst="leftArrow">
            <a:avLst>
              <a:gd name="adj1" fmla="val 23231"/>
              <a:gd name="adj2" fmla="val 174041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6462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 rot="20541600">
            <a:off x="6227280" y="1412640"/>
            <a:ext cx="1257480" cy="268200"/>
          </a:xfrm>
          <a:prstGeom prst="leftArrow">
            <a:avLst>
              <a:gd name="adj1" fmla="val 23231"/>
              <a:gd name="adj2" fmla="val 174324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6462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413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лодовое те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242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ож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105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шляп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501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рибни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119700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41600" y="57600"/>
            <a:ext cx="7809480" cy="7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 каких частей состоит гриб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де растут грибы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рудно грибу прожить одному. Зеленых листьев у него нет, сам приготовить пищу из углекислого газа на свету он не может. Приходится ему искать помощи. Тонкие нити грибницы растут от центра в разные стороны, натыкаются на корни дерева, проникают внутрь корешков и образуется грибокорень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Грибница не враг дерева,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 его друг и помощник.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 такой дружбы и грибу и дереву большая польза. Гриб получает от дерева недостающий ему сахар, а взамен делится с «великаном» водой. Не жалеет гриб для дерева и пищи, которую сам добывает из почвы. За многие годы дружбы и грибы, и деревья хорошо приспособились друг к друг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81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ждому грибочку – свое место в лесочк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блюдательные люди знают, у какого дерева какой гриб надо иска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дберёзовики – в березовых рощах, подосиновики – в осинниках, сыроежки и грузди – в еловых лесах, белые грибы – около берёз, дуб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524720" y="508464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00360" y="508464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012000" y="5084640"/>
            <a:ext cx="1152360" cy="1366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284720" y="5084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ие правила нужно соблюдать при сборе грибов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бирай только те грибы, которые хорошо знаешь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 собирай старые и червивые грибы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 собирай грибы возле шоссейных дорог и промышленных предприятий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и сборе не обламывай ножки грибов! Не вырывай грибы с комом земли – этим ты можешь повредить грибницу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 срывай съедобные грибы, если ты не хочешь их взять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 сбивай и не растаптывай ядовитые и несъедобные грибы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 откладывай на следующий день обработку свежих грибов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риб – это кто или что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рибы – уникальные организ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лавные отличия грибов от животных в том, что грибы растут неограниченно в течение всей жизни, размножаются спо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лавное отличие грибов от  растений – способ питания. Грибы не могут готовить себе пищу из воды и углекислого газа с помощью солнечного све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рибы выделены в отдельную группу живой приро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18:40:10Z</dcterms:created>
  <dc:creator>Roman</dc:creator>
  <dc:description/>
  <dc:language>en-US</dc:language>
  <cp:lastModifiedBy>Roman</cp:lastModifiedBy>
  <dcterms:modified xsi:type="dcterms:W3CDTF">2012-06-14T20:13:36Z</dcterms:modified>
  <cp:revision>7</cp:revision>
  <dc:subject/>
  <dc:title>Слайд 1</dc:title>
</cp:coreProperties>
</file>