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15138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6B31-7058-430A-B767-AFCFB9092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2A77-C3BF-454A-8C9C-AC577CB87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E331-7C96-480A-BBE9-78D4A7B36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1F3D-09AB-4E3E-A277-5A569CB37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4E4EF3-30B2-498C-A009-606942731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B0828E-1DE4-474A-A217-78F1B5454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A2DAE0-2BDD-4216-9826-015A09CE8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58E56F-A49F-4925-8E79-D91E2CD37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8FCC7C-A8C0-48FC-A6AF-32E8277E8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16D061-CF6F-43F9-8AE3-3D197E7E8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FA7F94-1260-4257-86DC-E94863B6E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D3B5-5BED-42BE-9F9A-3CF399C40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CE2372-4E19-408A-B02C-8BD6A113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C805AF-B1A2-4E91-99C3-073A70E09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8B56C5-3CA4-4977-BBDD-B1A3FF9F5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0C3C6D-01AB-4FFB-B2B5-8DE536B3A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0B24E5-96A0-4F37-84E3-E3BFD953D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39F6-36AB-4656-A3BA-E2FF5AE18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57D7-D2B3-4BB5-A198-81EE78B4F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5029-CA62-4FF0-9D18-53A5DAEFD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DC20-3FD6-4908-86A9-A61AA5B90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6848-5FB8-4533-874F-DC9B577A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8D60-36E4-4AD2-9BEB-4B8A12D5E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191B-CA24-46C5-806B-E8647605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CC92B-06EB-468A-84F3-471C1C86E5C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F8181-267D-41EB-87E7-80BE899DFDF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089;&#1084;&#1086;&#1090;&#1088;&#1099;%20&#1087;&#1077;&#1089;&#1085;&#1080;%20&#1080;%20&#1089;&#1090;&#1088;&#1086;&#1103;" TargetMode="External"/><Relationship Id="rId3" Type="http://schemas.openxmlformats.org/officeDocument/2006/relationships/hyperlink" Target="file:///&#1089;&#1084;&#1086;&#1090;&#1088;&#1099;%20&#1087;&#1077;&#1089;&#1085;&#1080;%20&#1080;%20&#1089;&#1090;&#1088;&#1086;&#1103;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" Target="slide10.xml"/><Relationship Id="rId5" Type="http://schemas.openxmlformats.org/officeDocument/2006/relationships/slide" Target="slide10.xml"/><Relationship Id="rId6" Type="http://schemas.openxmlformats.org/officeDocument/2006/relationships/slide" Target="slide10.xml"/><Relationship Id="rId7" Type="http://schemas.openxmlformats.org/officeDocument/2006/relationships/slide" Target="slide10.xml"/><Relationship Id="rId8" Type="http://schemas.openxmlformats.org/officeDocument/2006/relationships/slide" Target="slide11.xml"/><Relationship Id="rId9" Type="http://schemas.openxmlformats.org/officeDocument/2006/relationships/slide" Target="slide11.xml"/><Relationship Id="rId10" Type="http://schemas.openxmlformats.org/officeDocument/2006/relationships/slide" Target="slide11.xml"/><Relationship Id="rId11" Type="http://schemas.openxmlformats.org/officeDocument/2006/relationships/slide" Target="slide7.xml"/><Relationship Id="rId12" Type="http://schemas.openxmlformats.org/officeDocument/2006/relationships/slide" Target="slide7.xml"/><Relationship Id="rId13" Type="http://schemas.openxmlformats.org/officeDocument/2006/relationships/slide" Target="slide7.xml"/><Relationship Id="rId14" Type="http://schemas.openxmlformats.org/officeDocument/2006/relationships/slide" Target="slide7.xml"/><Relationship Id="rId15" Type="http://schemas.openxmlformats.org/officeDocument/2006/relationships/slide" Target="slide8.xml"/><Relationship Id="rId16" Type="http://schemas.openxmlformats.org/officeDocument/2006/relationships/slide" Target="slide8.xml"/><Relationship Id="rId17" Type="http://schemas.openxmlformats.org/officeDocument/2006/relationships/slide" Target="slide9.xml"/><Relationship Id="rId18" Type="http://schemas.openxmlformats.org/officeDocument/2006/relationships/slide" Target="slide9.xml"/><Relationship Id="rId19" Type="http://schemas.openxmlformats.org/officeDocument/2006/relationships/slide" Target="slide9.xml"/><Relationship Id="rId2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087;&#1088;&#1077;&#1076;&#1084;&#1077;&#1090;&#1085;&#1099;&#1077;%20&#1085;&#1077;&#1076;&#1077;&#1083;&#1080;" TargetMode="External"/><Relationship Id="rId3" Type="http://schemas.openxmlformats.org/officeDocument/2006/relationships/hyperlink" Target="file:///&#1087;&#1088;&#1077;&#1076;&#1084;&#1077;&#1090;&#1085;&#1099;&#1077;%20&#1085;&#1077;&#1076;&#1077;&#1083;&#1080;" TargetMode="External"/><Relationship Id="rId4" Type="http://schemas.openxmlformats.org/officeDocument/2006/relationships/hyperlink" Target="file:///&#1080;&#1089;&#1089;&#1083;&#1077;&#1076;&#1086;&#1074;&#1072;&#1090;&#1077;&#1083;&#1100;&#1089;&#1082;&#1080;&#1077;%20&#1088;&#1072;&#1073;&#1086;&#1090;&#1099;" TargetMode="External"/><Relationship Id="rId5" Type="http://schemas.openxmlformats.org/officeDocument/2006/relationships/hyperlink" Target="file:///&#1080;&#1089;&#1089;&#1083;&#1077;&#1076;&#1086;&#1074;&#1072;&#1090;&#1077;&#1083;&#1100;&#1089;&#1082;&#1080;&#1077;%20&#1088;&#1072;&#1073;&#1086;&#1090;&#1099;" TargetMode="External"/><Relationship Id="rId6" Type="http://schemas.openxmlformats.org/officeDocument/2006/relationships/hyperlink" Target="file:///&#1080;&#1089;&#1089;&#1083;&#1077;&#1076;&#1086;&#1074;&#1072;&#1090;&#1077;&#1083;&#1100;&#1089;&#1082;&#1080;&#1077;%20&#1088;&#1072;&#1073;&#1086;&#1090;&#1099;" TargetMode="External"/><Relationship Id="rId7" Type="http://schemas.openxmlformats.org/officeDocument/2006/relationships/hyperlink" Target="file:///&#1087;&#1088;&#1086;&#1077;&#1082;&#1090;&#1085;&#1072;&#1103;%20&#1076;&#1077;&#1103;&#1090;&#1077;&#1083;&#1100;&#1085;&#1086;&#1089;&#1090;&#1100;" TargetMode="External"/><Relationship Id="rId8" Type="http://schemas.openxmlformats.org/officeDocument/2006/relationships/hyperlink" Target="file:///&#1087;&#1088;&#1086;&#1077;&#1082;&#1090;&#1085;&#1072;&#1103;%20&#1076;&#1077;&#1103;&#1090;&#1077;&#1083;&#1100;&#1085;&#1086;&#1089;&#1090;&#1100;" TargetMode="External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042;&#1089;&#1090;&#1088;&#1077;&#1095;&#1080;%20&#1089;%20&#1087;&#1088;&#1077;&#1087;&#1086;&#1076;&#1072;&#1074;&#1072;&#1090;&#1077;&#1083;&#1103;&#1084;&#1080;%20&#1074;&#1091;&#1079;&#1086;&#1074;" TargetMode="External"/><Relationship Id="rId3" Type="http://schemas.openxmlformats.org/officeDocument/2006/relationships/hyperlink" Target="file:///&#1042;&#1089;&#1090;&#1088;&#1077;&#1095;&#1080;%20&#1089;%20&#1087;&#1088;&#1077;&#1087;&#1086;&#1076;&#1072;&#1074;&#1072;&#1090;&#1077;&#1083;&#1103;&#1084;&#1080;%20&#1074;&#1091;&#1079;&#1086;&#1074;" TargetMode="External"/><Relationship Id="rId4" Type="http://schemas.openxmlformats.org/officeDocument/2006/relationships/hyperlink" Target="file:///&#1042;&#1089;&#1090;&#1088;&#1077;&#1095;&#1080;%20&#1089;%20&#1087;&#1088;&#1077;&#1087;&#1086;&#1076;&#1072;&#1074;&#1072;&#1090;&#1077;&#1083;&#1103;&#1084;&#1080;%20&#1074;&#1091;&#1079;&#1086;&#1074;" TargetMode="External"/><Relationship Id="rId5" Type="http://schemas.openxmlformats.org/officeDocument/2006/relationships/hyperlink" Target="file:///&#1083;&#1080;&#1090;&#1077;&#1088;&#1072;&#1090;&#1091;&#1088;&#1085;&#1072;&#1103;%20&#1075;&#1086;&#1089;&#1090;&#1080;&#1085;&#1085;&#1072;&#1103;" TargetMode="External"/><Relationship Id="rId6" Type="http://schemas.openxmlformats.org/officeDocument/2006/relationships/hyperlink" Target="file:///&#1083;&#1080;&#1090;&#1077;&#1088;&#1072;&#1090;&#1091;&#1088;&#1085;&#1072;&#1103;%20&#1075;&#1086;&#1089;&#1090;&#1080;&#1085;&#1085;&#1072;&#1103;" TargetMode="External"/><Relationship Id="rId7" Type="http://schemas.openxmlformats.org/officeDocument/2006/relationships/hyperlink" Target="file:///&#1064;&#1090;&#1072;&#1073;%20&#1058;&#1080;&#1084;&#1091;&#1088;&#1086;&#1074;&#1077;&#1094;" TargetMode="External"/><Relationship Id="rId8" Type="http://schemas.openxmlformats.org/officeDocument/2006/relationships/hyperlink" Target="file:///&#1064;&#1090;&#1072;&#1073;%20&#1058;&#1080;&#1084;&#1091;&#1088;&#1086;&#1074;&#1077;&#1094;" TargetMode="External"/><Relationship Id="rId9" Type="http://schemas.openxmlformats.org/officeDocument/2006/relationships/hyperlink" Target="file:///&#1064;&#1090;&#1072;&#1073;%20&#1058;&#1080;&#1084;&#1091;&#1088;&#1086;&#1074;&#1077;&#1094;" TargetMode="External"/><Relationship Id="rId10" Type="http://schemas.openxmlformats.org/officeDocument/2006/relationships/hyperlink" Target="file:///&#1064;&#1090;&#1072;&#1073;%20&#1058;&#1080;&#1084;&#1091;&#1088;&#1086;&#1074;&#1077;&#1094;" TargetMode="External"/><Relationship Id="rId1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040;&#1082;&#1094;&#1080;&#1103;%20&#1095;&#1080;&#1089;&#1090;&#1099;&#1081;%20&#1096;&#1082;&#1086;&#1083;&#1100;&#1085;&#1099;&#1081;%20&#1076;&#1074;&#1086;&#1088;" TargetMode="External"/><Relationship Id="rId3" Type="http://schemas.openxmlformats.org/officeDocument/2006/relationships/hyperlink" Target="file:///&#1040;&#1082;&#1094;&#1080;&#1103;%20&#1095;&#1080;&#1089;&#1090;&#1099;&#1081;%20&#1096;&#1082;&#1086;&#1083;&#1100;&#1085;&#1099;&#1081;%20&#1076;&#1074;&#1086;&#1088;" TargetMode="External"/><Relationship Id="rId4" Type="http://schemas.openxmlformats.org/officeDocument/2006/relationships/hyperlink" Target="file:///&#1074;&#1099;&#1089;&#1090;&#1072;&#1074;&#1082;&#1080;%20&#1090;&#1074;&#1086;&#1088;&#1095;&#1077;&#1089;&#1090;&#1074;&#1072;" TargetMode="External"/><Relationship Id="rId5" Type="http://schemas.openxmlformats.org/officeDocument/2006/relationships/hyperlink" Target="file:///&#1074;&#1099;&#1089;&#1090;&#1072;&#1074;&#1082;&#1080;%20&#1090;&#1074;&#1086;&#1088;&#1095;&#1077;&#1089;&#1090;&#1074;&#1072;" TargetMode="External"/><Relationship Id="rId6" Type="http://schemas.openxmlformats.org/officeDocument/2006/relationships/hyperlink" Target="file:///&#1055;&#1088;&#1072;&#1082;&#1090;&#1080;&#1082;&#1072;%20&#1074;%20&#1059;&#1055;&#1050;" TargetMode="External"/><Relationship Id="rId7" Type="http://schemas.openxmlformats.org/officeDocument/2006/relationships/hyperlink" Target="file:///&#1055;&#1088;&#1072;&#1082;&#1090;&#1080;&#1082;&#1072;%20&#1074;%20&#1059;&#1055;&#1050;" TargetMode="External"/><Relationship Id="rId8" Type="http://schemas.openxmlformats.org/officeDocument/2006/relationships/hyperlink" Target="file:///&#1055;&#1088;&#1072;&#1082;&#1090;&#1080;&#1082;&#1072;%20&#1074;%20&#1059;&#1055;&#1050;" TargetMode="External"/><Relationship Id="rId9" Type="http://schemas.openxmlformats.org/officeDocument/2006/relationships/hyperlink" Target="file:///&#1055;&#1088;&#1072;&#1082;&#1090;&#1080;&#1082;&#1072;%20&#1074;%20&#1059;&#1055;&#1050;" TargetMode="External"/><Relationship Id="rId10" Type="http://schemas.openxmlformats.org/officeDocument/2006/relationships/hyperlink" Target="file:///&#1055;&#1088;&#1072;&#1082;&#1090;&#1080;&#1082;&#1072;%20&#1074;%20&#1059;&#1055;&#1050;" TargetMode="External"/><Relationship Id="rId11" Type="http://schemas.openxmlformats.org/officeDocument/2006/relationships/hyperlink" Target="file:///&#1055;&#1088;&#1072;&#1082;&#1090;&#1080;&#1082;&#1072;%20&#1074;%20&#1059;&#1055;&#1050;" TargetMode="External"/><Relationship Id="rId1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AutoShape 5"/>
          <p:cNvSpPr/>
          <p:nvPr/>
        </p:nvSpPr>
        <p:spPr>
          <a:xfrm>
            <a:off x="179280" y="836640"/>
            <a:ext cx="8713800" cy="496872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0560" y="1916280"/>
            <a:ext cx="8893080" cy="30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«Духовно-нравственное воспитание в современной</a:t>
            </a:r>
            <a:br>
              <a:rPr sz="4400"/>
            </a:b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школе»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                        </a:t>
            </a:r>
            <a:r>
              <a:rPr b="0" lang="ru-RU" sz="2400" spc="-1" strike="noStrike">
                <a:solidFill>
                  <a:srgbClr val="ff3399"/>
                </a:solidFill>
                <a:latin typeface="Tahoma"/>
              </a:rPr>
              <a:t>заместитель директора по ВР </a:t>
            </a:r>
            <a:br>
              <a:rPr sz="2400"/>
            </a:br>
            <a:r>
              <a:rPr b="0" lang="en-US" sz="2400" spc="-1" strike="noStrike">
                <a:solidFill>
                  <a:srgbClr val="ff3399"/>
                </a:solidFill>
                <a:latin typeface="Tahoma"/>
              </a:rPr>
              <a:t>                                          </a:t>
            </a:r>
            <a:r>
              <a:rPr b="0" lang="ru-RU" sz="2400" spc="-1" strike="noStrike">
                <a:solidFill>
                  <a:srgbClr val="ff3399"/>
                </a:solidFill>
                <a:latin typeface="Tahoma"/>
              </a:rPr>
              <a:t>МОУ «Днестровская СШ№1» </a:t>
            </a:r>
            <a:br>
              <a:rPr sz="2400"/>
            </a:br>
            <a:r>
              <a:rPr b="0" lang="en-US" sz="2400" spc="-1" strike="noStrike">
                <a:solidFill>
                  <a:srgbClr val="ff3399"/>
                </a:solidFill>
                <a:latin typeface="Tahoma"/>
              </a:rPr>
              <a:t>                                          </a:t>
            </a:r>
            <a:r>
              <a:rPr b="0" lang="ru-RU" sz="2400" spc="-1" strike="noStrike">
                <a:solidFill>
                  <a:srgbClr val="ff3399"/>
                </a:solidFill>
                <a:latin typeface="Tahoma"/>
              </a:rPr>
              <a:t>Якименко Светлана Ивановна</a:t>
            </a:r>
            <a:r>
              <a:rPr b="0" lang="en-US" sz="2400" spc="-1" strike="noStrike">
                <a:solidFill>
                  <a:srgbClr val="ff3399"/>
                </a:solidFill>
                <a:latin typeface="Tahoma"/>
              </a:rPr>
              <a:t>.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Физкультурно0оздоровительная деятельност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755640" y="1773360"/>
            <a:ext cx="360360" cy="718920"/>
          </a:xfrm>
          <a:prstGeom prst="downArrow">
            <a:avLst>
              <a:gd name="adj1" fmla="val 50000"/>
              <a:gd name="adj2" fmla="val 49875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763640" y="1773360"/>
            <a:ext cx="360360" cy="2160360"/>
          </a:xfrm>
          <a:prstGeom prst="downArrow">
            <a:avLst>
              <a:gd name="adj1" fmla="val 50000"/>
              <a:gd name="adj2" fmla="val 149875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700360" y="1773360"/>
            <a:ext cx="360360" cy="3384360"/>
          </a:xfrm>
          <a:prstGeom prst="downArrow">
            <a:avLst>
              <a:gd name="adj1" fmla="val 50000"/>
              <a:gd name="adj2" fmla="val 234790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164360" y="1773360"/>
            <a:ext cx="360360" cy="718920"/>
          </a:xfrm>
          <a:prstGeom prst="downArrow">
            <a:avLst>
              <a:gd name="adj1" fmla="val 50000"/>
              <a:gd name="adj2" fmla="val 49875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012000" y="1773360"/>
            <a:ext cx="360360" cy="3311280"/>
          </a:xfrm>
          <a:prstGeom prst="downArrow">
            <a:avLst>
              <a:gd name="adj1" fmla="val 50000"/>
              <a:gd name="adj2" fmla="val 229720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780000" y="1773360"/>
            <a:ext cx="360360" cy="718920"/>
          </a:xfrm>
          <a:prstGeom prst="downArrow">
            <a:avLst>
              <a:gd name="adj1" fmla="val 50000"/>
              <a:gd name="adj2" fmla="val 49875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003640" y="1773360"/>
            <a:ext cx="360360" cy="2160360"/>
          </a:xfrm>
          <a:prstGeom prst="downArrow">
            <a:avLst>
              <a:gd name="adj1" fmla="val 50000"/>
              <a:gd name="adj2" fmla="val 149875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317080" y="1773360"/>
            <a:ext cx="360360" cy="2087280"/>
          </a:xfrm>
          <a:prstGeom prst="downArrow">
            <a:avLst>
              <a:gd name="adj1" fmla="val 50000"/>
              <a:gd name="adj2" fmla="val 144805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3068640"/>
            <a:ext cx="1584360" cy="792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ahoma"/>
              </a:rPr>
              <a:t>Физкульт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ahoma"/>
              </a:rPr>
              <a:t>минутк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71640" y="4149720"/>
            <a:ext cx="1584360" cy="792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День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здоровь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24000" y="5300640"/>
            <a:ext cx="158436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Веселы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старт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132000" y="3068640"/>
            <a:ext cx="1584360" cy="792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Защи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проект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«Мы за ЗОЖ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11640" y="4149720"/>
            <a:ext cx="1584360" cy="792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А ну-ка, парни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64000" y="5300640"/>
            <a:ext cx="180036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Осенне-весен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кросс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516720" y="2997360"/>
            <a:ext cx="1655640" cy="936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Акции 9 ма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«Наши победы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тебе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победитель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559640" y="4149720"/>
            <a:ext cx="1584360" cy="792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Тематическ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классные час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Общественно-полезная деятельност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971640" y="1700280"/>
            <a:ext cx="360360" cy="1657440"/>
          </a:xfrm>
          <a:prstGeom prst="downArrow">
            <a:avLst>
              <a:gd name="adj1" fmla="val 50000"/>
              <a:gd name="adj2" fmla="val 114985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132000" y="1700280"/>
            <a:ext cx="360360" cy="718920"/>
          </a:xfrm>
          <a:prstGeom prst="downArrow">
            <a:avLst>
              <a:gd name="adj1" fmla="val 50000"/>
              <a:gd name="adj2" fmla="val 49875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236000" y="1700280"/>
            <a:ext cx="360360" cy="718920"/>
          </a:xfrm>
          <a:prstGeom prst="downArrow">
            <a:avLst>
              <a:gd name="adj1" fmla="val 50000"/>
              <a:gd name="adj2" fmla="val 49875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92720" y="1700280"/>
            <a:ext cx="360360" cy="718920"/>
          </a:xfrm>
          <a:prstGeom prst="downArrow">
            <a:avLst>
              <a:gd name="adj1" fmla="val 50000"/>
              <a:gd name="adj2" fmla="val 49875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5280" y="3500280"/>
            <a:ext cx="1584360" cy="8654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ahoma"/>
              </a:rPr>
              <a:t>Объединени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Tahoma"/>
              </a:rPr>
              <a:t>милосерд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Tahoma"/>
              </a:rPr>
              <a:t>штаб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ahoma"/>
              </a:rPr>
              <a:t>«Тимуровец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95640" y="2637000"/>
            <a:ext cx="2160360" cy="1008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ahoma"/>
              </a:rPr>
              <a:t>Акции: «Молодежь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ahoma"/>
              </a:rPr>
              <a:t>Днестровска за ЗОЖ»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ahoma"/>
              </a:rPr>
              <a:t>»Молодежь Днестровс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Tahoma"/>
              </a:rPr>
              <a:t>за чистоту своего города»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ahoma"/>
              </a:rPr>
              <a:t>«Доброе утро, ветеран!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643280" y="2637000"/>
            <a:ext cx="1584360" cy="792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ahoma"/>
              </a:rPr>
              <a:t>Преемственно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ahoma"/>
              </a:rPr>
              <a:t>сотрудничеств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ahoma"/>
              </a:rPr>
              <a:t>с ДОУ №1, 2, 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588000" y="2637000"/>
            <a:ext cx="1729080" cy="792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ahoma"/>
              </a:rPr>
              <a:t>Активное участи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Tahoma"/>
              </a:rPr>
              <a:t>в жизни город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11280" y="4508640"/>
            <a:ext cx="360360" cy="649080"/>
          </a:xfrm>
          <a:prstGeom prst="downArrow">
            <a:avLst>
              <a:gd name="adj1" fmla="val 50000"/>
              <a:gd name="adj2" fmla="val 45030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20074800">
            <a:off x="1618920" y="4581000"/>
            <a:ext cx="360360" cy="649440"/>
          </a:xfrm>
          <a:prstGeom prst="downArrow">
            <a:avLst>
              <a:gd name="adj1" fmla="val 50000"/>
              <a:gd name="adj2" fmla="val 45055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16200000">
            <a:off x="2340000" y="3931920"/>
            <a:ext cx="360360" cy="649080"/>
          </a:xfrm>
          <a:prstGeom prst="downArrow">
            <a:avLst>
              <a:gd name="adj1" fmla="val 50000"/>
              <a:gd name="adj2" fmla="val 45030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87640" y="4076640"/>
            <a:ext cx="158436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ahoma"/>
              </a:rPr>
              <a:t>Помощь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ahoma"/>
              </a:rPr>
              <a:t>престарелым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ahoma"/>
              </a:rPr>
              <a:t>людям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50920" y="5229360"/>
            <a:ext cx="1584360" cy="792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ahoma"/>
              </a:rPr>
              <a:t>Помощь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ahoma"/>
              </a:rPr>
              <a:t>ветеранам В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5445000"/>
            <a:ext cx="176364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ahoma"/>
              </a:rPr>
              <a:t>Помощь детям из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Tahoma"/>
              </a:rPr>
              <a:t>малообеспеченны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Tahoma"/>
              </a:rPr>
              <a:t>семе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559640" y="4005360"/>
            <a:ext cx="1584360" cy="792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Смотры песн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 и строя 9 ма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532720" y="1628640"/>
            <a:ext cx="360360" cy="1944720"/>
          </a:xfrm>
          <a:prstGeom prst="downArrow">
            <a:avLst>
              <a:gd name="adj1" fmla="val 50000"/>
              <a:gd name="adj2" fmla="val 134915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4"/>
          <p:cNvSpPr/>
          <p:nvPr/>
        </p:nvSpPr>
        <p:spPr>
          <a:xfrm>
            <a:off x="1258920" y="189000"/>
            <a:ext cx="6553080" cy="1295280"/>
          </a:xfrm>
          <a:custGeom>
            <a:avLst/>
            <a:gdLst>
              <a:gd name="textAreaLeft" fmla="*/ 152640 w 6553080"/>
              <a:gd name="textAreaRight" fmla="*/ 6400440 w 6553080"/>
              <a:gd name="textAreaTop" fmla="*/ 152640 h 1295280"/>
              <a:gd name="textAreaBottom" fmla="*/ 1142640 h 1295280"/>
            </a:gdLst>
            <a:ahLst/>
            <a:rect l="textAreaLeft" t="textAreaTop" r="textAreaRight" b="textAreaBottom"/>
            <a:pathLst>
              <a:path w="109254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05654" y="21600"/>
                </a:lnTo>
                <a:arcTo wR="3600" hR="3600" stAng="10800000" swAng="5400000"/>
                <a:lnTo>
                  <a:pt x="109254" y="3600"/>
                </a:lnTo>
                <a:arcTo wR="3600" hR="3600" stAng="5400000" swAng="5400000"/>
                <a:close/>
              </a:path>
            </a:pathLst>
          </a:custGeom>
          <a:solidFill>
            <a:srgbClr val="808000">
              <a:alpha val="41000"/>
            </a:srgbClr>
          </a:solidFill>
          <a:ln w="316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76000" y="1886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Tahoma"/>
              </a:rPr>
              <a:t>Духовно-нравственный идеа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-360" y="4508280"/>
            <a:ext cx="8713800" cy="29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6600"/>
                </a:solidFill>
                <a:uFillTx/>
                <a:latin typeface="Tahoma"/>
              </a:rPr>
              <a:t>Современность: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ысоконравственный, творческий, компетентны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ражданин, принимающий судьбу Отечества как свою личную, осознающ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ветственность за настоящее и будущее своей страны, укоренённый в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уховных и культурных традициях многонационального народа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332000" y="1628640"/>
          <a:ext cx="6048360" cy="2689200"/>
        </p:xfrm>
        <a:graphic>
          <a:graphicData uri="http://schemas.openxmlformats.org/drawingml/2006/table">
            <a:tbl>
              <a:tblPr/>
              <a:tblGrid>
                <a:gridCol w="2016360"/>
                <a:gridCol w="2016000"/>
                <a:gridCol w="2016000"/>
              </a:tblGrid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 u="sng">
                          <a:solidFill>
                            <a:srgbClr val="006600"/>
                          </a:solidFill>
                          <a:uFillTx/>
                          <a:latin typeface="Tahoma"/>
                        </a:rPr>
                        <a:t>средние века:</a:t>
                      </a:r>
                      <a:r>
                        <a:rPr b="1" lang="en-US" sz="1600" spc="-1" strike="noStrike">
                          <a:solidFill>
                            <a:srgbClr val="006600"/>
                          </a:solidFill>
                          <a:latin typeface="Tahoma"/>
                        </a:rPr>
                        <a:t>	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6600"/>
                          </a:solidFill>
                          <a:uFillTx/>
                          <a:latin typeface="Tahoma"/>
                        </a:rPr>
                        <a:t>XVIII </a:t>
                      </a:r>
                      <a:r>
                        <a:rPr b="1" lang="ru-RU" sz="2000" spc="-1" strike="noStrike">
                          <a:solidFill>
                            <a:srgbClr val="006600"/>
                          </a:solidFill>
                          <a:latin typeface="Tahoma"/>
                        </a:rPr>
                        <a:t>век:</a:t>
                      </a:r>
                      <a:r>
                        <a:rPr b="1" lang="ru-RU" sz="2000" spc="-1" strike="noStrike">
                          <a:solidFill>
                            <a:srgbClr val="006600"/>
                          </a:solidFill>
                          <a:latin typeface="Tahoma"/>
                        </a:rPr>
                        <a:t>	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6600"/>
                          </a:solidFill>
                          <a:uFillTx/>
                          <a:latin typeface="Tahoma"/>
                        </a:rPr>
                        <a:t>Советский период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4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ащитник православия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 Святой Рус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луга царю и Отечеств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сесторонне развитая личность, подчиняющая свою жизнь партии и народ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8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500"/>
                            </p:stCondLst>
                            <p:childTnLst>
                              <p:par>
                                <p:cTn id="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500"/>
                            </p:stCondLst>
                            <p:childTnLst>
                              <p:par>
                                <p:cTn id="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500"/>
                            </p:stCondLst>
                            <p:childTnLst>
                              <p:par>
                                <p:cTn id="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4500"/>
                            </p:stCondLst>
                            <p:childTnLst>
                              <p:par>
                                <p:cTn id="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500"/>
                            </p:stCondLst>
                            <p:childTnLst>
                              <p:par>
                                <p:cTn id="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68360" y="155736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0920" indent="-250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Социальные и общие личностные (идейность, гражданственность, нравственность, педагогическая направленность и эстетическая культура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0920" indent="-250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рофессионально-педагогическ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0920" indent="-250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Индивидуальные особенности познавательных процессов и их педагогическая направленность (педагогическая наблюдательность, мышление, память и т.д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0920" indent="-250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Эмоциональная отзывчив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0920" indent="-250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Волевые качест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0920" indent="-250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Особенности темперамен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0920" indent="-250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Состояние здоровь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0920" indent="-250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Творческое мышлени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0920" indent="-250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Диалоговое общени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0920" indent="-250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«Преобразовательные» способно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0920" indent="-250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едагогическая рефлекс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0920" indent="-250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оложительные этические качества (добродетели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0920" indent="-250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Высокие ценностные установки (патриотизм, гражданственность, любовь к детям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AutoShape 4"/>
          <p:cNvSpPr/>
          <p:nvPr/>
        </p:nvSpPr>
        <p:spPr>
          <a:xfrm>
            <a:off x="1042920" y="115920"/>
            <a:ext cx="7489800" cy="1414440"/>
          </a:xfrm>
          <a:custGeom>
            <a:avLst/>
            <a:gdLst>
              <a:gd name="textAreaLeft" fmla="*/ 166680 w 7489800"/>
              <a:gd name="textAreaRight" fmla="*/ 7323120 w 7489800"/>
              <a:gd name="textAreaTop" fmla="*/ 166680 h 1414440"/>
              <a:gd name="textAreaBottom" fmla="*/ 1247760 h 1414440"/>
            </a:gdLst>
            <a:ahLst/>
            <a:rect l="textAreaLeft" t="textAreaTop" r="textAreaRight" b="textAreaBottom"/>
            <a:pathLst>
              <a:path w="114354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10754" y="21600"/>
                </a:lnTo>
                <a:arcTo wR="3600" hR="3600" stAng="10800000" swAng="5400000"/>
                <a:lnTo>
                  <a:pt x="114354" y="3600"/>
                </a:lnTo>
                <a:arcTo wR="3600" hR="3600" stAng="5400000" swAng="5400000"/>
                <a:close/>
              </a:path>
            </a:pathLst>
          </a:custGeom>
          <a:solidFill>
            <a:srgbClr val="ffffff">
              <a:alpha val="50000"/>
            </a:srgbClr>
          </a:solidFill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1258920" y="189000"/>
            <a:ext cx="67705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Группы качеств личности педагога, влияющие на нравственное воспитани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500"/>
                            </p:stCondLst>
                            <p:childTnLst>
                              <p:par>
                                <p:cTn id="1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6500"/>
                            </p:stCondLst>
                            <p:childTnLst>
                              <p:par>
                                <p:cTn id="1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7500"/>
                            </p:stCondLst>
                            <p:childTnLst>
                              <p:par>
                                <p:cTn id="1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8500"/>
                            </p:stCondLst>
                            <p:childTnLst>
                              <p:par>
                                <p:cTn id="1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9500"/>
                            </p:stCondLst>
                            <p:childTnLst>
                              <p:par>
                                <p:cTn id="1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1500"/>
                            </p:stCondLst>
                            <p:childTnLst>
                              <p:par>
                                <p:cTn id="1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3500"/>
                            </p:stCondLst>
                            <p:childTnLst>
                              <p:par>
                                <p:cTn id="1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4"/>
          <p:cNvSpPr/>
          <p:nvPr/>
        </p:nvSpPr>
        <p:spPr>
          <a:xfrm>
            <a:off x="250920" y="0"/>
            <a:ext cx="8642160" cy="1511280"/>
          </a:xfrm>
          <a:custGeom>
            <a:avLst/>
            <a:gdLst>
              <a:gd name="textAreaLeft" fmla="*/ 177840 w 8642160"/>
              <a:gd name="textAreaRight" fmla="*/ 8464320 w 8642160"/>
              <a:gd name="textAreaTop" fmla="*/ 177840 h 1511280"/>
              <a:gd name="textAreaBottom" fmla="*/ 1333440 h 1511280"/>
            </a:gdLst>
            <a:ahLst/>
            <a:rect l="textAreaLeft" t="textAreaTop" r="textAreaRight" b="textAreaBottom"/>
            <a:pathLst>
              <a:path w="123494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19894" y="21600"/>
                </a:lnTo>
                <a:arcTo wR="3600" hR="3600" stAng="10800000" swAng="5400000"/>
                <a:lnTo>
                  <a:pt x="123494" y="3600"/>
                </a:lnTo>
                <a:arcTo wR="3600" hR="3600" stAng="5400000" swAng="5400000"/>
                <a:close/>
              </a:path>
            </a:pathLst>
          </a:custGeom>
          <a:solidFill>
            <a:srgbClr val="ffffff">
              <a:alpha val="35000"/>
            </a:srgbClr>
          </a:solidFill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Tahoma"/>
              </a:rPr>
              <a:t>harisma </a:t>
            </a:r>
            <a:br>
              <a:rPr sz="4800"/>
            </a:b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как высшая степень педагогической </a:t>
            </a: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одарен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94920" y="1844280"/>
            <a:ext cx="8218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яркая индивидуальность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любовь к детям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внутренняя сила, цельность, целеустремленность, притягивающая детей и взрослых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"организационное и эмоциональное" лидерство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способность генерировать идеи и увлекать ими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широта и глубина интересов, целостное мировоззрение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уверенность в своей миссии, в правильности избранного им пут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высокая степень напряженности внутренней жизни, устремленность, возвышенный характер духовно-нравственной сферы (духовность)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творческое отношение к детям, к своему делу, к миру в целом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творческое отношение к самому себе как личности - использование собственных возможностей достигает в таком учителе своей высшей формы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гуманистический приорите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8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500"/>
                            </p:stCondLst>
                            <p:childTnLst>
                              <p:par>
                                <p:cTn id="1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3500"/>
                            </p:stCondLst>
                            <p:childTnLst>
                              <p:par>
                                <p:cTn id="2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4500"/>
                            </p:stCondLst>
                            <p:childTnLst>
                              <p:par>
                                <p:cTn id="2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500"/>
                            </p:stCondLst>
                            <p:childTnLst>
                              <p:par>
                                <p:cTn id="2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6500"/>
                            </p:stCondLst>
                            <p:childTnLst>
                              <p:par>
                                <p:cTn id="2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7500"/>
                            </p:stCondLst>
                            <p:childTnLst>
                              <p:par>
                                <p:cTn id="2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8500"/>
                            </p:stCondLst>
                            <p:childTnLst>
                              <p:par>
                                <p:cTn id="2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9500"/>
                            </p:stCondLst>
                            <p:childTnLst>
                              <p:par>
                                <p:cTn id="2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1500"/>
                            </p:stCondLst>
                            <p:childTnLst>
                              <p:par>
                                <p:cTn id="2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 rot="13913400">
            <a:off x="3019320" y="3728520"/>
            <a:ext cx="439560" cy="792000"/>
          </a:xfrm>
          <a:prstGeom prst="upArrow">
            <a:avLst>
              <a:gd name="adj1" fmla="val 50000"/>
              <a:gd name="adj2" fmla="val 45045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395280" y="549360"/>
            <a:ext cx="8064360" cy="5759280"/>
            <a:chOff x="395280" y="549360"/>
            <a:chExt cx="8064360" cy="5759280"/>
          </a:xfrm>
        </p:grpSpPr>
        <p:grpSp>
          <p:nvGrpSpPr>
            <p:cNvPr id="96" name=""/>
            <p:cNvGrpSpPr/>
            <p:nvPr/>
          </p:nvGrpSpPr>
          <p:grpSpPr>
            <a:xfrm>
              <a:off x="2866320" y="1628640"/>
              <a:ext cx="3200040" cy="3672000"/>
              <a:chOff x="2866320" y="1628640"/>
              <a:chExt cx="3200040" cy="3672000"/>
            </a:xfrm>
          </p:grpSpPr>
          <p:sp>
            <p:nvSpPr>
              <p:cNvPr id="97" name=""/>
              <p:cNvSpPr/>
              <p:nvPr/>
            </p:nvSpPr>
            <p:spPr>
              <a:xfrm>
                <a:off x="3564000" y="2583000"/>
                <a:ext cx="1728720" cy="17618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ff"/>
                    </a:solidFill>
                    <a:latin typeface="Arial"/>
                  </a:rPr>
                  <a:t>Духовно-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ff"/>
                    </a:solidFill>
                    <a:latin typeface="Arial"/>
                  </a:rPr>
                  <a:t>нравственное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ff"/>
                    </a:solidFill>
                    <a:latin typeface="Arial"/>
                  </a:rPr>
                  <a:t> </a:t>
                </a:r>
                <a:r>
                  <a:rPr b="1" lang="ru-RU" sz="1800" spc="-1" strike="noStrike">
                    <a:solidFill>
                      <a:srgbClr val="0000ff"/>
                    </a:solidFill>
                    <a:latin typeface="Arial"/>
                  </a:rPr>
                  <a:t>воспитание в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ff"/>
                    </a:solidFill>
                    <a:latin typeface="Arial"/>
                  </a:rPr>
                  <a:t>МОУ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ff"/>
                    </a:solidFill>
                    <a:latin typeface="Arial"/>
                  </a:rPr>
                  <a:t>«Дн.СШ №1»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211640" y="1628640"/>
                <a:ext cx="431640" cy="808200"/>
              </a:xfrm>
              <a:prstGeom prst="upArrow">
                <a:avLst>
                  <a:gd name="adj1" fmla="val 50000"/>
                  <a:gd name="adj2" fmla="val 46810"/>
                </a:avLst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0800000">
                <a:off x="4211280" y="4492800"/>
                <a:ext cx="431640" cy="807840"/>
              </a:xfrm>
              <a:prstGeom prst="upArrow">
                <a:avLst>
                  <a:gd name="adj1" fmla="val 50000"/>
                  <a:gd name="adj2" fmla="val 46789"/>
                </a:avLst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3100200">
                <a:off x="5395680" y="2260440"/>
                <a:ext cx="439560" cy="792360"/>
              </a:xfrm>
              <a:prstGeom prst="upArrow">
                <a:avLst>
                  <a:gd name="adj1" fmla="val 50000"/>
                  <a:gd name="adj2" fmla="val 45066"/>
                </a:avLst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8540600">
                <a:off x="3092400" y="2112840"/>
                <a:ext cx="439560" cy="792000"/>
              </a:xfrm>
              <a:prstGeom prst="upArrow">
                <a:avLst>
                  <a:gd name="adj1" fmla="val 50000"/>
                  <a:gd name="adj2" fmla="val 45045"/>
                </a:avLst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7465200">
                <a:off x="5395320" y="3728880"/>
                <a:ext cx="439560" cy="792360"/>
              </a:xfrm>
              <a:prstGeom prst="upArrow">
                <a:avLst>
                  <a:gd name="adj1" fmla="val 50000"/>
                  <a:gd name="adj2" fmla="val 45066"/>
                </a:avLst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>
              <a:off x="3276720" y="549360"/>
              <a:ext cx="2232000" cy="863640"/>
            </a:xfrm>
            <a:prstGeom prst="roundRect">
              <a:avLst>
                <a:gd name="adj" fmla="val 16667"/>
              </a:avLst>
            </a:prstGeom>
            <a:solidFill>
              <a:srgbClr val="9933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ffcc00"/>
                  </a:solidFill>
                  <a:uFillTx/>
                  <a:latin typeface="Arial"/>
                  <a:hlinkClick r:id="rId2" action="ppaction://hlinksldjump"/>
                </a:rPr>
                <a:t>Познавательна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ffcc00"/>
                  </a:solidFill>
                  <a:uFillTx/>
                  <a:latin typeface="Arial"/>
                  <a:hlinkClick r:id="rId3" action="ppaction://hlinksldjump"/>
                </a:rPr>
                <a:t> деятельност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95280" y="1844640"/>
              <a:ext cx="2232000" cy="863640"/>
            </a:xfrm>
            <a:prstGeom prst="roundRect">
              <a:avLst>
                <a:gd name="adj" fmla="val 16667"/>
              </a:avLst>
            </a:prstGeom>
            <a:solidFill>
              <a:srgbClr val="9933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ffcc00"/>
                  </a:solidFill>
                  <a:uFillTx/>
                  <a:latin typeface="Arial"/>
                  <a:hlinkClick r:id="rId4" action="ppaction://hlinksldjump"/>
                </a:rPr>
                <a:t>Физкультурно</a:t>
              </a:r>
              <a:r>
                <a:rPr b="0" lang="ru-RU" sz="1800" spc="-1" strike="noStrike" u="sng">
                  <a:solidFill>
                    <a:srgbClr val="ffcc00"/>
                  </a:solidFill>
                  <a:uFillTx/>
                  <a:latin typeface="Arial"/>
                  <a:hlinkClick r:id="rId5" action="ppaction://hlinksldjump"/>
                </a:rPr>
                <a:t>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ffcc00"/>
                  </a:solidFill>
                  <a:uFillTx/>
                  <a:latin typeface="Arial"/>
                  <a:hlinkClick r:id="rId6" action="ppaction://hlinksldjump"/>
                </a:rPr>
                <a:t>оздоровительна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ffcc00"/>
                  </a:solidFill>
                  <a:uFillTx/>
                  <a:latin typeface="Arial"/>
                  <a:hlinkClick r:id="rId7" action="ppaction://hlinksldjump"/>
                </a:rPr>
                <a:t> деятельност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68360" y="4508640"/>
              <a:ext cx="2232000" cy="863640"/>
            </a:xfrm>
            <a:prstGeom prst="roundRect">
              <a:avLst>
                <a:gd name="adj" fmla="val 16667"/>
              </a:avLst>
            </a:prstGeom>
            <a:solidFill>
              <a:srgbClr val="9933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ffcc00"/>
                  </a:solidFill>
                  <a:uFillTx/>
                  <a:latin typeface="Arial"/>
                  <a:hlinkClick r:id="rId8" action="ppaction://hlinksldjump"/>
                </a:rPr>
                <a:t>Общественно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ffcc00"/>
                  </a:solidFill>
                  <a:uFillTx/>
                  <a:latin typeface="Arial"/>
                  <a:hlinkClick r:id="rId9" action="ppaction://hlinksldjump"/>
                </a:rPr>
                <a:t>полезна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ffcc00"/>
                  </a:solidFill>
                  <a:uFillTx/>
                  <a:latin typeface="Arial"/>
                  <a:hlinkClick r:id="rId10" action="ppaction://hlinksldjump"/>
                </a:rPr>
                <a:t> деятельност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27640" y="1916280"/>
              <a:ext cx="2232000" cy="863280"/>
            </a:xfrm>
            <a:prstGeom prst="roundRect">
              <a:avLst>
                <a:gd name="adj" fmla="val 16667"/>
              </a:avLst>
            </a:prstGeom>
            <a:solidFill>
              <a:srgbClr val="9933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ffcc00"/>
                  </a:solidFill>
                  <a:uFillTx/>
                  <a:latin typeface="Arial"/>
                  <a:hlinkClick r:id="rId11" action="ppaction://hlinksldjump"/>
                </a:rPr>
                <a:t>Ценностно</a:t>
              </a:r>
              <a:r>
                <a:rPr b="0" lang="ru-RU" sz="1800" spc="-1" strike="noStrike" u="sng">
                  <a:solidFill>
                    <a:srgbClr val="ffcc00"/>
                  </a:solidFill>
                  <a:uFillTx/>
                  <a:latin typeface="Arial"/>
                  <a:hlinkClick r:id="rId12" action="ppaction://hlinksldjump"/>
                </a:rPr>
                <a:t>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ffcc00"/>
                  </a:solidFill>
                  <a:uFillTx/>
                  <a:latin typeface="Arial"/>
                  <a:hlinkClick r:id="rId13" action="ppaction://hlinksldjump"/>
                </a:rPr>
                <a:t>ориентированна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ffcc00"/>
                  </a:solidFill>
                  <a:uFillTx/>
                  <a:latin typeface="Arial"/>
                  <a:hlinkClick r:id="rId14" action="ppaction://hlinksldjump"/>
                </a:rPr>
                <a:t> деятельност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156360" y="4581360"/>
              <a:ext cx="2232000" cy="863640"/>
            </a:xfrm>
            <a:prstGeom prst="roundRect">
              <a:avLst>
                <a:gd name="adj" fmla="val 16667"/>
              </a:avLst>
            </a:prstGeom>
            <a:solidFill>
              <a:srgbClr val="9933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ffcc00"/>
                  </a:solidFill>
                  <a:uFillTx/>
                  <a:latin typeface="Arial"/>
                  <a:hlinkClick r:id="rId15" action="ppaction://hlinksldjump"/>
                </a:rPr>
                <a:t>Трудовая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ffcc00"/>
                  </a:solidFill>
                  <a:uFillTx/>
                  <a:latin typeface="Arial"/>
                  <a:hlinkClick r:id="rId16" action="ppaction://hlinksldjump"/>
                </a:rPr>
                <a:t>деятельност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348000" y="5445000"/>
              <a:ext cx="2232000" cy="863640"/>
            </a:xfrm>
            <a:prstGeom prst="roundRect">
              <a:avLst>
                <a:gd name="adj" fmla="val 16667"/>
              </a:avLst>
            </a:prstGeom>
            <a:solidFill>
              <a:srgbClr val="9933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ffcc00"/>
                  </a:solidFill>
                  <a:uFillTx/>
                  <a:latin typeface="Arial"/>
                  <a:hlinkClick r:id="rId17" action="ppaction://hlinksldjump"/>
                </a:rPr>
                <a:t>Художественно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ffcc00"/>
                  </a:solidFill>
                  <a:uFillTx/>
                  <a:latin typeface="Arial"/>
                  <a:hlinkClick r:id="rId18" action="ppaction://hlinksldjump"/>
                </a:rPr>
                <a:t>творческая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ffcc00"/>
                  </a:solidFill>
                  <a:uFillTx/>
                  <a:latin typeface="Arial"/>
                  <a:hlinkClick r:id="rId19" action="ppaction://hlinksldjump"/>
                </a:rPr>
                <a:t>деятельност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Познавательная деятельност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7524720" y="1557360"/>
            <a:ext cx="360360" cy="719280"/>
          </a:xfrm>
          <a:prstGeom prst="downArrow">
            <a:avLst>
              <a:gd name="adj1" fmla="val 50000"/>
              <a:gd name="adj2" fmla="val 49900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00000" y="1557360"/>
            <a:ext cx="360360" cy="719280"/>
          </a:xfrm>
          <a:prstGeom prst="downArrow">
            <a:avLst>
              <a:gd name="adj1" fmla="val 50000"/>
              <a:gd name="adj2" fmla="val 49900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76720" y="1557360"/>
            <a:ext cx="360360" cy="719280"/>
          </a:xfrm>
          <a:prstGeom prst="downArrow">
            <a:avLst>
              <a:gd name="adj1" fmla="val 50000"/>
              <a:gd name="adj2" fmla="val 49900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508720" y="1557360"/>
            <a:ext cx="360360" cy="719280"/>
          </a:xfrm>
          <a:prstGeom prst="downArrow">
            <a:avLst>
              <a:gd name="adj1" fmla="val 50000"/>
              <a:gd name="adj2" fmla="val 49900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00360" y="2637000"/>
            <a:ext cx="1584360" cy="792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Предмет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 неде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637000"/>
            <a:ext cx="2016000" cy="7189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Психологиче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практику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003640" y="2637000"/>
            <a:ext cx="1440000" cy="863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Класс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час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948360" y="2637000"/>
            <a:ext cx="2016360" cy="863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Участие 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международн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конкурса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00360" y="3573360"/>
            <a:ext cx="360360" cy="719280"/>
          </a:xfrm>
          <a:prstGeom prst="downArrow">
            <a:avLst>
              <a:gd name="adj1" fmla="val 50000"/>
              <a:gd name="adj2" fmla="val 49900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24360" y="3573360"/>
            <a:ext cx="360360" cy="719280"/>
          </a:xfrm>
          <a:prstGeom prst="downArrow">
            <a:avLst>
              <a:gd name="adj1" fmla="val 50000"/>
              <a:gd name="adj2" fmla="val 49900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19280" y="4581360"/>
            <a:ext cx="158436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Исследоват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 рабо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51280" y="4581360"/>
            <a:ext cx="158436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Tahoma"/>
                <a:hlinkClick r:id="rId7"/>
              </a:rPr>
              <a:t>Проектн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Tahoma"/>
                <a:hlinkClick r:id="rId8"/>
              </a:rPr>
              <a:t>деятель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Ценностно-ориентированная деятельност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468360" y="1773360"/>
            <a:ext cx="360360" cy="718920"/>
          </a:xfrm>
          <a:prstGeom prst="downArrow">
            <a:avLst>
              <a:gd name="adj1" fmla="val 50000"/>
              <a:gd name="adj2" fmla="val 49875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979640" y="1700280"/>
            <a:ext cx="360360" cy="1873080"/>
          </a:xfrm>
          <a:prstGeom prst="downArrow">
            <a:avLst>
              <a:gd name="adj1" fmla="val 50000"/>
              <a:gd name="adj2" fmla="val 129945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419640" y="1700280"/>
            <a:ext cx="360360" cy="718920"/>
          </a:xfrm>
          <a:prstGeom prst="downArrow">
            <a:avLst>
              <a:gd name="adj1" fmla="val 50000"/>
              <a:gd name="adj2" fmla="val 49875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003640" y="1628640"/>
            <a:ext cx="360360" cy="1944720"/>
          </a:xfrm>
          <a:prstGeom prst="downArrow">
            <a:avLst>
              <a:gd name="adj1" fmla="val 50000"/>
              <a:gd name="adj2" fmla="val 134915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04000" y="1628640"/>
            <a:ext cx="360360" cy="719280"/>
          </a:xfrm>
          <a:prstGeom prst="downArrow">
            <a:avLst>
              <a:gd name="adj1" fmla="val 50000"/>
              <a:gd name="adj2" fmla="val 49900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781360"/>
            <a:ext cx="1835280" cy="115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Встречи с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представителям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 ВУЗ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03280" y="4005360"/>
            <a:ext cx="1584360" cy="792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Литературны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гостины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59280" y="2781360"/>
            <a:ext cx="1368360" cy="115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Tahoma"/>
                <a:hlinkClick r:id="rId7"/>
              </a:rPr>
              <a:t>Шта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Tahoma"/>
                <a:hlinkClick r:id="rId8"/>
              </a:rPr>
              <a:t> «Тимуровец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Tahoma"/>
                <a:hlinkClick r:id="rId9"/>
              </a:rPr>
              <a:t>Совет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Tahoma"/>
                <a:hlinkClick r:id="rId10"/>
              </a:rPr>
              <a:t>ветеран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00720" y="4005360"/>
            <a:ext cx="1726920" cy="792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Сотрудничеств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с клубом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«МАРС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00720" y="2781360"/>
            <a:ext cx="1727280" cy="792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ahoma"/>
              </a:rPr>
              <a:t>Сотрудничество с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ahoma"/>
              </a:rPr>
              <a:t>представителям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ahoma"/>
              </a:rPr>
              <a:t>духовенств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559640" y="4005360"/>
            <a:ext cx="1584360" cy="792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«Школа дл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родителей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388360" y="1628640"/>
            <a:ext cx="360360" cy="1944720"/>
          </a:xfrm>
          <a:prstGeom prst="downArrow">
            <a:avLst>
              <a:gd name="adj1" fmla="val 50000"/>
              <a:gd name="adj2" fmla="val 134915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Трудовая деятельност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971640" y="1773360"/>
            <a:ext cx="360360" cy="718920"/>
          </a:xfrm>
          <a:prstGeom prst="downArrow">
            <a:avLst>
              <a:gd name="adj1" fmla="val 50000"/>
              <a:gd name="adj2" fmla="val 49875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03640" y="1773360"/>
            <a:ext cx="360360" cy="718920"/>
          </a:xfrm>
          <a:prstGeom prst="downArrow">
            <a:avLst>
              <a:gd name="adj1" fmla="val 50000"/>
              <a:gd name="adj2" fmla="val 49875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292720" y="1773360"/>
            <a:ext cx="360360" cy="718920"/>
          </a:xfrm>
          <a:prstGeom prst="downArrow">
            <a:avLst>
              <a:gd name="adj1" fmla="val 50000"/>
              <a:gd name="adj2" fmla="val 49875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308720" y="1773360"/>
            <a:ext cx="360360" cy="718920"/>
          </a:xfrm>
          <a:prstGeom prst="downArrow">
            <a:avLst>
              <a:gd name="adj1" fmla="val 50000"/>
              <a:gd name="adj2" fmla="val 49875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9640" y="2781360"/>
            <a:ext cx="1584360" cy="792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Дежурство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по школ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2781360"/>
            <a:ext cx="1728720" cy="792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Акции»Чисты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 школьный двор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757760" y="2776680"/>
            <a:ext cx="1584360" cy="1224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Выставки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творчеств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659640" y="2781360"/>
            <a:ext cx="1873080" cy="1368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Практика в УП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Tahoma"/>
                <a:hlinkClick r:id="rId7"/>
              </a:rPr>
              <a:t>(больница, МДОУ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Tahoma"/>
                <a:hlinkClick r:id="rId8"/>
              </a:rPr>
              <a:t> гостиница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Tahoma"/>
                <a:hlinkClick r:id="rId9"/>
              </a:rPr>
              <a:t> салоны красоты)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Tahoma"/>
                <a:hlinkClick r:id="rId10"/>
              </a:rPr>
              <a:t>работа в центр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Tahoma"/>
                <a:hlinkClick r:id="rId11"/>
              </a:rPr>
              <a:t> занятос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Художественно-творческая деятельност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395280" y="1700280"/>
            <a:ext cx="360360" cy="718920"/>
          </a:xfrm>
          <a:prstGeom prst="downArrow">
            <a:avLst>
              <a:gd name="adj1" fmla="val 50000"/>
              <a:gd name="adj2" fmla="val 49875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619280" y="1700280"/>
            <a:ext cx="360360" cy="2376360"/>
          </a:xfrm>
          <a:prstGeom prst="downArrow">
            <a:avLst>
              <a:gd name="adj1" fmla="val 50000"/>
              <a:gd name="adj2" fmla="val 164860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771640" y="1700280"/>
            <a:ext cx="360360" cy="1152360"/>
          </a:xfrm>
          <a:prstGeom prst="downArrow">
            <a:avLst>
              <a:gd name="adj1" fmla="val 50000"/>
              <a:gd name="adj2" fmla="val 79945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24360" y="1700280"/>
            <a:ext cx="360360" cy="3600360"/>
          </a:xfrm>
          <a:prstGeom prst="downArrow">
            <a:avLst>
              <a:gd name="adj1" fmla="val 50000"/>
              <a:gd name="adj2" fmla="val 249775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1700280"/>
            <a:ext cx="360360" cy="718920"/>
          </a:xfrm>
          <a:prstGeom prst="downArrow">
            <a:avLst>
              <a:gd name="adj1" fmla="val 50000"/>
              <a:gd name="adj2" fmla="val 49875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084720" y="1700280"/>
            <a:ext cx="360360" cy="2449440"/>
          </a:xfrm>
          <a:prstGeom prst="downArrow">
            <a:avLst>
              <a:gd name="adj1" fmla="val 50000"/>
              <a:gd name="adj2" fmla="val 169930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164360" y="1700280"/>
            <a:ext cx="360360" cy="1152360"/>
          </a:xfrm>
          <a:prstGeom prst="downArrow">
            <a:avLst>
              <a:gd name="adj1" fmla="val 50000"/>
              <a:gd name="adj2" fmla="val 79945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244000" y="1700280"/>
            <a:ext cx="360360" cy="3673440"/>
          </a:xfrm>
          <a:prstGeom prst="downArrow">
            <a:avLst>
              <a:gd name="adj1" fmla="val 50000"/>
              <a:gd name="adj2" fmla="val 254845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4360" y="4365720"/>
            <a:ext cx="1584000" cy="792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Городск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конкурс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195640" y="3068640"/>
            <a:ext cx="1584360" cy="792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Минутк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слав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03640" y="5589720"/>
            <a:ext cx="1584360" cy="792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Весела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маслениц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427640" y="2708280"/>
            <a:ext cx="1584360" cy="792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Мис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школ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651640" y="4365720"/>
            <a:ext cx="1584360" cy="792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Театральны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кружо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2781360"/>
            <a:ext cx="1584360" cy="792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ahoma"/>
              </a:rPr>
              <a:t>Творчество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ahoma"/>
              </a:rPr>
              <a:t>пед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Tahoma"/>
              </a:rPr>
              <a:t>коллектив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9640" y="5589720"/>
            <a:ext cx="1584360" cy="792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Осенний бал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659640" y="3068640"/>
            <a:ext cx="1584360" cy="792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Новогодн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карнава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14:08:23Z</dcterms:created>
  <dc:creator>flex</dc:creator>
  <dc:description/>
  <dc:language>en-US</dc:language>
  <cp:lastModifiedBy>Admin</cp:lastModifiedBy>
  <dcterms:modified xsi:type="dcterms:W3CDTF">2013-07-17T10:12:34Z</dcterms:modified>
  <cp:revision>68</cp:revision>
  <dc:subject/>
  <dc:title>Документы  для подготовки  к проведению ЕГЭ </dc:title>
</cp:coreProperties>
</file>