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gif" ContentType="image/gif"/>
  <Override PartName="/ppt/media/image7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324F-A866-4C2B-9ACD-69C8A2787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8320-2FE3-4F11-8C71-605D310F6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5378-FECD-4239-B1EC-B2C62CB03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2610-6285-4B23-9D7F-B0B7EB445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9E59D-3BD0-4977-B875-07088D5B8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4B23B-6EC7-45F6-9F16-7794BC4E5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25876-6D88-4BAF-A801-957798E90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CE78C-87FF-449A-BBC9-15D43B968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53505-5CBE-4C76-B6CB-154C3664F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6CF7A-5874-451D-B276-138E1EFD9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E875A-7C40-4AAB-8699-28330C97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847B-5CB5-4087-ACB9-140055A9F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74249-36F0-49A4-9A23-CFE1807D4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9BE5B-1337-4A54-8F0D-DED03BAD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890D5-80C4-4B16-B14F-0F3D70C65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6960B-4550-4F0D-9E3E-D96D071AA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E6A4F-0379-4AAC-84FF-901B1B520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8F11-382B-459B-B82F-BE43354DE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272A-2061-4E8A-BDA2-A3E2A8C89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2470-3B3F-43FD-A8A2-DC304DC45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885D-B7A0-4161-8A5D-19B4B6C97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99E9-3E93-49C8-A742-CA67FD9CD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0171-F474-4D43-81ED-C1A3EA77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806C-17F7-400B-9943-56B7C980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59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67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977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977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573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573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16f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16f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d6b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d6b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67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3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3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3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3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3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3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3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977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977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16f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573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3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67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67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67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a5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a5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a5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a5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a5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a5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a5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a5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a5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a5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a5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a5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a5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a5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a5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00646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00646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a58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a58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a58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a58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a58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a58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a58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a58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a58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a5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a5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99E1D-BCFB-4DBF-8738-FE20C3697BA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59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67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977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977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573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573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16f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16f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d6b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d6b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67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3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3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3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3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3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3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3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977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977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16f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573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3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67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67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67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a5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a5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a5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a5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a5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a5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a5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a5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a5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a5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a5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a5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a5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a5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a5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00646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00646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a58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a58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a58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a58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a58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a58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a58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a58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a58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a5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a5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25263-7A3D-481E-9BA4-4B889978DA0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914400" y="79848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нализ публицистического текс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 подготовка рабочих материало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 сочинению - рассуждению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962520" y="3200400"/>
            <a:ext cx="4724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Сочинение учит думать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учит понимать жизнь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учит 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вчитываться в каждое слов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В. Литвин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230040" y="457200"/>
            <a:ext cx="123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Метафо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920" y="12952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Эпите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28600" y="2209680"/>
            <a:ext cx="25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Лексический повто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33280" y="3048120"/>
            <a:ext cx="333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Синтаксический параллелиз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84480" y="411480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Града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60080" y="533412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Антоним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723560" y="380880"/>
            <a:ext cx="448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безграничная любовь, великая  интуиция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обнажённая сове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478040" y="1409760"/>
            <a:ext cx="423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угадывал правду, писал только правду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ничего, кроме правд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724640" y="2743200"/>
            <a:ext cx="377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зрыв эмоций, духовные глубины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художник интуи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493160" y="4114800"/>
            <a:ext cx="46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молодёжь и старики, рабочие и профессо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249800" y="5067360"/>
            <a:ext cx="509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о жизни и смерти, о судьбе отдельной лич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и всего наро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762120" y="1219320"/>
            <a:ext cx="7467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МПОЗИЦИЯ СОЧИН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Вступление. Формулировка в той или иной форме одной из проблем исходного текс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Комментарий к сформулированной проблеме текс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Формулировка позиции автора по прокомментированной проблем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.Аргументация собственного мнения по проблем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) первый аргумент из жизненного опы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) второй аргумент из художественной литерату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5.Заключение (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1-2 предложения должны придать завершенность сочинению, связать его с исходным текстом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994440" y="4838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7620120" y="609480"/>
            <a:ext cx="1012680" cy="14400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1355760" y="56768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762120" y="1143000"/>
            <a:ext cx="7696080" cy="50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 первой строчке тема называется одним слово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 существительным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Вторая строчка – это описание темы в двух словах (двумя прилагательными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.Третья строчка – это описание действ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тремя глаголами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.Четвёртая строка – это фраза из четырёх слов, показывающая отношение к тем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афоризм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.Последняя строка – это синоним из одного слова, который повторяет суть тем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слово – резюме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209680" y="609480"/>
            <a:ext cx="451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С И Н К В Е Й 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380880" y="762120"/>
            <a:ext cx="83869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Есен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Великий, доступн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Существует, определяет, одухотворя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Пользуется безграничной любовью нар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Поэ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0" y="30481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cc00"/>
                </a:solidFill>
                <a:latin typeface="Arial"/>
              </a:rPr>
              <a:t>написать сочинение-рассуждение по данному тексту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2438280" y="2819520"/>
            <a:ext cx="3745080" cy="341136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2879640" y="9525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0" y="62064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Удачи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108240" y="1332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1371600"/>
            <a:ext cx="79250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Цели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одготовить учащихся к выполнению части С единого государственного экзамена и научить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понимать и раскрывать тему сочинения любого жанр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логично и доказательно мыслить и излагать результаты своего суждения  литературным языком в надлежащем стилевом оформлен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Задачи: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научить формулировать и комментировать проблему    исходного текста, определять позицию автора текст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аргументировано высказывать свое собственное отношение к выделенной и прокомментированной проблем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1981080" y="2895480"/>
            <a:ext cx="3429000" cy="335304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600200" y="640080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ергей Есен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>
            <a:lum bright="-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742840" y="1676160"/>
            <a:ext cx="6093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Литературовед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– человек, изучающий художественную литературу, её происхождение, сущность и развитие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657600" y="3657600"/>
            <a:ext cx="4724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Эссеист  -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исатель – прозаик, разрабатывающий  жанр эссе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Винокуров Евгений Михайлович. фото фотография фотка"/>
          <p:cNvPicPr/>
          <p:nvPr/>
        </p:nvPicPr>
        <p:blipFill>
          <a:blip r:embed="rId2"/>
          <a:stretch/>
        </p:blipFill>
        <p:spPr>
          <a:xfrm>
            <a:off x="304920" y="838080"/>
            <a:ext cx="2590560" cy="35053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4760" y="5308560"/>
            <a:ext cx="433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инокуров Евгений Михайлови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017600" y="395280"/>
            <a:ext cx="49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Понимание текста – процесс творческ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305920" cy="579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457200" y="914400"/>
            <a:ext cx="7924680" cy="990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Основная мысль (тезис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о чём говорится + что говори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371600" y="19051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495680" y="19051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010280" y="19051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523880" y="19051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так ка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0" y="19051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так ка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86600" y="190512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так ка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2362320"/>
            <a:ext cx="2514600" cy="5331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124080" y="2362320"/>
            <a:ext cx="2819520" cy="5331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2-й дов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2362320"/>
            <a:ext cx="2590920" cy="5331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3-й дов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828800" y="28954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8320" y="28954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29718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09480" y="3429000"/>
            <a:ext cx="2514600" cy="7621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Иллюстрац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(примеры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124080" y="3429000"/>
            <a:ext cx="2819520" cy="7621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Иллюстрац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(примеры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943600" y="3429000"/>
            <a:ext cx="2590920" cy="7621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Иллюстрац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(примеры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648320" y="41911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6629400" y="419112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" y="4876920"/>
            <a:ext cx="7924680" cy="7617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Вывод авто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905120" y="4191120"/>
            <a:ext cx="68580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8195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поэтом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952880" y="43434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поэтом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991800" y="236232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1-й дов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533520" y="685800"/>
            <a:ext cx="82724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сновной  тезис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«…Есенин – душа нации, пользующийся безграничной любовью народа…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ргумент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Есенин – национальный  мыслите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 …масштабно и крупно мыслит по существенным проблемам мира )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Есенин – великий художник интуи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 …                                                                      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Есенин – певец любв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 …                                                                      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Есенин – поэт- сейсмогра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…                                                                       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ывод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«…Есенин – идеальный поэт, совесть наци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1294920"/>
            <a:ext cx="81536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Arial"/>
              </a:rPr>
              <a:t>Словарная работа:</a:t>
            </a:r>
            <a:br>
              <a:rPr sz="3600"/>
            </a:br>
            <a:br>
              <a:rPr sz="3600"/>
            </a:b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сейсмограф – прибор для записи колебаний земной поверхности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666880" y="533520"/>
            <a:ext cx="647712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Arial"/>
              </a:rPr>
              <a:t>переносное значение одного понятия или явления на другой по сходств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Arial"/>
              </a:rPr>
              <a:t>образное определение, обычно выраженное прилагательны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Arial"/>
              </a:rPr>
              <a:t>намеренное повторение в тексте одного и того же слова или словосочет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Arial"/>
              </a:rPr>
              <a:t>одинаковое, сходное построение сложных фраз, предложе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Arial"/>
              </a:rPr>
              <a:t>расположение слов или выражений по нарастанию или убыван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Arial"/>
              </a:rPr>
              <a:t>слова, противоположные по лексическому значен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57200" y="6858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етафо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04920" y="16002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Эпите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236232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Лексический повто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32767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интаксический параллелиз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43434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рад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52578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нтони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al-school1</cp:lastModifiedBy>
  <dcterms:modified xsi:type="dcterms:W3CDTF">2011-01-05T21:36:01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