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EFF-D7B1-4542-8D32-07961E7A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C36-C5BB-41F5-A24D-C8130FA6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CC7-C1B5-48A9-B374-A63D649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CBA-2132-486C-AC50-314603E7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2626-D4CE-4BE2-970C-CE88FA51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5B4D-E8F3-4063-B5A0-74AA46FA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E96-C61E-4D80-9F22-4C650EE0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2EB-2B1E-47F6-8293-16BFD4F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5C9-25AD-42D4-91E7-C18B7421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765-C660-4F61-A7AE-7622AC46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175-EDBD-499F-A19F-EC0EB23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A0D-5F9E-4BAB-AB6F-6B7C48F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42F-E915-4498-96F0-5426EFA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DCA-5CDA-4D24-A602-1569DF4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8F8E-175B-43BF-9C48-E4BEE43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49D-7D7B-4661-8501-35AE04C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6F4A-C815-418A-B790-BB7AFA3E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DF4-5F82-4332-8B70-F30A8C4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1F5-E071-4E8D-BC71-3E9800D3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A86-9FF0-4BAE-9FAD-87DAFE4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355-7026-4A56-BE29-8866C718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8CB-1C12-40F7-B65D-5639CAC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440-C1BC-4168-A232-8D83C0F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CF4-D9AD-48FA-8A56-8641861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067-30AF-46A4-87D3-900606D5D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A29-E29E-418B-8433-A8B7540B71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tro.virginia.edu/class/whittle/astr553/Topic01/newt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forum.mediaport.ua/file.php?104,file=13726,in_body_attachment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pleny.ru/wp-content/uploads/2010/03/post-2-12683858678022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g0.liveinternet.ru/images/attach/c/0/48/181/48181152_rk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11.imageshost.ru/imgs/100423/c889f49a22/6b579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tinki2008.ru/kuxnia/slides/297169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hyperlink" Target="http://user-test.espanarusa.com/images/es/photomoskva/b3/0159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ovosti-kosmonavtiki.ru/content/numbers/298/001.jpg" TargetMode="External"/><Relationship Id="rId2" Type="http://schemas.openxmlformats.org/officeDocument/2006/relationships/hyperlink" Target="http://s45.radikal.ru/i110/0904/bc/28240a602986.jpg" TargetMode="External"/><Relationship Id="rId3" Type="http://schemas.openxmlformats.org/officeDocument/2006/relationships/hyperlink" Target="http://99px.ru/sstorage/53/2010/05/image_532905101642009896429_mid.jpg" TargetMode="External"/><Relationship Id="rId4" Type="http://schemas.openxmlformats.org/officeDocument/2006/relationships/hyperlink" Target="http://dic.academic.ru/pictures/wiki/files/65/Aristotle_Altemps_Inv8575.jpg" TargetMode="External"/><Relationship Id="rId5" Type="http://schemas.openxmlformats.org/officeDocument/2006/relationships/hyperlink" Target="http://imgfotki.yandex.ru/get/42/kessau.3/0_145a5_860b22f1_XL" TargetMode="External"/><Relationship Id="rId6" Type="http://schemas.openxmlformats.org/officeDocument/2006/relationships/hyperlink" Target="http://urthonaessays.files.wordpress.com/2009/07/cosmos4.gif" TargetMode="External"/><Relationship Id="rId7" Type="http://schemas.openxmlformats.org/officeDocument/2006/relationships/hyperlink" Target="http://images.astronet.ru/pubd/2003/07/10/0001191510/images/3_9_2-02.gif" TargetMode="External"/><Relationship Id="rId8" Type="http://schemas.openxmlformats.org/officeDocument/2006/relationships/hyperlink" Target="http://theory.asu.ru/~raikin/Students/HMP/4/Copernic/Copernicus_4.jpeg" TargetMode="External"/><Relationship Id="rId9" Type="http://schemas.openxmlformats.org/officeDocument/2006/relationships/hyperlink" Target="http://www.manwb.ru/pub/Pictures-Articles/Articles501-520/512_Bruno_1.jpg" TargetMode="External"/><Relationship Id="rId10" Type="http://schemas.openxmlformats.org/officeDocument/2006/relationships/hyperlink" Target="http://bruno.ucoz.ru/_si/0/86069153.jpg" TargetMode="External"/><Relationship Id="rId11" Type="http://schemas.openxmlformats.org/officeDocument/2006/relationships/hyperlink" Target="http://www.myref.ru/html/1/img31.jpg" TargetMode="External"/><Relationship Id="rId12" Type="http://schemas.openxmlformats.org/officeDocument/2006/relationships/hyperlink" Target="http://www.vokrugsveta.ru/encyclopedia/images/0/07/Galilei.jpg" TargetMode="External"/><Relationship Id="rId13" Type="http://schemas.openxmlformats.org/officeDocument/2006/relationships/hyperlink" Target="http://chicagoboyz.net/wp-content/uploads/galileo-inquisition_large.jpg" TargetMode="External"/><Relationship Id="rId14" Type="http://schemas.openxmlformats.org/officeDocument/2006/relationships/hyperlink" Target="http://www.astro.virginia.edu/class/whittle/astr553/Topic01/t1_newton.jpg" TargetMode="External"/><Relationship Id="rId15" Type="http://schemas.openxmlformats.org/officeDocument/2006/relationships/hyperlink" Target="http://byaki.net/uploads/posts/2009-04/1241119670_1.gif" TargetMode="External"/><Relationship Id="rId16" Type="http://schemas.openxmlformats.org/officeDocument/2006/relationships/hyperlink" Target="http://forum.mediaport.ua/file.php?104,file=13726,in_body_attachment=1" TargetMode="External"/><Relationship Id="rId17" Type="http://schemas.openxmlformats.org/officeDocument/2006/relationships/hyperlink" Target="http://www.otzyv.ru/read.php?id=91675" TargetMode="External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vosti-kosmonavtiki.ru/content/numbers/298/00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s45.radikal.ru/i110/0904/bc/28240a60298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ebu.uoregon.edu/2005/sc/2004/ptolemy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sch1262.ru/planets/img/3_9_2-02.gif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heory.asu.ru/~raikin/Students/HMP/4/Copernic/Copernicus_4.jpe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myref.ru/html/1/img31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nwb.ru/pub/Pictures-Articles/Articles501-520/512_Bruno_1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bruno.ucoz.ru/_si/0/86069153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krugsveta.ru/encyclopedia/images/0/07/Galilei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chicagoboyz.net/wp-content/uploads/galileo-inquisition_large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00360" y="2205000"/>
            <a:ext cx="47512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Притяжение Земли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35120" y="209520"/>
            <a:ext cx="794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К ОКРУЖАЮЩЕГО МИРА С ИСПОЛЬЗОВАНИЕМ И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19280" y="58262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 УЧЕБНЫЙ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979640" y="4292640"/>
            <a:ext cx="50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К «ШКОЛА 2100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тяжение Земл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640" y="1981080"/>
            <a:ext cx="671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и уро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ыясн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Почему планеты не улетают от Солнца? Луна от Зем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Как мы в жизни сталкиваемся с земным притяжение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Помогает или мешает нам жить притяжение Земли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280" y="836640"/>
            <a:ext cx="29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космос"/>
          <p:cNvPicPr/>
          <p:nvPr/>
        </p:nvPicPr>
        <p:blipFill>
          <a:blip r:embed="rId1"/>
          <a:stretch/>
        </p:blipFill>
        <p:spPr>
          <a:xfrm>
            <a:off x="1116000" y="83664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59374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Исаак Ньютон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8" name="Picture 7" descr="Картинка 72 из 1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51280" y="981000"/>
            <a:ext cx="4392720" cy="3259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29" name="Picture 9" descr="Картинка 159 из 10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3645000"/>
            <a:ext cx="3743280" cy="2808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130" name="Text Box 15"/>
          <p:cNvSpPr/>
          <p:nvPr/>
        </p:nvSpPr>
        <p:spPr>
          <a:xfrm>
            <a:off x="4788000" y="5661000"/>
            <a:ext cx="3908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Яблоня у стен Тринити, колледжа в Кембрид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426960"/>
            <a:ext cx="874728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он всемирного тягот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24000" y="1557000"/>
            <a:ext cx="6639120" cy="934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тела притягиваются друг к другу. Тяжелые тела притягивают к себе силь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космос"/>
          <p:cNvPicPr/>
          <p:nvPr/>
        </p:nvPicPr>
        <p:blipFill>
          <a:blip r:embed="rId1"/>
          <a:stretch/>
        </p:blipFill>
        <p:spPr>
          <a:xfrm>
            <a:off x="539640" y="2846520"/>
            <a:ext cx="8136000" cy="3876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755640" y="357336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динственный достаточно тяжелый предмет поблизости – это наша планета. Поэтому в повседневной жизни мы ощущаем только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земное притяж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0" descr="фантазии луны"/>
          <p:cNvPicPr/>
          <p:nvPr/>
        </p:nvPicPr>
        <p:blipFill>
          <a:blip r:embed="rId2"/>
          <a:stretch/>
        </p:blipFill>
        <p:spPr>
          <a:xfrm>
            <a:off x="5651640" y="3678120"/>
            <a:ext cx="3313080" cy="3051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36" name="Picture 11" descr="ньюто"/>
          <p:cNvPicPr/>
          <p:nvPr/>
        </p:nvPicPr>
        <p:blipFill>
          <a:blip r:embed="rId3"/>
          <a:stretch/>
        </p:blipFill>
        <p:spPr>
          <a:xfrm>
            <a:off x="395280" y="1052640"/>
            <a:ext cx="1349280" cy="1655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осмос"/>
          <p:cNvPicPr/>
          <p:nvPr/>
        </p:nvPicPr>
        <p:blipFill>
          <a:blip r:embed="rId1"/>
          <a:stretch/>
        </p:blipFill>
        <p:spPr>
          <a:xfrm>
            <a:off x="468360" y="765000"/>
            <a:ext cx="8459640" cy="5886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Явления природы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иллюстрирующ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земное притяжение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9" name="Picture 10" descr="Картинка 70 из 326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349360"/>
            <a:ext cx="4681440" cy="34164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0" name="Picture 12" descr="Картинка 48 из 64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260280"/>
            <a:ext cx="3419280" cy="38102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1" name="Picture 14" descr="Картинка 44 из 3820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3789360"/>
            <a:ext cx="3168720" cy="2757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космос"/>
          <p:cNvPicPr/>
          <p:nvPr/>
        </p:nvPicPr>
        <p:blipFill>
          <a:blip r:embed="rId1"/>
          <a:stretch/>
        </p:blipFill>
        <p:spPr>
          <a:xfrm>
            <a:off x="324000" y="620640"/>
            <a:ext cx="8640720" cy="610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Картинка 71 из 96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933720"/>
            <a:ext cx="3889440" cy="26272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459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Земное притяжен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в быту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11" descr="движени"/>
          <p:cNvPicPr/>
          <p:nvPr/>
        </p:nvPicPr>
        <p:blipFill>
          <a:blip r:embed="rId4"/>
          <a:stretch/>
        </p:blipFill>
        <p:spPr>
          <a:xfrm>
            <a:off x="5292720" y="189000"/>
            <a:ext cx="2490840" cy="3744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6" name="Picture 13" descr="Картинка 2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628640"/>
            <a:ext cx="3416400" cy="4392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823104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Arial Narrow"/>
              </a:rPr>
              <a:t>Вывод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10920" y="1981080"/>
            <a:ext cx="650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ткрытием закона всемирного тяготения к людям пришло понимание принципа строения Всел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 всемирного тяготения играет важнейшую роль в жизни природы и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1597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Список использованных материалов, Интернет-ресурсов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907560"/>
            <a:ext cx="794376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иолковский К.Э.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ovosti-kosmonavtiki.ru/content/numbers/298/001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юль Верн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s45.radikal.ru/i110/0904/bc/28240a602986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репаха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99px.ru/sstorage/53/2010/05/image_532905101642009896429_mi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ристотель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dic.academic.ru/pictures/wiki/files/65/Aristotle_Altemps_Inv8575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унное затмение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imgfotki.yandex.ru/get/42/kessau.3/0_145a5_860b22f1_X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толемей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urthonaessays.files.wordpress.com/2009/07/cosmos4.g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хема геоцентрической системы мира Птолемея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images.astronet.ru/pubd/2003/07/10/0001191510/images/3_9_2-02.gif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перник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theory.asu.ru/~raikin/Students/HMP/4/Copernic/Copernicus_4.jpe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жордано Бруно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manwb.ru/pub/Pictures-Articles/Articles501-520/512_Bruno_1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bruno.ucoz.ru/_si/0/86069153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хема гелиоцентрической системы мира по Копернику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http://www.myref.ru/html/1/img31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алилей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http://www.vokrugsveta.ru/encyclopedia/images/0/07/Galilei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http://chicagoboyz.net/wp-content/uploads/galileo-inquisition_large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ьютон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http://www.astro.virginia.edu/class/whittle/astr553/Topic01/t1_newton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byaki.net/uploads/posts/2009-04/1241119670_1.gif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блоня: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http://forum.mediaport.ua/file.php?104,file=13726,in_body_attachment=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http://www.otzyv.ru/read.php?id=91675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опад: http://vpleny.ru/wp-content/uploads/2010/03/post-2-12683858678022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ка: http://img0.liveinternet.ru/images/attach/c/0/48/181/48181152_rk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ждь: http://img11.imageshost.ru/imgs/100423/c889f49a22/6b57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да: http://kartinki2008.ru/kuxnia/slides/297169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юди: http://bms.24open.ru/images/b922c061fe5cd1848db0636e542d268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шины: http://user-test.espanarusa.com/images/es/photomoskva/b3/0159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рнет-ресурс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www.4geolog.ru/  (Занимательная геолог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Список использованной литературы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041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 школьника. Физика: М.; Филологическое общество «Слово», Компания «Ключ-С»,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ь русского языка: Москва, Издательство «Русский язык», 19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циклопедия тайн и загадок «Звезды и планеты. Занимательная астрономия»: М., Издательство «Белый город»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А. Вахрушев, О.В. Бурский, А.С. Раутиан. «Окружающий мир. 2 класс»,  «Наша планета Земля» (М.: «Баласс», 2009) – стр.42-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тетрадь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А. Вахрушев, О.В. Бурский, А.С. Раутиан. Рабочая тетрадь к учебнику «Окружающий мир. 2 класс» (М.: «Баласс», 2009) – стр.14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6091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Narrow"/>
              </a:rPr>
              <a:t>«Невозможное сегодня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Narrow"/>
              </a:rPr>
              <a:t>станет возможным завтра»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Narrow"/>
              </a:rPr>
              <a:t>(К.Э. Циолковский)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Narrow"/>
              </a:rPr>
              <a:t>«Придет время, когда наука опередит фантазию»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Narrow"/>
              </a:rPr>
              <a:t>(Жюль Верн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0" name="Picture 6" descr="космос"/>
          <p:cNvPicPr/>
          <p:nvPr/>
        </p:nvPicPr>
        <p:blipFill>
          <a:blip r:embed="rId1"/>
          <a:stretch/>
        </p:blipFill>
        <p:spPr>
          <a:xfrm>
            <a:off x="3238560" y="3357720"/>
            <a:ext cx="558144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118 из 160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3500280"/>
            <a:ext cx="2467080" cy="3240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92" name="Picture 13" descr="Картинка 159 из 200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83160" y="3716280"/>
            <a:ext cx="2124360" cy="29638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осмос"/>
          <p:cNvPicPr/>
          <p:nvPr/>
        </p:nvPicPr>
        <p:blipFill>
          <a:blip r:embed="rId1"/>
          <a:stretch/>
        </p:blipFill>
        <p:spPr>
          <a:xfrm>
            <a:off x="1979640" y="907920"/>
            <a:ext cx="6913440" cy="547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692584"/>
          <p:cNvPicPr/>
          <p:nvPr/>
        </p:nvPicPr>
        <p:blipFill>
          <a:blip r:embed="rId2"/>
          <a:stretch/>
        </p:blipFill>
        <p:spPr>
          <a:xfrm>
            <a:off x="2195640" y="1052640"/>
            <a:ext cx="6480000" cy="51451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399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Narrow"/>
              </a:rPr>
              <a:t>Представление древних людей о Земле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71280" y="6308640"/>
            <a:ext cx="7272360" cy="4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Бог создал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Землю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как центр мироздани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космос"/>
          <p:cNvPicPr/>
          <p:nvPr/>
        </p:nvPicPr>
        <p:blipFill>
          <a:blip r:embed="rId1"/>
          <a:stretch/>
        </p:blipFill>
        <p:spPr>
          <a:xfrm>
            <a:off x="755640" y="1306440"/>
            <a:ext cx="8209080" cy="536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ristotle1"/>
          <p:cNvPicPr/>
          <p:nvPr/>
        </p:nvPicPr>
        <p:blipFill>
          <a:blip r:embed="rId2"/>
          <a:stretch/>
        </p:blipFill>
        <p:spPr>
          <a:xfrm>
            <a:off x="900000" y="1628640"/>
            <a:ext cx="3548160" cy="47516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99" name="Rectangle 8"/>
          <p:cNvSpPr/>
          <p:nvPr/>
        </p:nvSpPr>
        <p:spPr>
          <a:xfrm>
            <a:off x="1046880" y="20628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затм"/>
          <p:cNvPicPr/>
          <p:nvPr/>
        </p:nvPicPr>
        <p:blipFill>
          <a:blip r:embed="rId3"/>
          <a:stretch/>
        </p:blipFill>
        <p:spPr>
          <a:xfrm>
            <a:off x="4643280" y="1413000"/>
            <a:ext cx="3816360" cy="2833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101" name="Text Box 10"/>
          <p:cNvSpPr/>
          <p:nvPr/>
        </p:nvSpPr>
        <p:spPr>
          <a:xfrm>
            <a:off x="5003640" y="4292640"/>
            <a:ext cx="393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ень от Земли, падающая 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лную Луну, всегда круглая. Только шар всегда отбрасывает круглую т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390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Словарь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 («geo» в переводе с греческого) – «Земл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здание – вселенная,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ретик – тот, кто отступает от церковных взглядов господствующей рели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квизиция – особый церковный суд по делам еретиков, действовавший с крайней жесток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лиос (в переводе с греческого) –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Ге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ческая система расположения планет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Гели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ческая система расположения планет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2960" y="260280"/>
            <a:ext cx="82310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Птолемей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5" name="Picture 5" descr="космос"/>
          <p:cNvPicPr/>
          <p:nvPr/>
        </p:nvPicPr>
        <p:blipFill>
          <a:blip r:embed="rId1"/>
          <a:stretch/>
        </p:blipFill>
        <p:spPr>
          <a:xfrm>
            <a:off x="1582560" y="1125360"/>
            <a:ext cx="7561440" cy="547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артинка 26 из 38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3291120" cy="4032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07" name="Picture 12" descr="Картинка 6 из 38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56000" y="549360"/>
            <a:ext cx="4608720" cy="44812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108" name="Text Box 15"/>
          <p:cNvSpPr/>
          <p:nvPr/>
        </p:nvSpPr>
        <p:spPr>
          <a:xfrm>
            <a:off x="2411280" y="5734080"/>
            <a:ext cx="619308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ческая система мира по Птолеме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космос"/>
          <p:cNvPicPr/>
          <p:nvPr/>
        </p:nvPicPr>
        <p:blipFill>
          <a:blip r:embed="rId1"/>
          <a:stretch/>
        </p:blipFill>
        <p:spPr>
          <a:xfrm>
            <a:off x="1042920" y="944640"/>
            <a:ext cx="7885080" cy="572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962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Николай Коперник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1" name="Picture 7" descr="Картинка 51 из 1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3300480" cy="4329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12" name="Picture 8" descr="Картинка 92 из 17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919080"/>
            <a:ext cx="5040360" cy="4237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3" name="Text Box 12"/>
          <p:cNvSpPr/>
          <p:nvPr/>
        </p:nvSpPr>
        <p:spPr>
          <a:xfrm>
            <a:off x="2556000" y="6021360"/>
            <a:ext cx="46800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ческая система ми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осмос"/>
          <p:cNvPicPr/>
          <p:nvPr/>
        </p:nvPicPr>
        <p:blipFill>
          <a:blip r:embed="rId1"/>
          <a:stretch/>
        </p:blipFill>
        <p:spPr>
          <a:xfrm>
            <a:off x="684360" y="1413000"/>
            <a:ext cx="7488000" cy="474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Картинка 14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2867040" cy="3810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609480"/>
            <a:ext cx="810108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Джордано Бруно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7" name="Picture 11" descr="Картинка 8 из 2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1989000"/>
            <a:ext cx="5076720" cy="3772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смос"/>
          <p:cNvPicPr/>
          <p:nvPr/>
        </p:nvPicPr>
        <p:blipFill>
          <a:blip r:embed="rId1"/>
          <a:stretch/>
        </p:blipFill>
        <p:spPr>
          <a:xfrm>
            <a:off x="755640" y="981000"/>
            <a:ext cx="7920000" cy="5508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399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Галилео Галилей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348000" y="558936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, все-таки, она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верти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Картинка 4 из 34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700280"/>
            <a:ext cx="3452760" cy="3889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22" name="Picture 11" descr="Картинка 2 из 1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125360"/>
            <a:ext cx="4703760" cy="296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5:35:26Z</dcterms:created>
  <dc:creator>User</dc:creator>
  <dc:description/>
  <dc:language>en-US</dc:language>
  <cp:lastModifiedBy>Чижмакова</cp:lastModifiedBy>
  <dcterms:modified xsi:type="dcterms:W3CDTF">2013-10-16T08:43:19Z</dcterms:modified>
  <cp:revision>104</cp:revision>
  <dc:subject/>
  <dc:title>Притяжение Земли</dc:title>
</cp:coreProperties>
</file>