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6F8-9739-4A1E-903C-56D88EF6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125-EE7A-4E51-9505-277B15FF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41E-7592-433E-938A-6930015F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2A9-8892-4CAC-B973-926EAA44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65B-D310-45F3-B300-C8262D88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B36-1306-48E9-84C3-EED44BE8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AFA-9A44-4D08-8257-17753E3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17D-F9FA-4828-B06E-A193F3A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560-80CA-4883-8026-2D55C29E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BA1-8A23-45D0-9C75-200FD01A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546-80E7-4D8C-B29C-F763C8B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8EF-EF4A-4252-ACD3-17726F6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BF7B-E5A7-4A78-89F0-9C46B6533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59063" t="5256" r="0" b="0"/>
          <a:stretch/>
        </p:blipFill>
        <p:spPr>
          <a:xfrm>
            <a:off x="5796000" y="1125360"/>
            <a:ext cx="3162240" cy="548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189000"/>
            <a:ext cx="8569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 Лучший директор школы будущего»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95280" y="1341360"/>
            <a:ext cx="5013360" cy="3760920"/>
          </a:xfrm>
          <a:prstGeom prst="rect">
            <a:avLst/>
          </a:prstGeom>
          <a:ln cap="rnd" w="57240">
            <a:solidFill>
              <a:srgbClr val="0000cc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468360" y="5373720"/>
            <a:ext cx="51134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>
                    <a:alphaModFix amt="4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емеровская область г.Ленинск-Кузнецкий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7">
                  <a:alphaModFix amt="4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>
                    <a:alphaModFix amt="4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уманитарная гимназия № 12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>
                  <a:alphaModFix amt="4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>
                    <a:alphaModFix amt="4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ько Алина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>
                  <a:alphaModFix amt="4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>
                    <a:alphaModFix amt="4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 класс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>
                  <a:alphaModFix amt="4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7272360" cy="42843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816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«Когда я изучаю себя и свой способ думать, я прихожу к выводу, что дар воображения и фантазии значил для меня больше, чем любые способности к абстрактному мышлению. Мечты обо всем, чего бы вы могли добиться в жизни, — это важный элемент позитивной жизни. Позвольте вашему воображению свободно блуждать и создавать мир, в котором вы бы хотели жить».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А.Эйншт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420000">
            <a:off x="5580000" y="3789360"/>
            <a:ext cx="2825640" cy="25210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3512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8900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"Школа и будущее"- эти слова дают возможность обдумать день сегодняшний, заглянуть в день завтрашний, пофантаз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Школа  будущего, а я в ней директор»... я попробую предположить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Школа в  будущем  будет даже выглядеть внешне не так, как  школы нашего времени. Я представляю  школу  многоэтажной  со стеклянными переходами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коростными  лифтами  и эскалаторами. Коридоры и холлы  «Храма науки» будут просторными и светлыми с удобными мягкими и массажными  креслами, чтобы дети и преподаватели могли отдохнуть на переменах. В школе обязательно будет тренажерный зал, бассейн под открытым небом и большой спортивный стадион с необходимым инвентарем и оборудованием, ведь физическое состояние детей это важная составляющая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21031800">
            <a:off x="684360" y="3860640"/>
            <a:ext cx="3095640" cy="24498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404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а территории школы будет свой террариум, мини зоопарк  и ботанический сад, в которых учащиеся школы  смогут  наглядно  изучать предметы биологии, зоологии  и природовед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 школьной столовой будет введено специальное питание  с индивидуальным подходом к каждому ученику. Система шведского стола позволит детям самим выбирать себе питание по настроению и жел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16000" y="4724280"/>
            <a:ext cx="2664000" cy="168912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64000" y="4724280"/>
            <a:ext cx="2664000" cy="16876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19640" y="2349360"/>
            <a:ext cx="2447640" cy="15764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3313080" cy="22050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580000" y="2205000"/>
            <a:ext cx="3384720" cy="22543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5405760" cy="36036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826920" y="2602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 школе классы будут укомплектованы  не более 15 человек, все ученики  распределены по интересам, у каждого  ребенка будет право выб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ого - то  интересуют  гуманитарные  науки,  кого - то общественные, некоторые ребята предпочитают естественные и прикладные  нау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лассный руководитель  не будет  проводить  уроки, а будет вести   работу только со своими подопечными, это даст ему возможность больше времени уделять детям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40000" y="2133720"/>
            <a:ext cx="5256360" cy="24238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79280" y="4581360"/>
            <a:ext cx="64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 школе  будет  работать служба «Детского окна», куда ученики смогут обращаться за помощью и советом разных специалистов и психологов. Обратиться  можно будет лично и по телефону. А для детей оказавшихся в сложной  жизненной ситуации, обязательно будет  открыта  комната «ДОБРА» , куда учащиеся школы смогут прийти в люб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33360"/>
            <a:ext cx="732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 каждом классе, перед каждым учеником будет стоять персональный компьютер, так как  школа станет прогрессивной, а значит, идущей в ногу со временем и техническим прогрессом. Стипендия отличникам  будет платиться ежемесячно по итогам месяца, что даст возможность любому учен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ырваться вперед и не ждать цел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24720" y="333360"/>
            <a:ext cx="1295280" cy="13669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mputr3"/>
          <p:cNvSpPr/>
          <p:nvPr/>
        </p:nvSpPr>
        <p:spPr>
          <a:xfrm>
            <a:off x="6659640" y="4869000"/>
            <a:ext cx="2266920" cy="169524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8680" y="333360"/>
            <a:ext cx="86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о мне  есть  что взять с собой из  школы нынешней, в мою пусть пока еще в мечтах и планах  «Школу будущего», я сохраню  всё лучшее, что есть в ней сегодня: традиции ежегодных праздников, конкурсов, фестивалей, спартакиад; взаимопонимание, доброту, искренность в отношениях между взрослыми и детьми, их желание совершенствоваться, творить, а также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2492280"/>
            <a:ext cx="418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Что такое школа для ме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Дом второй и храм нау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Я уверен, верные друз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В счастье и беде протянут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Здесь нас учат мыслить и твор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Быть активным и добрее к люд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Знанья, что смогли мы получ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Вряд ли кто-то в жизни позабу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Я хочу, чтоб школа процвет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В ногу с временем достойно 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Чтоб её выпускников уз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И республика, и вся стра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889440" cy="30862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61642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02:11:26Z</dcterms:created>
  <dc:creator>User</dc:creator>
  <dc:description/>
  <dc:language>en-US</dc:language>
  <cp:lastModifiedBy>User</cp:lastModifiedBy>
  <dcterms:modified xsi:type="dcterms:W3CDTF">2013-10-16T07:48:25Z</dcterms:modified>
  <cp:revision>7</cp:revision>
  <dc:subject/>
  <dc:title>Слайд 1</dc:title>
</cp:coreProperties>
</file>