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8.jpeg" ContentType="image/jpeg"/>
  <Override PartName="/ppt/media/image18.gif" ContentType="image/gif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37702-2AFE-47F1-8746-F56BB3BD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57963-661E-405D-9676-4EAC7C71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98E42-CEB3-49BF-BBAB-D5069B8A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CC3D-0CB5-414D-8D1E-0152DD73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8AC2-F82C-4EAB-8D8D-23972701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AE1B-EF2A-4517-B06F-1E6EC136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5B1E-4E09-4F1E-A8E8-27E051B2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6D75-B09D-42F7-9B0F-95F764A3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7E03-D518-41DD-84C8-4CFC4452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F756-77E4-4AF6-AECC-9A9969C0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8E43-E5BF-48D4-ABF1-4B652F00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758C2-A714-4068-A892-A54A5031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DA04-E9ED-4008-B0B9-B2F11577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FE7C-4F9A-4ABA-A0E7-7C17EF92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1A28-542B-440E-BA24-BBAD76CD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B777-C9E4-4121-9509-1ECAAB56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693B-DF53-41A9-A377-4BEEBC1B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F7798-5056-4515-A4C1-AD710949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DA0A-D505-4E41-945A-9F7B8D80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A12E7-3AC8-4DEC-B0BB-E48CE298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1DDE2-7F36-4305-9C4D-260870F9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A7880-0085-4CE9-A37B-0C561226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A6F3-53F0-49DE-835F-E8FE0360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AC89-D610-461E-8E02-58C898D3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39E9-4CA8-42A2-84D3-FC4ED062AB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25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7CFD-823B-42D4-AFFA-458CC9399F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u.cap.ru/home/5902/cdn-33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uturova.ucoz.ru/Kartinki/photos0-800x600.jpe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44.radikal.ru/i103/1103/65/4893446d51c7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aram.lv/images/2175_0_2011021617_tmb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dinn.ru/userfiles/28131967(1)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022.radikal.ru/0910/5e/fac211fb6742t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dn-3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205000"/>
            <a:ext cx="5977080" cy="409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Arial"/>
              </a:rPr>
              <a:t>Урок занимательной математик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Вопрос команде девочек: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5" descr="4"/>
          <p:cNvPicPr/>
          <p:nvPr/>
        </p:nvPicPr>
        <p:blipFill>
          <a:blip r:embed="rId1"/>
          <a:stretch/>
        </p:blipFill>
        <p:spPr>
          <a:xfrm>
            <a:off x="2124000" y="256536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25747205_1211722968_136"/>
          <p:cNvPicPr/>
          <p:nvPr/>
        </p:nvPicPr>
        <p:blipFill>
          <a:blip r:embed="rId1"/>
          <a:stretch/>
        </p:blipFill>
        <p:spPr>
          <a:xfrm>
            <a:off x="324000" y="1700280"/>
            <a:ext cx="3479760" cy="3244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42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Вопрос команде девочек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олько всего треугольников и четырехугольников вы видите на этом чертеж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5" descr="5"/>
          <p:cNvPicPr/>
          <p:nvPr/>
        </p:nvPicPr>
        <p:blipFill>
          <a:blip r:embed="rId1"/>
          <a:stretch/>
        </p:blipFill>
        <p:spPr>
          <a:xfrm>
            <a:off x="468360" y="4221000"/>
            <a:ext cx="7777080" cy="15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Вопрос команде мальчиков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олько треугольников и четырехугольников на чертеж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6"/>
          <p:cNvPicPr/>
          <p:nvPr/>
        </p:nvPicPr>
        <p:blipFill>
          <a:blip r:embed="rId1"/>
          <a:stretch/>
        </p:blipFill>
        <p:spPr>
          <a:xfrm>
            <a:off x="684360" y="4149720"/>
            <a:ext cx="7508880" cy="1623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Вопрос команде девочек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ой круг лишний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5" descr="7"/>
          <p:cNvPicPr/>
          <p:nvPr/>
        </p:nvPicPr>
        <p:blipFill>
          <a:blip r:embed="rId1"/>
          <a:stretch/>
        </p:blipFill>
        <p:spPr>
          <a:xfrm>
            <a:off x="1042920" y="2852640"/>
            <a:ext cx="6532560" cy="2257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Вопрос команде мальчиков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ое число надо поставить в пустую клетку таблицы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8"/>
          <p:cNvPicPr/>
          <p:nvPr/>
        </p:nvPicPr>
        <p:blipFill>
          <a:blip r:embed="rId1"/>
          <a:stretch/>
        </p:blipFill>
        <p:spPr>
          <a:xfrm>
            <a:off x="1187280" y="2997360"/>
            <a:ext cx="6954840" cy="21096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Вопрос команде девоче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еложите одну спичку в левой части каждого из числовых равенств так, чтобы получилось верное равенств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X I = V I I + I 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X = I I I + I 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5" descr="31540981"/>
          <p:cNvPicPr/>
          <p:nvPr/>
        </p:nvPicPr>
        <p:blipFill>
          <a:blip r:embed="rId1"/>
          <a:stretch/>
        </p:blipFill>
        <p:spPr>
          <a:xfrm>
            <a:off x="6156360" y="3544920"/>
            <a:ext cx="2782800" cy="3313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Вопрос команде мальчик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еложите одну спичку в правой части каждого из числовых равенств так, чтобы получилось верное равенств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V I = V + I I 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V I = V I I + I 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5" descr="Homework1"/>
          <p:cNvPicPr/>
          <p:nvPr/>
        </p:nvPicPr>
        <p:blipFill>
          <a:blip r:embed="rId1"/>
          <a:stretch/>
        </p:blipFill>
        <p:spPr>
          <a:xfrm>
            <a:off x="5915160" y="3284640"/>
            <a:ext cx="3228840" cy="3314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дачи-смекалки</a:t>
            </a:r>
            <a:br>
              <a:rPr sz="4000"/>
            </a:b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 Вопрос команде девочек: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зможна ли солнечная погода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поздней осенью в 10 часов вечера идёт дождь, то возможна ли через 48 часов солнечная погод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5" descr="60"/>
          <p:cNvPicPr/>
          <p:nvPr/>
        </p:nvPicPr>
        <p:blipFill>
          <a:blip r:embed="rId1"/>
          <a:stretch/>
        </p:blipFill>
        <p:spPr>
          <a:xfrm>
            <a:off x="4859280" y="3497400"/>
            <a:ext cx="3378240" cy="336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дачи-смекалки</a:t>
            </a:r>
            <a:br>
              <a:rPr sz="4000"/>
            </a:b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 Вопрос команде мальчик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крывают ли магазины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газины при десятичасовом рабочем дне открываются в 8 часов утра и закрываются в 7 часов вечера. Закрывается ли магазин на обеденный перерыв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мет математики столь серьезен, что не следует упускать ни одной возможности сделать его более занимательным”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7" descr="photos0-800x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256536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Болельщикам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Продолжи пословицу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имей … рублей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имей … друзе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 отмерь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… раз отрежь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 … зайцами погонишься –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и … не поймаешь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м хорошо, а … лучш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5" descr="ucheniki_w450_h468"/>
          <p:cNvPicPr/>
          <p:nvPr/>
        </p:nvPicPr>
        <p:blipFill>
          <a:blip r:embed="rId1"/>
          <a:stretch/>
        </p:blipFill>
        <p:spPr>
          <a:xfrm>
            <a:off x="5486400" y="141300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Конкурс капитанов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ое число я задумал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 задумал число, прибавил к нему 12, полученную сумму умножил на 3 и получил 48. Какое число я задума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9237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Подведение итогов игры: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7c115b14d7b4"/>
          <p:cNvPicPr/>
          <p:nvPr/>
        </p:nvPicPr>
        <p:blipFill>
          <a:blip r:embed="rId1"/>
          <a:stretch/>
        </p:blipFill>
        <p:spPr>
          <a:xfrm>
            <a:off x="1187280" y="1305000"/>
            <a:ext cx="5946840" cy="4654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Garamond"/>
              </a:rPr>
              <a:t>Вопросы команде девочек: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835280" y="29646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Живут два друг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лядят в два круга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6" descr="4893446d51c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708280"/>
            <a:ext cx="2809800" cy="3238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5076720" y="1484280"/>
            <a:ext cx="3665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Две сестрёнки – две плетёнк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 овечьей шерсти тонкой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гулять – так одевать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б не мёрзли пять да пя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8" descr="1437962_w640_h640_2146004"/>
          <p:cNvPicPr/>
          <p:nvPr/>
        </p:nvPicPr>
        <p:blipFill>
          <a:blip r:embed="rId1"/>
          <a:stretch/>
        </p:blipFill>
        <p:spPr>
          <a:xfrm>
            <a:off x="826920" y="1628640"/>
            <a:ext cx="3381480" cy="401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Вопросы команде мальчиков: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8281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тёт дуб, у него 12 суков, 52 ветки, на каждой ветке по 7 листье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5" descr="2175_0_2011021617_tmb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781360"/>
            <a:ext cx="5077080" cy="333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137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101 брат и все в один ряд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Вместе связаны стоят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28131967(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852640"/>
            <a:ext cx="3282840" cy="4005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Вопросы болельщикам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ва сына и два отца съели три яйца. По сколько яиц съел каждый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столе лежали конфеты в кучке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ве матери, две дочери, да бабушка с внучко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зяли конфеты по одной штучк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не стало этой кучк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олько было конфет в кучке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Вопрос команде девочек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этом квадрате нужно разместить еще числа 2, 2, 2, 3, 3, 3 так, чтобы в сумме получилось число 6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43280" y="1600200"/>
          <a:ext cx="4043520" cy="3773520"/>
        </p:xfrm>
        <a:graphic>
          <a:graphicData uri="http://schemas.openxmlformats.org/drawingml/2006/table">
            <a:tbl>
              <a:tblPr/>
              <a:tblGrid>
                <a:gridCol w="1347840"/>
                <a:gridCol w="1347840"/>
                <a:gridCol w="1347840"/>
              </a:tblGrid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29" descr="fac211fb6742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728880"/>
            <a:ext cx="3051360" cy="312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Вопрос команде мальчиков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сставить в клетках квадрата числа 1, 4, 6, 7, 8, 9 так, чтобы в сумме получилось число 1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32360" y="1600200"/>
          <a:ext cx="3754440" cy="4060800"/>
        </p:xfrm>
        <a:graphic>
          <a:graphicData uri="http://schemas.openxmlformats.org/drawingml/2006/table">
            <a:tbl>
              <a:tblPr/>
              <a:tblGrid>
                <a:gridCol w="1251000"/>
                <a:gridCol w="1252440"/>
                <a:gridCol w="1251000"/>
              </a:tblGrid>
              <a:tr h="13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Picture 25" descr="les_mathematiques"/>
          <p:cNvPicPr/>
          <p:nvPr/>
        </p:nvPicPr>
        <p:blipFill>
          <a:blip r:embed="rId1"/>
          <a:stretch/>
        </p:blipFill>
        <p:spPr>
          <a:xfrm>
            <a:off x="826920" y="3357720"/>
            <a:ext cx="3303720" cy="3073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06:29:40Z</dcterms:created>
  <dc:creator>User</dc:creator>
  <dc:description/>
  <dc:language>en-US</dc:language>
  <cp:lastModifiedBy>Admin</cp:lastModifiedBy>
  <dcterms:modified xsi:type="dcterms:W3CDTF">2013-04-07T15:42:12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