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587240" y="1006560"/>
            <a:ext cx="4592520" cy="34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39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5420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960" y="477828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4402080" y="9553680"/>
            <a:ext cx="336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fld id="{C4F7EABD-94B9-4153-A2F2-0C6A4405DD90}" type="slidenum">
              <a:rPr b="0" lang="ru-RU" sz="13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6061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30080" y="4586040"/>
            <a:ext cx="86061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0080" y="45860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40080" y="45860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3996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4984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73008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3996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54984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6061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6061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30080" y="600120"/>
            <a:ext cx="860616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0080" y="45860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0080" y="45860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0080" y="4586040"/>
            <a:ext cx="86061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0080" y="2100240"/>
            <a:ext cx="86061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861840" indent="-28548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293840" indent="-2160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725480" indent="-21420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157480" indent="-2160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157480" indent="-2160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157480" indent="-2160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AutoShape 7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AutoShape 8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AutoShape 9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0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AutoShape 11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4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hyperlink" Target="http://love-home.org.ua/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yhelp.ru/texts/iad_addicted_psychiatry.htm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news2.ru/tag=%F1%E5%F2%FC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click?url=http%3A%2F%2Fwww"/>
          <p:cNvPicPr/>
          <p:nvPr/>
        </p:nvPicPr>
        <p:blipFill>
          <a:blip r:embed="rId2"/>
          <a:stretch/>
        </p:blipFill>
        <p:spPr>
          <a:xfrm>
            <a:off x="3745080" y="2340000"/>
            <a:ext cx="3527280" cy="338616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2232000" y="1619280"/>
            <a:ext cx="6265800" cy="540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58272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995c"/>
                  </a:outerShdw>
                </a:effectLst>
                <a:latin typeface="Arial"/>
              </a:rPr>
              <a:t>ВИРТУАЛЬНАЯ</a:t>
            </a:r>
            <a:endParaRPr b="1" lang="en-US" sz="36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99995c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995c"/>
                  </a:outerShdw>
                </a:effectLst>
                <a:latin typeface="Arial"/>
              </a:rPr>
              <a:t>РЕАЛЬНОСТЬ</a:t>
            </a:r>
            <a:endParaRPr b="1" lang="en-US" sz="36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99995c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99995c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995c"/>
                  </a:outerShdw>
                </a:effectLst>
                <a:latin typeface="Arial"/>
              </a:rPr>
              <a:t>ПРОБЛЕМЫ И ПОСЛЕДСТВИЯ</a:t>
            </a:r>
            <a:endParaRPr b="1" lang="en-US" sz="36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99995c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1727280" y="179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У СПО «Амурский медицинский колледж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00001656"/>
          <p:cNvPicPr/>
          <p:nvPr/>
        </p:nvPicPr>
        <p:blipFill>
          <a:blip r:embed="rId2"/>
          <a:stretch/>
        </p:blipFill>
        <p:spPr>
          <a:xfrm>
            <a:off x="7315200" y="4284720"/>
            <a:ext cx="2765520" cy="3274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5640" y="2627280"/>
            <a:ext cx="86058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bbb05"/>
                </a:solidFill>
                <a:latin typeface="Tahoma"/>
              </a:rPr>
              <a:t>По данным российских психологов от </a:t>
            </a:r>
            <a:r>
              <a:rPr b="1" lang="ru-RU" sz="4800" spc="-1" strike="noStrike">
                <a:solidFill>
                  <a:srgbClr val="fbbb05"/>
                </a:solidFill>
                <a:latin typeface="Tahoma"/>
              </a:rPr>
              <a:t>10% до 14% </a:t>
            </a:r>
            <a:r>
              <a:rPr b="0" lang="ru-RU" sz="4400" spc="-1" strike="noStrike">
                <a:solidFill>
                  <a:srgbClr val="fbbb05"/>
                </a:solidFill>
                <a:latin typeface="Tahoma"/>
              </a:rPr>
              <a:t>людей, играющих в компьютерные игры, становятся зависимыми от них. Данная зависимость может возникнуть в любом возрасте, но наиболее подверженными этому </a:t>
            </a:r>
            <a:br>
              <a:rPr sz="4400"/>
            </a:br>
            <a:r>
              <a:rPr b="0" lang="ru-RU" sz="4400" spc="-1" strike="noStrike">
                <a:solidFill>
                  <a:srgbClr val="fbbb05"/>
                </a:solidFill>
                <a:latin typeface="Tahoma"/>
              </a:rPr>
              <a:t>являются подростки.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280" y="395280"/>
            <a:ext cx="86058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bbb05"/>
                </a:solidFill>
                <a:latin typeface="Tahoma"/>
                <a:ea typeface="Arial"/>
              </a:rPr>
              <a:t>По каким причинам подросток уходит в виртуальную реальность?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47640" y="1476360"/>
            <a:ext cx="86774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87000" indent="-291600"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87000" indent="-29160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bbb05"/>
                </a:solidFill>
                <a:latin typeface="Tahoma"/>
              </a:rPr>
              <a:t>Жажда приключений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  <a:p>
            <a:pPr marL="387000" indent="-29160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bbb05"/>
                </a:solidFill>
                <a:latin typeface="Tahoma"/>
              </a:rPr>
              <a:t>Детская безнадзорность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  <a:p>
            <a:pPr marL="387000" indent="-29160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bbb05"/>
                </a:solidFill>
                <a:latin typeface="Tahoma"/>
              </a:rPr>
              <a:t>Постоянные ссоры между родителями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  <a:p>
            <a:pPr marL="387000" indent="-29160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bbb05"/>
                </a:solidFill>
                <a:latin typeface="Tahoma"/>
              </a:rPr>
              <a:t>Физическое, эмоционально-психологическое насилие со стороны одноклассников или сверстников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  <a:p>
            <a:pPr marL="387000" indent="-29160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bbb05"/>
                </a:solidFill>
                <a:latin typeface="Tahoma"/>
              </a:rPr>
              <a:t>Заниженная или завышенная самооценка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bbb05"/>
                </a:solidFill>
                <a:latin typeface="Tahoma"/>
                <a:ea typeface="Arial"/>
              </a:rPr>
              <a:t>ПРИЗНАКИ КОМПЬЮТЕРНОЙ  ЗАВИСИМОСТИ</a:t>
            </a:r>
            <a:br>
              <a:rPr sz="4000"/>
            </a:br>
            <a:r>
              <a:rPr b="0" lang="ru-RU" sz="3200" spc="-1" strike="noStrike">
                <a:solidFill>
                  <a:srgbClr val="fbbb05"/>
                </a:solidFill>
                <a:latin typeface="Tahoma"/>
                <a:ea typeface="Arial"/>
              </a:rPr>
              <a:t>(по мнению </a:t>
            </a:r>
            <a:r>
              <a:rPr b="0" lang="ru-RU" sz="4000" spc="-1" strike="noStrike">
                <a:solidFill>
                  <a:srgbClr val="fbbb05"/>
                </a:solidFill>
                <a:latin typeface="Tahoma"/>
              </a:rPr>
              <a:t>зарубежных психологов М. Шоттона, Ш. Текли и К. Янг)</a:t>
            </a:r>
            <a:endParaRPr b="0" lang="en-US" sz="40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82240" y="2779200"/>
            <a:ext cx="81536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91320" indent="-29484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Явное нежелание подростка отвлечься от игры на компьютере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91320" indent="-29484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Если подростка отвлекли от игры, он становится раздражительным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91320" indent="-29484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Подросток не способен планировать время игры на компьютере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91320" indent="-29484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Подросток расходует  много денег для обновления программ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91320" indent="-29484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76000" y="611280"/>
            <a:ext cx="7993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Подросток забывает о домашних делах, обязанностях, учебе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Сбивается полностью режим питания и сна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Подросток начинает злоупотреблять кофе и другими психостимуляторами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Подросток испытывает чувство эйфории, находясь за компьютером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83" name="Picture 3" descr="5099"/>
          <p:cNvPicPr/>
          <p:nvPr/>
        </p:nvPicPr>
        <p:blipFill>
          <a:blip r:embed="rId2"/>
          <a:stretch/>
        </p:blipFill>
        <p:spPr>
          <a:xfrm>
            <a:off x="6840360" y="4284720"/>
            <a:ext cx="3240360" cy="327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2000" y="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bbb05"/>
                </a:solidFill>
                <a:latin typeface="Tahoma"/>
              </a:rPr>
              <a:t>Физические симптомы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60360" y="1402920"/>
            <a:ext cx="890424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61840" indent="-2854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Синдром карпального канала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Сухость в глазах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Головные боли по типу мигрени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Боли в спине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Нерегулярное питание, пропуск приемов пищи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Пренебрежение личной гигиеной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Расстройства сна, изменение режима сна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86" name="Picture 5" descr="интернет и осанка"/>
          <p:cNvPicPr/>
          <p:nvPr/>
        </p:nvPicPr>
        <p:blipFill>
          <a:blip r:embed="rId2"/>
          <a:stretch/>
        </p:blipFill>
        <p:spPr>
          <a:xfrm>
            <a:off x="7272360" y="1116000"/>
            <a:ext cx="280836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bbb05"/>
                </a:solidFill>
                <a:latin typeface="Tahoma"/>
              </a:rPr>
              <a:t>Сведения о респондентах.</a:t>
            </a:r>
            <a:br>
              <a:rPr sz="4400"/>
            </a:b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1280" y="1476000"/>
            <a:ext cx="785052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9960" indent="0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fbbb05"/>
                </a:solidFill>
                <a:latin typeface="Tahoma"/>
              </a:rPr>
              <a:t>Исследование проводилось на базе колледжа. В ходе проводимого исследования приняли участие </a:t>
            </a:r>
            <a:r>
              <a:rPr b="1" lang="ru-RU" sz="3600" spc="-1" strike="noStrike">
                <a:solidFill>
                  <a:srgbClr val="fbbb05"/>
                </a:solidFill>
                <a:latin typeface="Tahoma"/>
              </a:rPr>
              <a:t>152</a:t>
            </a:r>
            <a:r>
              <a:rPr b="0" lang="ru-RU" sz="3600" spc="-1" strike="noStrike">
                <a:solidFill>
                  <a:srgbClr val="fbbb05"/>
                </a:solidFill>
                <a:latin typeface="Tahoma"/>
              </a:rPr>
              <a:t> человека в возрасте </a:t>
            </a:r>
            <a:r>
              <a:rPr b="1" lang="ru-RU" sz="3600" spc="-1" strike="noStrike">
                <a:solidFill>
                  <a:srgbClr val="fbbb05"/>
                </a:solidFill>
                <a:latin typeface="Tahoma"/>
              </a:rPr>
              <a:t>от 16 до 20 лет</a:t>
            </a:r>
            <a:r>
              <a:rPr b="0" lang="ru-RU" sz="3600" spc="-1" strike="noStrike">
                <a:solidFill>
                  <a:srgbClr val="fbbb05"/>
                </a:solidFill>
                <a:latin typeface="Tahoma"/>
              </a:rPr>
              <a:t> (студенты 1-4 курса).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89" name="Picture 7" descr="Kompор"/>
          <p:cNvPicPr/>
          <p:nvPr/>
        </p:nvPicPr>
        <p:blipFill>
          <a:blip r:embed="rId2"/>
          <a:stretch/>
        </p:blipFill>
        <p:spPr>
          <a:xfrm>
            <a:off x="6408720" y="4284720"/>
            <a:ext cx="3672000" cy="327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9280" y="1042920"/>
            <a:ext cx="813564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bbb05"/>
                </a:solidFill>
                <a:latin typeface="Tahoma"/>
              </a:rPr>
              <a:t>Нами использовались следующие методики:</a:t>
            </a:r>
            <a:br>
              <a:rPr sz="4400"/>
            </a:b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6000" y="2050560"/>
            <a:ext cx="9072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6040" indent="-609840">
              <a:spcAft>
                <a:spcPts val="1412"/>
              </a:spcAft>
              <a:buClr>
                <a:srgbClr val="00ffff"/>
              </a:buClr>
              <a:buSzPct val="80000"/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bbb05"/>
                </a:solidFill>
                <a:latin typeface="Tahoma"/>
              </a:rPr>
              <a:t>Тест на Интернет-зависимость, который представляет собой  перевод теста Кимберли Янг, адаптированный В.А.Буровой. 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  <a:p>
            <a:pPr marL="716040" indent="-60984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8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fbbb05"/>
                </a:solidFill>
                <a:latin typeface="Tahoma"/>
              </a:rPr>
              <a:t>Опросник «Восприятие интернета», разработанный Щепилиной Е.А. включает 66 вопросов по 12 шкалам. 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280" y="179280"/>
            <a:ext cx="86058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bbb05"/>
                </a:solidFill>
                <a:latin typeface="Tahoma"/>
              </a:rPr>
              <a:t>Анализ полученных результатов</a:t>
            </a: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1511280" y="1763640"/>
            <a:ext cx="7921800" cy="551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84360" y="611280"/>
            <a:ext cx="820908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1511280" y="466560"/>
            <a:ext cx="7993080" cy="6697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1403280"/>
            <a:ext cx="8821800" cy="25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cea04"/>
                </a:solidFill>
                <a:latin typeface="Times New Roman"/>
              </a:rPr>
              <a:t>ИССЛЕДОВАТЕЛЬСКАЯ РАБОТА В ОБЛАСТИ </a:t>
            </a:r>
            <a:r>
              <a:rPr b="1" i="1" lang="ru-RU" sz="4000" spc="-1" strike="noStrike">
                <a:solidFill>
                  <a:srgbClr val="fcea04"/>
                </a:solidFill>
                <a:latin typeface="Times New Roman"/>
              </a:rPr>
              <a:t>ОХРАНЫ ЗДОРОВЬЯ И ПРОПАГАНДЫ ЗДОРОВОГО ОБРАЗА ЖИЗНИ</a:t>
            </a:r>
            <a:endParaRPr b="0" lang="en-US" sz="40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1511280" y="4284720"/>
            <a:ext cx="7056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2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 </a:t>
            </a:r>
            <a:r>
              <a:rPr b="0" lang="en-US" sz="36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Выполнил: СДОБНОВ   ОЛЕГ ИГОРЕВИЧ</a:t>
            </a:r>
            <a:endParaRPr b="0" lang="en-US" sz="3600" spc="1" strike="noStrike">
              <a:ln w="19080">
                <a:solidFill>
                  <a:srgbClr val="00008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 </a:t>
            </a:r>
            <a:endParaRPr b="0" lang="en-US" sz="3600" spc="1" strike="noStrike">
              <a:ln w="19080">
                <a:solidFill>
                  <a:srgbClr val="00008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    </a:t>
            </a:r>
            <a:r>
              <a:rPr b="0" lang="en-US" sz="36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Руководители:  </a:t>
            </a:r>
            <a:endParaRPr b="0" lang="en-US" sz="3600" spc="1" strike="noStrike">
              <a:ln w="19080">
                <a:solidFill>
                  <a:srgbClr val="00008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                                </a:t>
            </a:r>
            <a:r>
              <a:rPr b="0" lang="en-US" sz="36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ФЕДОРИЩЕВА Е.В.</a:t>
            </a:r>
            <a:endParaRPr b="0" lang="en-US" sz="3600" spc="1" strike="noStrike">
              <a:ln w="19080">
                <a:solidFill>
                  <a:srgbClr val="00008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1655640" y="395280"/>
            <a:ext cx="7777440" cy="6913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-353880" y="0"/>
          <a:ext cx="10434600" cy="686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53880" y="0"/>
                    <a:ext cx="1043460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0"/>
          <a:ext cx="9504360" cy="6875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504360" cy="68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extBox 5" descr=""/>
          <p:cNvPicPr/>
          <p:nvPr/>
        </p:nvPicPr>
        <p:blipFill>
          <a:blip r:embed="rId2"/>
          <a:stretch/>
        </p:blipFill>
        <p:spPr>
          <a:xfrm>
            <a:off x="863640" y="0"/>
            <a:ext cx="8832960" cy="1652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008000" y="4211640"/>
            <a:ext cx="439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10" descr="biathlon-in-novouralsk"/>
          <p:cNvPicPr/>
          <p:nvPr/>
        </p:nvPicPr>
        <p:blipFill>
          <a:blip r:embed="rId3"/>
          <a:stretch/>
        </p:blipFill>
        <p:spPr>
          <a:xfrm>
            <a:off x="1584360" y="3849840"/>
            <a:ext cx="3456000" cy="3133440"/>
          </a:xfrm>
          <a:prstGeom prst="rect">
            <a:avLst/>
          </a:prstGeom>
          <a:ln w="0">
            <a:noFill/>
          </a:ln>
        </p:spPr>
      </p:pic>
      <p:sp>
        <p:nvSpPr>
          <p:cNvPr id="104" name="WordArt 14"/>
          <p:cNvSpPr txBox="1"/>
          <p:nvPr/>
        </p:nvSpPr>
        <p:spPr>
          <a:xfrm>
            <a:off x="4103640" y="1979640"/>
            <a:ext cx="2664000" cy="12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ОРТ</a:t>
            </a:r>
            <a:endParaRPr b="0" lang="en-US" sz="36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5" name="Picture 15" descr="Социальный проект"/>
          <p:cNvPicPr/>
          <p:nvPr/>
        </p:nvPicPr>
        <p:blipFill>
          <a:blip r:embed="rId4"/>
          <a:stretch/>
        </p:blipFill>
        <p:spPr>
          <a:xfrm>
            <a:off x="5904000" y="385128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Sport__002261_1"/>
          <p:cNvPicPr/>
          <p:nvPr/>
        </p:nvPicPr>
        <p:blipFill>
          <a:blip r:embed="rId2"/>
          <a:stretch/>
        </p:blipFill>
        <p:spPr>
          <a:xfrm>
            <a:off x="2160720" y="2195640"/>
            <a:ext cx="7343640" cy="5364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7"/>
          <p:cNvSpPr txBox="1"/>
          <p:nvPr/>
        </p:nvSpPr>
        <p:spPr>
          <a:xfrm>
            <a:off x="3527280" y="539640"/>
            <a:ext cx="4319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1" strike="noStrike">
                <a:ln w="0">
                  <a:noFill/>
                </a:ln>
                <a:solidFill>
                  <a:srgbClr val="fb6305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ЕКЦИИ</a:t>
            </a:r>
            <a:endParaRPr b="0" lang="en-US" sz="3600" spc="1" strike="noStrike">
              <a:ln w="0">
                <a:noFill/>
              </a:ln>
              <a:solidFill>
                <a:srgbClr val="fb6305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IMG_0514"/>
          <p:cNvPicPr/>
          <p:nvPr/>
        </p:nvPicPr>
        <p:blipFill>
          <a:blip r:embed="rId2"/>
          <a:stretch/>
        </p:blipFill>
        <p:spPr>
          <a:xfrm>
            <a:off x="576360" y="0"/>
            <a:ext cx="3816360" cy="33195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>
            <a:off x="5184720" y="395280"/>
            <a:ext cx="4248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1" strike="noStrike">
                <a:ln w="0">
                  <a:noFill/>
                </a:ln>
                <a:solidFill>
                  <a:srgbClr val="fb6305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ВОРЧЕСТВО</a:t>
            </a:r>
            <a:endParaRPr b="0" lang="en-US" sz="3600" spc="1" strike="noStrike">
              <a:ln w="0">
                <a:noFill/>
              </a:ln>
              <a:solidFill>
                <a:srgbClr val="fb6305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608360" y="2987640"/>
            <a:ext cx="547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735280" y="466560"/>
            <a:ext cx="7345440" cy="48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0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bbb05"/>
                </a:solidFill>
                <a:latin typeface="Tahoma"/>
              </a:rPr>
              <a:t>Нужно научиться ценить свою жизнь. Следует понять, что реальные результаты, а, следовательно, и настоящую радость можно получить только от успехов в реальной жизни. Чего бы ни достигал человек в виртуальном мире, все это исчезает, как только выключается компьютер.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112" name="Picture 4" descr="Социологи отмечают различие в интересах аудитории в зависимости от пола пользователя"/>
          <p:cNvPicPr/>
          <p:nvPr/>
        </p:nvPicPr>
        <p:blipFill>
          <a:blip r:embed="rId2"/>
          <a:stretch/>
        </p:blipFill>
        <p:spPr>
          <a:xfrm>
            <a:off x="6985080" y="4857840"/>
            <a:ext cx="2735280" cy="2701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is?6nRSucc8PYst5IJ7k184-uw0Vavk7qMMSbC3b8zqcbU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0360" y="324000"/>
            <a:ext cx="2233440" cy="2179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8920" y="755640"/>
            <a:ext cx="85690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 u="sng">
                <a:solidFill>
                  <a:srgbClr val="fcea04"/>
                </a:solidFill>
                <a:uFillTx/>
                <a:latin typeface="Times New Roman"/>
              </a:rPr>
              <a:t>ЦЕЛЬ ИССЛЕДОВАНИЯ</a:t>
            </a:r>
            <a:endParaRPr b="0" lang="en-US" sz="48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897200" y="2565360"/>
            <a:ext cx="7705440" cy="2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cea04"/>
                </a:solidFill>
                <a:latin typeface="Times New Roman"/>
              </a:rPr>
              <a:t>Изучение феномена виртуальной зависимости  у студентов Амурского медицинского колледжа</a:t>
            </a:r>
            <a:r>
              <a:rPr b="0" lang="ru-RU" sz="4800" spc="-1" strike="noStrike">
                <a:solidFill>
                  <a:srgbClr val="fcea04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279360"/>
            <a:ext cx="86058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 u="sng">
                <a:solidFill>
                  <a:srgbClr val="fcea04"/>
                </a:solidFill>
                <a:uFillTx/>
                <a:latin typeface="Times New Roman"/>
              </a:rPr>
              <a:t>ОСНОВНЫЕ  ЗАДАЧИ ИССЛЕДОВАНИЯ</a:t>
            </a:r>
            <a:endParaRPr b="0" lang="en-US" sz="48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6000" y="1619280"/>
            <a:ext cx="878364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2920" indent="-31104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cea04"/>
                </a:solidFill>
                <a:latin typeface="Tahoma"/>
              </a:rPr>
              <a:t>теоретический анализ существующих исследований о влиянии виртуальной реальности на здоровье молодёжи, феномена Интернет - зависимости;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12920" indent="-31104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cea04"/>
                </a:solidFill>
                <a:latin typeface="Tahoma"/>
              </a:rPr>
              <a:t>определение наличия проблемы виртуальной зависимости среди студентов колледжа;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12920" indent="-31104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cea04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cea04"/>
                </a:solidFill>
                <a:latin typeface="Tahoma"/>
              </a:rPr>
              <a:t>диагностика уровня виртуальной зависимости у студентов колледжа;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12920" indent="-311040">
              <a:lnSpc>
                <a:spcPct val="10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cea04"/>
                </a:solidFill>
                <a:latin typeface="Tahoma"/>
              </a:rPr>
              <a:t>подготовка рекомендаций по теме исследования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6000" y="0"/>
            <a:ext cx="85690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 u="sng">
                <a:solidFill>
                  <a:srgbClr val="fbbb05"/>
                </a:solidFill>
                <a:uFillTx/>
                <a:latin typeface="Tahoma"/>
              </a:rPr>
              <a:t>ГИПОТЕЗА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15640" y="161892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bbb05"/>
                </a:solidFill>
                <a:latin typeface="Tahoma"/>
              </a:rPr>
              <a:t>Можно предположить, что у некоторых студентов колледжа существует виртуальная зависимость, которая проявляется в том, что студенты не могут контролировать время нахождения в Сети, предпочитая виртуальную 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bbb05"/>
                </a:solidFill>
                <a:latin typeface="Tahoma"/>
              </a:rPr>
              <a:t>жизнь реальной.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7112160" y="4862520"/>
            <a:ext cx="2968560" cy="2697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diamond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640" y="250560"/>
            <a:ext cx="856944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 u="sng">
                <a:solidFill>
                  <a:srgbClr val="fbbb05"/>
                </a:solidFill>
                <a:uFillTx/>
                <a:latin typeface="Tahoma"/>
              </a:rPr>
              <a:t>Объект исследования:</a:t>
            </a:r>
            <a:r>
              <a:rPr b="1" lang="ru-RU" sz="4400" spc="-1" strike="noStrike">
                <a:solidFill>
                  <a:srgbClr val="fbbb05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bbb05"/>
                </a:solidFill>
                <a:latin typeface="Tahoma"/>
              </a:rPr>
              <a:t>студенты колледжа.</a:t>
            </a:r>
            <a:br>
              <a:rPr sz="4400"/>
            </a:br>
            <a:r>
              <a:rPr b="1" lang="ru-RU" sz="4400" spc="-1" strike="noStrike" u="sng">
                <a:solidFill>
                  <a:srgbClr val="fbbb05"/>
                </a:solidFill>
                <a:uFillTx/>
                <a:latin typeface="Tahoma"/>
              </a:rPr>
              <a:t>Предмет исследования:</a:t>
            </a:r>
            <a:r>
              <a:rPr b="0" lang="ru-RU" sz="4400" spc="-1" strike="noStrike">
                <a:solidFill>
                  <a:srgbClr val="fbbb05"/>
                </a:solidFill>
                <a:latin typeface="Tahoma"/>
              </a:rPr>
              <a:t> виртуальная зависимость у студентов колледжа.</a:t>
            </a:r>
            <a:br>
              <a:rPr sz="4400"/>
            </a:br>
            <a:r>
              <a:rPr b="1" lang="ru-RU" sz="4400" spc="-1" strike="noStrike" u="sng">
                <a:solidFill>
                  <a:srgbClr val="fbbb05"/>
                </a:solidFill>
                <a:uFillTx/>
                <a:latin typeface="Tahoma"/>
              </a:rPr>
              <a:t>Методы исследования:</a:t>
            </a:r>
            <a:r>
              <a:rPr b="0" lang="ru-RU" sz="4400" spc="-1" strike="noStrike">
                <a:solidFill>
                  <a:srgbClr val="fbbb05"/>
                </a:solidFill>
                <a:latin typeface="Tahoma"/>
              </a:rPr>
              <a:t> тестирование, сравнение и анализ результатов.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70" name="Picture 8" descr="p-2-2"/>
          <p:cNvPicPr/>
          <p:nvPr/>
        </p:nvPicPr>
        <p:blipFill>
          <a:blip r:embed="rId2"/>
          <a:stretch/>
        </p:blipFill>
        <p:spPr>
          <a:xfrm>
            <a:off x="6912000" y="5315040"/>
            <a:ext cx="2952720" cy="2244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2200" y="2422440"/>
            <a:ext cx="86058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bbb05"/>
                </a:solidFill>
                <a:latin typeface="Tahoma"/>
              </a:rPr>
              <a:t>Мир, создаваемый компьютером, называется </a:t>
            </a:r>
            <a:r>
              <a:rPr b="1" lang="ru-RU" sz="4400" spc="-1" strike="noStrike">
                <a:solidFill>
                  <a:srgbClr val="fbbb05"/>
                </a:solidFill>
                <a:latin typeface="Tahoma"/>
              </a:rPr>
              <a:t>виртуальной реальностью (ВР).</a:t>
            </a:r>
            <a:r>
              <a:rPr b="0" lang="ru-RU" sz="4400" spc="-1" strike="noStrike">
                <a:solidFill>
                  <a:srgbClr val="fbbb05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bbb05"/>
                </a:solidFill>
                <a:latin typeface="Tahoma"/>
              </a:rPr>
              <a:t>Виртуальный</a:t>
            </a:r>
            <a:r>
              <a:rPr b="0" lang="ru-RU" sz="4400" spc="-1" strike="noStrike">
                <a:solidFill>
                  <a:srgbClr val="fbbb05"/>
                </a:solidFill>
                <a:latin typeface="Tahoma"/>
              </a:rPr>
              <a:t> – значит пребывающий в скрытом состоянии и могущий проявиться, случиться, возможный.</a:t>
            </a: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8920" y="2050920"/>
            <a:ext cx="86058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bbb05"/>
                </a:solidFill>
                <a:latin typeface="Tahoma"/>
              </a:rPr>
              <a:t>Особенность виртуальной реальности </a:t>
            </a:r>
            <a:r>
              <a:rPr b="0" lang="ru-RU" sz="4400" spc="-1" strike="noStrike">
                <a:solidFill>
                  <a:srgbClr val="fbbb05"/>
                </a:solidFill>
                <a:latin typeface="Tahoma"/>
              </a:rPr>
              <a:t>в</a:t>
            </a:r>
            <a:r>
              <a:rPr b="1" lang="ru-RU" sz="4400" spc="-1" strike="noStrike">
                <a:solidFill>
                  <a:srgbClr val="fbbb05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bbb05"/>
                </a:solidFill>
                <a:latin typeface="Tahoma"/>
              </a:rPr>
              <a:t>том и состоит, что ее реальность основана на разрыве всех возможных каналов связи с внешним миром.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73" name="Picture 17" descr="is?AwGh_WJc_cw7N6neuSIpnd-5Yxc6wt3o_6tO0jOUiQ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69200" y="4803840"/>
            <a:ext cx="3413160" cy="2506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2627280"/>
            <a:ext cx="86058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bbb05"/>
                </a:solidFill>
                <a:latin typeface="Tahoma"/>
              </a:rPr>
              <a:t>Зависимость</a:t>
            </a:r>
            <a:r>
              <a:rPr b="0" lang="ru-RU" sz="4400" spc="-1" strike="noStrike">
                <a:solidFill>
                  <a:srgbClr val="fbbb05"/>
                </a:solidFill>
                <a:latin typeface="Tahoma"/>
              </a:rPr>
              <a:t> - особый путь жизни, связанный с поиском "идеальной" реальности. При помощи зависимости человек убегает от дискомфорта действительности. Однако, новая искусственная реальность разрушает здоровье и жизнь.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75" name="Picture 25" descr="is?pYyHmItz_USyCbFMEva6d65jMraEcBgPFwFHGEbqQk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21800" y="5292720"/>
            <a:ext cx="196056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тченков Илья</dc:creator>
  <dc:description/>
  <dc:language>en-US</dc:language>
  <cp:lastModifiedBy>1</cp:lastModifiedBy>
  <dcterms:modified xsi:type="dcterms:W3CDTF">2013-10-16T06:26:15Z</dcterms:modified>
  <cp:revision>44</cp:revision>
  <dc:subject/>
  <dc:title>Слайд 1</dc:title>
</cp:coreProperties>
</file>