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B11-9F70-42F4-B4B1-B18D2AA6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BF9-44A4-4EA3-B9A1-940CC17A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9C8-F91B-4E6C-94F7-2EA3A44A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E5E-A754-4DF1-A4F0-70895930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F8D-9C2C-4B17-A94F-1EA990A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CDE-7B18-4362-8377-9B62E80B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7AD-C48A-4E57-9958-80F629DB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1ED-8252-4ED6-8E18-660DBF9F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98B-DDF5-48AC-A4D4-88F4B1CD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02B-7726-49CB-BF06-521EB13E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0A5-83BE-4A87-8A45-5F80FE80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1C7-E974-418F-AF34-49279A7C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F3A1-F228-44E4-A9B4-6CB571BC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55760" y="54000"/>
            <a:ext cx="643248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571680"/>
            <a:ext cx="731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701640"/>
            <a:ext cx="83059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6095880" cy="417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752480" y="4572000"/>
            <a:ext cx="51818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11120" y="160200"/>
            <a:ext cx="651996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55440"/>
            <a:ext cx="604188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8928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629400" cy="5008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3600" y="487692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4876920"/>
            <a:ext cx="6858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87692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876920"/>
            <a:ext cx="53352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4876920"/>
            <a:ext cx="533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4876920"/>
            <a:ext cx="60948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3894120" cy="548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4343400"/>
            <a:ext cx="60984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4343400"/>
            <a:ext cx="60948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4343400"/>
            <a:ext cx="6094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4343400"/>
            <a:ext cx="60984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93416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01920" y="533520"/>
            <a:ext cx="51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5776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8:45:40Z</dcterms:created>
  <dc:creator>Olonec</dc:creator>
  <dc:description/>
  <dc:language>en-US</dc:language>
  <cp:lastModifiedBy>Olonec</cp:lastModifiedBy>
  <dcterms:modified xsi:type="dcterms:W3CDTF">2013-10-12T22:39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