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D901A-D0BB-4CF4-A0B5-5DED145B8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983A6-90BE-42BC-B726-2613E838F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6FC62-E0B1-4FBA-8F16-87F4F6011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57F18-813C-48B2-A449-11AFD577A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B1538-9491-4474-85B3-B74CB88B5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3ECA7-21A3-405A-BDBE-2A7ABC739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A2E70-B4A0-4E30-81DD-0DE31A92A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19731-193A-448D-AAD2-F60251095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417AD-A5E7-4F24-B2C6-00591445D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0A125-D704-47DE-A641-150239236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108FD-51EE-42C4-8025-E9D16ADAA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9FB89-F131-4259-806A-05133E978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6312F-1851-45F2-8EC1-86393D9EF14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916360" y="1700280"/>
            <a:ext cx="3227400" cy="4680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826920" y="260280"/>
            <a:ext cx="77058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ергей   Александрович    Есенин 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mph" presetID="23" repeatCount="500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6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7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19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755640" y="690840"/>
            <a:ext cx="439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одился 3 октября 1895 г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 селе Константинов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>
            <a:lum contrast="38000"/>
          </a:blip>
          <a:stretch/>
        </p:blipFill>
        <p:spPr>
          <a:xfrm>
            <a:off x="684360" y="1700280"/>
            <a:ext cx="4464000" cy="33480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5580000" y="1484280"/>
            <a:ext cx="2327400" cy="36352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4666320" y="5298840"/>
            <a:ext cx="4475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одители Сергея Есенина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лександр Никитич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Татьяна Федоров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4800"/>
                            </p:stCondLst>
                            <p:childTnLst>
                              <p:par>
                                <p:cTn id="33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d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>
            <a:lum contrast="32000"/>
          </a:blip>
          <a:stretch/>
        </p:blipFill>
        <p:spPr>
          <a:xfrm>
            <a:off x="4356000" y="1557360"/>
            <a:ext cx="2219400" cy="29527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>
            <a:lum contrast="34000"/>
          </a:blip>
          <a:stretch/>
        </p:blipFill>
        <p:spPr>
          <a:xfrm>
            <a:off x="324000" y="1268280"/>
            <a:ext cx="2952720" cy="26258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>
            <a:lum contrast="40000"/>
          </a:blip>
          <a:stretch/>
        </p:blipFill>
        <p:spPr>
          <a:xfrm>
            <a:off x="900000" y="4005360"/>
            <a:ext cx="3240360" cy="26463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6804000" y="3357720"/>
            <a:ext cx="1989000" cy="33130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250920" y="188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 70-летию со дня рождения  С.А.Есенин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2 октября 1965 г.)   был открыт Дом-музе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7600"/>
                            </p:stCondLst>
                            <p:childTnLst>
                              <p:par>
                                <p:cTn id="5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3" dur="3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0600"/>
                            </p:stCondLst>
                            <p:childTnLst>
                              <p:par>
                                <p:cTn id="5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7" dur="3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3600"/>
                            </p:stCondLst>
                            <p:childTnLst>
                              <p:par>
                                <p:cTn id="5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1" dur="3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6600"/>
                            </p:stCondLst>
                            <p:childTnLst>
                              <p:par>
                                <p:cTn id="6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5" dur="3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d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91160"/>
            <a:ext cx="8964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 1904 г. Есенина отдали в Константиновскую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земскую четырёхгодичную школ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79280" y="1773360"/>
            <a:ext cx="4392720" cy="3062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>
            <a:lum contrast="34000"/>
          </a:blip>
          <a:stretch/>
        </p:blipFill>
        <p:spPr>
          <a:xfrm>
            <a:off x="4572000" y="3392640"/>
            <a:ext cx="4375080" cy="328104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3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3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9" dur="3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7300"/>
                            </p:stCondLst>
                            <p:childTnLst>
                              <p:par>
                                <p:cTn id="8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3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3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5" dur="3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d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>
            <a:lum contrast="10000"/>
          </a:blip>
          <a:stretch/>
        </p:blipFill>
        <p:spPr>
          <a:xfrm>
            <a:off x="395280" y="981000"/>
            <a:ext cx="2363760" cy="31672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0" y="4290480"/>
            <a:ext cx="3635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инаида Рай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 детьми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аней и Кост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>
            <a:lum contrast="24000"/>
          </a:blip>
          <a:stretch/>
        </p:blipFill>
        <p:spPr>
          <a:xfrm>
            <a:off x="6659640" y="692280"/>
            <a:ext cx="2095560" cy="31683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>
            <a:lum contrast="46000"/>
          </a:blip>
          <a:stretch/>
        </p:blipFill>
        <p:spPr>
          <a:xfrm>
            <a:off x="3851280" y="836640"/>
            <a:ext cx="2735280" cy="21304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3780000" y="228960"/>
            <a:ext cx="51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.А.Есенин и Айседора Дунка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4">
            <a:lum contrast="16000"/>
          </a:blip>
          <a:stretch/>
        </p:blipFill>
        <p:spPr>
          <a:xfrm>
            <a:off x="3780000" y="3284640"/>
            <a:ext cx="1971360" cy="280836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2700360" y="6134760"/>
            <a:ext cx="46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.Есенин и Софья Толста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7" dur="3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7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3400"/>
                            </p:stCondLst>
                            <p:childTnLst>
                              <p:par>
                                <p:cTn id="109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1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1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>
            <a:lum contrast="34000"/>
          </a:blip>
          <a:stretch/>
        </p:blipFill>
        <p:spPr>
          <a:xfrm>
            <a:off x="611280" y="476280"/>
            <a:ext cx="1973160" cy="266544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827280" y="3211920"/>
            <a:ext cx="1677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.А. Есени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13 го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2987640" y="1916280"/>
            <a:ext cx="2157480" cy="3024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129840" y="5012280"/>
            <a:ext cx="2225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.А. Есени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19 го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3">
            <a:lum contrast="32000"/>
          </a:blip>
          <a:stretch/>
        </p:blipFill>
        <p:spPr>
          <a:xfrm>
            <a:off x="5796000" y="1916280"/>
            <a:ext cx="2757600" cy="39607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6372360" y="5850360"/>
            <a:ext cx="1747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.А. Есенин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24 г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8" dur="3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3000"/>
                            </p:stCondLst>
                            <p:childTnLst>
                              <p:par>
                                <p:cTn id="13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600"/>
                            </p:stCondLst>
                            <p:childTnLst>
                              <p:par>
                                <p:cTn id="13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8" dur="3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8600"/>
                            </p:stCondLst>
                            <p:childTnLst>
                              <p:par>
                                <p:cTn id="14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11200"/>
                            </p:stCondLst>
                            <p:childTnLst>
                              <p:par>
                                <p:cTn id="14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8" dur="3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14200"/>
                            </p:stCondLst>
                            <p:childTnLst>
                              <p:par>
                                <p:cTn id="15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d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>
            <a:lum contrast="32000"/>
          </a:blip>
          <a:stretch/>
        </p:blipFill>
        <p:spPr>
          <a:xfrm>
            <a:off x="2124000" y="1557360"/>
            <a:ext cx="5113440" cy="418464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250920" y="471240"/>
            <a:ext cx="8642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8 декабр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1925 год  Ленинград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остиница «Англетер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d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5300"/>
                            </p:stCondLst>
                            <p:childTnLst>
                              <p:par>
                                <p:cTn id="16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9T12:05:33Z</dcterms:created>
  <dc:creator>FoM</dc:creator>
  <dc:description/>
  <dc:language>en-US</dc:language>
  <cp:lastModifiedBy>FoM</cp:lastModifiedBy>
  <dcterms:modified xsi:type="dcterms:W3CDTF">2011-10-03T03:05:59Z</dcterms:modified>
  <cp:revision>4</cp:revision>
  <dc:subject/>
  <dc:title>Слайд 1</dc:title>
</cp:coreProperties>
</file>