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F8B-B1D6-4FA8-9C93-18D6CCC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3D6-E7C0-4057-833B-59046569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43B-2576-4CD4-980B-3DB6A799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407-89AB-4758-899A-69DDF9AB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396-26B5-41FE-B2F3-079A736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98E-530F-4612-8D1A-BCE91104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EAC-A7C5-41C8-B6EC-2F60BFF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046-7387-4796-B774-06A48A1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3B4-55F0-4588-93F1-0981CE05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555-1239-4859-B071-0623D0D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6EF-222A-4F46-A773-810B8EA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2EB-4A2F-4B02-A18B-1EB773A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742-F439-4DEC-A4D5-FB8D9CEF7F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частливая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важный фактор – это крепкая дружба, она – основа стабильных отношений. По мнению Готтмана, партнеры должны найти некий общий смысл в отношениях: каждый из них обязан поддерживать желания и надежды другого и посвящать его в собственные мечты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ылесос и посудомоечная машина делают из мужчины мачо!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Lara\Desktop\76142541_9678.jpg"/>
          <p:cNvPicPr/>
          <p:nvPr/>
        </p:nvPicPr>
        <p:blipFill>
          <a:blip r:embed="rId1"/>
          <a:stretch/>
        </p:blipFill>
        <p:spPr>
          <a:xfrm>
            <a:off x="2143080" y="1628640"/>
            <a:ext cx="48578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 советов доктора Готтма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ОТКЛАДЫВАЙТЕ ОБРАЩЕНИЕ ЗА ПОМОЩЬЮ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увствуя, что с браком что-то не так, среднестатистическая пара предпочитает подождать 6 лет, прежде чем обратиться к специалистам за помощью. Примерно половина всех браков распадается через 7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ФИЛЬТРУЙТЕ» СВОИ ВЫСКАЗЫВАН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, которые стараются поменьше критиковать друг друга, обсуждая острые вопросы, чувствуют себя более счастлив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ЗАГОВАРИВАЙТЕ О ПРОБЛЕМЕ АККУРАТНО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споры начинаются с претензий, или с критики. Это верный способ погрязнуть в эмоциях, обсуждая давние обиды и дела давно минувших дней, и таким образом лишить себя надежды на конструктивное решение пробл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СЛУШИВАЙТЕСЬ К ЖЕЛАНИЯМ ПАРТНЕР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тоящее партнерство возможно только тогда, оба супруга способны пойти навстречу друг другу. Обычно это хорошо получается у женщин, но и мужчинам не повредит овладеть искусством компромисса. Например, муж должен быть готов изменить свои планы по просьбе жены. В противном случае, он здорово рискует своим бра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ОЙТЕСЬ ЗАВЫШАТЬ ПЛАНКУ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чными становятся браки, в которых партнеры с самого начала отказываются терпеть пренебрежительное отношение к себе. Чем ниже уровень терпимости к подобному поведению партнера, тем счастливее будет п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СЬ ЗАКАНЧИВАТЬ СПОР, ПОКА СИТУАЦИЯ НЕ ВЫШЛА ИЗ-ПОД КОНТРОЛ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есь отступать и помните, что ссоры в браке напоминают иногда словесное айкидо: для того, чтобы победить, иногда стоит уступить. Супругу нужно постоянно демонстрировать, что вы уважаете его чувства и цените то, что он делает. Используйте фразы «Я признательна и хочу поблагодарить тебя за…», «Я понимаю, как тебе нелегко», «Это наша общая проблема». Если спор переходит в ссору, возьмите таймаут на 20 минут. Вернитесь к обсуждению, когда оба будете готовы обсудить вопрос в спокойном состоя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МАЙТЕ О ХОРОШЕМ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частливом браке супруги, обсуждая проблемы, говорят друг другу в 5 раз больше приятных вещей, чем неприят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3500000"/>
          </a:gradFill>
          <a:ln w="9360">
            <a:solidFill>
              <a:srgbClr val="f4e7e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743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74396"/>
                </a:solidFill>
                <a:latin typeface="Calibri"/>
              </a:rPr>
              <a:t>Настоящее партнерство возможно только тогда, оба супруга способны пойти навстречу друг друг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ердце 5"/>
          <p:cNvSpPr/>
          <p:nvPr/>
        </p:nvSpPr>
        <p:spPr>
          <a:xfrm>
            <a:off x="6659640" y="4149720"/>
            <a:ext cx="1873080" cy="1655640"/>
          </a:xfrm>
          <a:custGeom>
            <a:avLst/>
            <a:gdLst>
              <a:gd name="textAreaLeft" fmla="*/ 312120 w 1873080"/>
              <a:gd name="textAreaRight" fmla="*/ 1560960 w 1873080"/>
              <a:gd name="textAreaTop" fmla="*/ 414000 h 1655640"/>
              <a:gd name="textAreaBottom" fmla="*/ 1103760 h 1655640"/>
            </a:gdLst>
            <a:ahLst/>
            <a:rect l="textAreaLeft" t="textAreaTop" r="textAreaRight" b="textAreaBottom"/>
            <a:pathLst>
              <a:path w="1872208" h="1656184">
                <a:moveTo>
                  <a:pt x="936104" y="414046"/>
                </a:moveTo>
                <a:cubicBezTo>
                  <a:pt x="1326147" y="-552061"/>
                  <a:pt x="2847316" y="414046"/>
                  <a:pt x="936104" y="1656184"/>
                </a:cubicBezTo>
                <a:cubicBezTo>
                  <a:pt x="-975108" y="414046"/>
                  <a:pt x="546061" y="-552061"/>
                  <a:pt x="936104" y="414046"/>
                </a:cubicBez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облема разводов перестала быть проблемой отдельно взятой Европы, России или США. 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нститут брака переживает кризис повсюду, вплоть до Страны восходящего солнца, где раньше разводы были не приняты.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он Готтман – профессор психологии Университета Вашингтона в Сиэт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Lara\Desktop\img_f57d2b50126dada6cf1c1baafa39ecf5.jpg"/>
          <p:cNvPicPr/>
          <p:nvPr/>
        </p:nvPicPr>
        <p:blipFill>
          <a:blip r:embed="rId1"/>
          <a:stretch/>
        </p:blipFill>
        <p:spPr>
          <a:xfrm>
            <a:off x="3492360" y="1197000"/>
            <a:ext cx="22320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иция Джона Готтмана, считающего, что дружба – это залог стабильного удачного брака. 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Lara\Desktop\clip8721.jpg"/>
          <p:cNvPicPr/>
          <p:nvPr/>
        </p:nvPicPr>
        <p:blipFill>
          <a:blip r:embed="rId1"/>
          <a:stretch/>
        </p:blipFill>
        <p:spPr>
          <a:xfrm>
            <a:off x="762120" y="1047600"/>
            <a:ext cx="7619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зработал кодовую систему SPAFF (от англ. specific affect – специфический аффект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л лабораторию по исследованию любви «Love Lab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Users\Lara\Desktop\img_6bec03a83fd72d566ed340e98f56f5be.jpg"/>
          <p:cNvPicPr/>
          <p:nvPr/>
        </p:nvPicPr>
        <p:blipFill>
          <a:blip r:embed="rId1"/>
          <a:stretch/>
        </p:blipFill>
        <p:spPr>
          <a:xfrm>
            <a:off x="1833480" y="1461960"/>
            <a:ext cx="54770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хотят изменить партнера, что практически не возможно, учитывая разницу в мировоззрении и семейных ценностях. В успешных парах партнеры принимают друг друга со всеми достоинствами и недостатками. О 100% откровенности в счастливом браке речи не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32:23Z</dcterms:created>
  <dc:creator>user</dc:creator>
  <dc:description/>
  <dc:language>en-US</dc:language>
  <cp:lastModifiedBy>Короткова</cp:lastModifiedBy>
  <dcterms:modified xsi:type="dcterms:W3CDTF">2013-10-16T08:30:13Z</dcterms:modified>
  <cp:revision>83</cp:revision>
  <dc:subject/>
  <dc:title>Аттестация педагогических  кадров</dc:title>
</cp:coreProperties>
</file>