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680-0C67-4E9A-A3E6-87B43D68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ACB-AD97-490E-938C-4A15822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908-FC32-40B3-9D3F-DEC76E90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44F-85C0-4928-AF8B-71185021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842-6E24-4D65-BCA0-1E3A3D95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0EB-26D4-4B36-96BF-3D0273A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354-537D-4469-B0A9-AF8706FD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F33-0272-4C8A-9C87-062D3DC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638-0D03-492B-B404-0816F93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1C1-0421-4390-B544-E9D12B0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8CB-0E86-477B-9365-38861FC4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870-852A-451F-9A2D-6ABAE97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E242-5941-4B66-98EA-F9D4B1B4E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ru/imgres?imgurl=http://desktop.kazansoft.ru/bigimages/animals/birds/img-7d4b9.jpg&amp;imgrefurl=http://desktop.kazansoft.ru/wallpaper/17144.html&amp;usg=__kQv3_im4UCQGgTXJQmyYzj_OD7M=&amp;h=1200&amp;w=1600&amp;sz=440&amp;hl=ru&amp;start=83&amp;tbnid=_7av7bkRkUd5DM:&amp;tbnh=113&amp;tbnw=150&amp;prev=/images%3Fq%3D%25D0%25BF%25D1%2582%25D0%25B8%25D1%2586%25D1%258B%26gbv%3D2%26ndsp%3D20%26hl%3Dru%26sa%3DN%26start%3D80%26newwindow%3D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ru/imgres?imgurl=http://www.floranimal.ru/gallery/big/3386.jpg&amp;imgrefurl=http://www.liveinternet.ru/users/t_calypso/post85935212/&amp;usg=__oKfHxcpuQqBeGsakz3d89P6TM6w=&amp;h=800&amp;w=572&amp;sz=76&amp;hl=ru&amp;start=204&amp;tbnid=UltJpkAVNzpt0M:&amp;tbnh=143&amp;tbnw=102&amp;prev=/images%3Fq%3D%25D0%25BF%25D1%2582%25D0%25B8%25D1%2586%25D1%258B%26gbv%3D2%26ndsp%3D20%26hl%3Dru%26sa%3DN%26start%3D200%26newwindow%3D1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ru/imgres?imgurl=http://www.zveryshki.ru/uploads/posts/2008-05/1210883841_mand.jpg&amp;imgrefurl=http://www.zveryshki.ru/2008/05/16/krasivye-pticy-mandarinki-.html&amp;usg=__U7NFU157twP_fp7P4t-j1Nwd4A0=&amp;h=500&amp;w=377&amp;sz=51&amp;hl=ru&amp;start=74&amp;tbnid=850UhQH9udlePM:&amp;tbnh=130&amp;tbnw=98&amp;prev=/images%3Fq%3D%25D0%25BF%25D1%2582%25D0%25B8%25D1%2586%25D1%258B%26gbv%3D2%26ndsp%3D20%26hl%3Dru%26sa%3DN%26start%3D60%26newwindow%3D1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20683200">
            <a:off x="1109520" y="732960"/>
            <a:ext cx="6518520" cy="416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урка золотист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480000" y="5373720"/>
            <a:ext cx="2664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лов Ви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3280" y="47592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а норы достигает 2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00_7628"/>
          <p:cNvPicPr/>
          <p:nvPr/>
        </p:nvPicPr>
        <p:blipFill>
          <a:blip r:embed="rId1"/>
          <a:srcRect l="20629" t="18826" r="21071" b="15323"/>
          <a:stretch/>
        </p:blipFill>
        <p:spPr>
          <a:xfrm>
            <a:off x="0" y="0"/>
            <a:ext cx="4716360" cy="400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00_7639"/>
          <p:cNvPicPr/>
          <p:nvPr/>
        </p:nvPicPr>
        <p:blipFill>
          <a:blip r:embed="rId2"/>
          <a:srcRect l="19839" t="21209" r="13034" b="-1198"/>
          <a:stretch/>
        </p:blipFill>
        <p:spPr>
          <a:xfrm>
            <a:off x="4678200" y="3357720"/>
            <a:ext cx="4465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006_0729Merops_apiaster1644"/>
          <p:cNvPicPr/>
          <p:nvPr/>
        </p:nvPicPr>
        <p:blipFill>
          <a:blip r:embed="rId1"/>
          <a:stretch/>
        </p:blipFill>
        <p:spPr>
          <a:xfrm>
            <a:off x="4643280" y="2924280"/>
            <a:ext cx="4500720" cy="39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007_0730Merops_apiaster1231"/>
          <p:cNvPicPr/>
          <p:nvPr/>
        </p:nvPicPr>
        <p:blipFill>
          <a:blip r:embed="rId2"/>
          <a:stretch/>
        </p:blipFill>
        <p:spPr>
          <a:xfrm>
            <a:off x="0" y="0"/>
            <a:ext cx="4427640" cy="39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2455361676_dae0b23b61_m[1]"/>
          <p:cNvPicPr/>
          <p:nvPr/>
        </p:nvPicPr>
        <p:blipFill>
          <a:blip r:embed="rId3"/>
          <a:stretch/>
        </p:blipFill>
        <p:spPr>
          <a:xfrm>
            <a:off x="0" y="426564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457709112_88c1885edb_m[1]"/>
          <p:cNvPicPr/>
          <p:nvPr/>
        </p:nvPicPr>
        <p:blipFill>
          <a:blip r:embed="rId4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2457709112_88c1885edb_m[1]"/>
          <p:cNvPicPr/>
          <p:nvPr/>
        </p:nvPicPr>
        <p:blipFill>
          <a:blip r:embed="rId5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2457709112_88c1885edb_m[1]"/>
          <p:cNvPicPr/>
          <p:nvPr/>
        </p:nvPicPr>
        <p:blipFill>
          <a:blip r:embed="rId6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2457709112_88c1885edb_m[1]"/>
          <p:cNvPicPr/>
          <p:nvPr/>
        </p:nvPicPr>
        <p:blipFill>
          <a:blip r:embed="rId7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1151451[1]"/>
          <p:cNvPicPr/>
          <p:nvPr/>
        </p:nvPicPr>
        <p:blipFill>
          <a:blip r:embed="rId8"/>
          <a:stretch/>
        </p:blipFill>
        <p:spPr>
          <a:xfrm>
            <a:off x="5651640" y="0"/>
            <a:ext cx="3492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я за Щуркой золотистой проводились в с.Фокино и п.Бык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тынского рай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жегород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tiles_009"/>
          <p:cNvPicPr/>
          <p:nvPr/>
        </p:nvPicPr>
        <p:blipFill>
          <a:blip r:embed="rId1"/>
          <a:stretch/>
        </p:blipFill>
        <p:spPr>
          <a:xfrm>
            <a:off x="812880" y="2809800"/>
            <a:ext cx="3251160" cy="324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tiles_013"/>
          <p:cNvPicPr/>
          <p:nvPr/>
        </p:nvPicPr>
        <p:blipFill>
          <a:blip r:embed="rId2"/>
          <a:stretch/>
        </p:blipFill>
        <p:spPr>
          <a:xfrm>
            <a:off x="5041800" y="2809800"/>
            <a:ext cx="32511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MG_3540[1]"/>
          <p:cNvPicPr/>
          <p:nvPr/>
        </p:nvPicPr>
        <p:blipFill>
          <a:blip r:embed="rId1"/>
          <a:stretch/>
        </p:blipFill>
        <p:spPr>
          <a:xfrm>
            <a:off x="0" y="0"/>
            <a:ext cx="4284720" cy="486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ig[1]"/>
          <p:cNvPicPr/>
          <p:nvPr/>
        </p:nvPicPr>
        <p:blipFill>
          <a:blip r:embed="rId2"/>
          <a:stretch/>
        </p:blipFill>
        <p:spPr>
          <a:xfrm>
            <a:off x="4284720" y="1557360"/>
            <a:ext cx="4859280" cy="530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2457709112_88c1885edb_m[1]"/>
          <p:cNvPicPr/>
          <p:nvPr/>
        </p:nvPicPr>
        <p:blipFill>
          <a:blip r:embed="rId3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2457709112_88c1885edb_m[1]"/>
          <p:cNvPicPr/>
          <p:nvPr/>
        </p:nvPicPr>
        <p:blipFill>
          <a:blip r:embed="rId4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2457709112_88c1885edb_m[1]"/>
          <p:cNvPicPr/>
          <p:nvPr/>
        </p:nvPicPr>
        <p:blipFill>
          <a:blip r:embed="rId5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2457709112_88c1885edb_m[1]"/>
          <p:cNvPicPr/>
          <p:nvPr/>
        </p:nvPicPr>
        <p:blipFill>
          <a:blip r:embed="rId6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457709112_88c1885edb_m[1]"/>
          <p:cNvPicPr/>
          <p:nvPr/>
        </p:nvPicPr>
        <p:blipFill>
          <a:blip r:embed="rId7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2457709112_88c1885edb_m[1]"/>
          <p:cNvPicPr/>
          <p:nvPr/>
        </p:nvPicPr>
        <p:blipFill>
          <a:blip r:embed="rId8"/>
          <a:stretch/>
        </p:blipFill>
        <p:spPr>
          <a:xfrm>
            <a:off x="4545000" y="3411360"/>
            <a:ext cx="55440" cy="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357336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img-7d4b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1341360"/>
            <a:ext cx="3600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33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0"/>
            <a:ext cx="2411280" cy="32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210883841_man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2268360" cy="282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084fc5ed115c98e8679da05340ac2454_full"/>
          <p:cNvPicPr/>
          <p:nvPr/>
        </p:nvPicPr>
        <p:blipFill>
          <a:blip r:embed="rId8"/>
          <a:stretch/>
        </p:blipFill>
        <p:spPr>
          <a:xfrm>
            <a:off x="6647040" y="3789360"/>
            <a:ext cx="2496960" cy="2389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250920" y="29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дар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708360" y="486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в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7216920" y="3213000"/>
            <a:ext cx="14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7164360" y="63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50920" y="623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6"/>
          <p:cNvPicPr/>
          <p:nvPr/>
        </p:nvPicPr>
        <p:blipFill>
          <a:blip r:embed="rId1"/>
          <a:stretch/>
        </p:blipFill>
        <p:spPr>
          <a:xfrm>
            <a:off x="0" y="0"/>
            <a:ext cx="3851280" cy="530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Shcurk_1L.jpg (86088 bytes)"/>
          <p:cNvPicPr/>
          <p:nvPr/>
        </p:nvPicPr>
        <p:blipFill>
          <a:blip r:embed="rId2"/>
          <a:stretch/>
        </p:blipFill>
        <p:spPr>
          <a:xfrm>
            <a:off x="6372360" y="3117960"/>
            <a:ext cx="2771640" cy="374004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 rot="20194800">
            <a:off x="3634920" y="980640"/>
            <a:ext cx="5743800" cy="26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184000"/>
                </a:gradFill>
                <a:latin typeface="Impact"/>
              </a:rPr>
              <a:t>Щурка золотист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18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8000" y="0"/>
            <a:ext cx="3816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Отряд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ракшеобразные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мейство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зимород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01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824200" y="712800"/>
            <a:ext cx="32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 rot="21223800">
            <a:off x="1332000" y="12024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Чем удивительна золотистая щурка?"/>
          <p:cNvPicPr/>
          <p:nvPr/>
        </p:nvPicPr>
        <p:blipFill>
          <a:blip r:embed="rId1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129036103_338958d45a_m[1]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SCHurka_zolotistaya2009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017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3022006111636_300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003640" y="1125360"/>
            <a:ext cx="41403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Кормятся крупными насекомы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пончатокрылыми,               бабочками, двукрылыми, прямокрыл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191368[1]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хотятся на большой высоте в ясную погоду, а в дождливую – близко к зем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3348000" cy="242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1"/>
          <p:cNvPicPr/>
          <p:nvPr/>
        </p:nvPicPr>
        <p:blipFill>
          <a:blip r:embed="rId2"/>
          <a:stretch/>
        </p:blipFill>
        <p:spPr>
          <a:xfrm>
            <a:off x="5508720" y="4156200"/>
            <a:ext cx="36352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Места гнездова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00_7626"/>
          <p:cNvPicPr/>
          <p:nvPr/>
        </p:nvPicPr>
        <p:blipFill>
          <a:blip r:embed="rId1"/>
          <a:srcRect l="0" t="0" r="0" b="16014"/>
          <a:stretch/>
        </p:blipFill>
        <p:spPr>
          <a:xfrm>
            <a:off x="0" y="3162240"/>
            <a:ext cx="5219640" cy="3695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00_7627"/>
          <p:cNvPicPr/>
          <p:nvPr/>
        </p:nvPicPr>
        <p:blipFill>
          <a:blip r:embed="rId2"/>
          <a:srcRect l="0" t="0" r="0" b="18240"/>
          <a:stretch/>
        </p:blipFill>
        <p:spPr>
          <a:xfrm>
            <a:off x="5219640" y="0"/>
            <a:ext cx="3924360" cy="3591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435640" y="3645000"/>
            <a:ext cx="37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враг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ерега рек и обрыв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15:07Z</dcterms:created>
  <dc:creator>1</dc:creator>
  <dc:description/>
  <dc:language>en-US</dc:language>
  <cp:lastModifiedBy>Серёга</cp:lastModifiedBy>
  <dcterms:modified xsi:type="dcterms:W3CDTF">2013-10-16T17:39:17Z</dcterms:modified>
  <cp:revision>9</cp:revision>
  <dc:subject/>
  <dc:title>Слайд 1</dc:title>
</cp:coreProperties>
</file>