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wmf" ContentType="image/x-wmf"/>
  <Override PartName="/ppt/media/image2.png" ContentType="image/png"/>
  <Override PartName="/ppt/media/image9.gif" ContentType="image/gif"/>
  <Override PartName="/ppt/media/image7.png" ContentType="image/png"/>
  <Override PartName="/ppt/media/image4.gif" ContentType="image/gif"/>
  <Override PartName="/ppt/media/image5.png" ContentType="image/png"/>
  <Override PartName="/ppt/media/image12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2279-DC58-4F6F-926C-0F066A3E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FCAF-7936-4A3A-B2EC-E2D9F4E6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EAAB-9BB1-4141-8CFA-D152B25B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6E0A-73DB-4AF8-B1FD-5FA486F4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48A8-33CE-4820-86D0-AEC66354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7CB9-1B3A-4284-AFA6-FF9EA12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F530-903D-43E5-887A-42CC1B81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B39E-35B6-4EF1-ABF1-F5360C8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9CFB-76E0-4099-BE7E-A911DCF2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BC88-3F81-45B7-ACB8-9B81B3BC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01B3-2C6B-4BAA-82AA-3DE67F5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8299-2DE9-49E3-A8DB-3BF7B7F3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EE05-3DD5-43EF-BFB3-F62F3E31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67D3-7666-46D1-A4A5-9F3966E7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F214-BC3D-470C-9E5C-1E0FC66A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5974-F177-4776-94AE-95D6DBC3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1EF-2AAE-4A1D-8F45-9AFA3596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8F3D-12D5-495E-A680-86F397F6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AC28-F39B-4399-A737-1E5BBF7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95F3-B075-4323-B0F9-48B94287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9730F-8BB2-439C-B43B-83C2BA1A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4A33-FFFB-42C7-8B76-D79F3F9C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A1C0-10ED-4C61-826C-DA9A518E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9911-EBE5-4E02-A9F6-142D9C9D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71D4-AC40-4DA2-BD0C-098D2CA9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7829-914E-43A7-8C7A-C427BA28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76A4-E987-480B-AB3C-0C4996FC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D9A4B-B30A-45A4-BF88-0F0A6093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5456-FDC0-4D2E-BAF0-7F163DBF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06E4-C34A-4F9B-A06C-54BF2AA8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CEC8-E75B-42AD-8A9B-F72DA897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6795-5BC4-4B87-992C-B7471587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D800-8944-4724-AD26-4FE3684F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CEBE-9635-478E-A37C-5D7ABBB9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B3D3-91B9-4A24-BAAC-7F81E53B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4983-81C0-49F3-A49F-4A259FFE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4774-813A-4B55-986D-1994FB0C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AF87D-2C47-456C-AB36-41DA7973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C3AB-FBDD-44B0-AC0F-B08C1187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96D4-AAF5-4919-B819-760A4D0E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1483-079F-4433-92B6-446B75EE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5031-6A28-4308-818C-78C7C60B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DE380-8B7B-4E23-B002-685DB373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2A55-1A2E-4161-8736-03B435B9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F329-579B-4537-BB55-4D114C2E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E7F5-DEAF-48EC-99EF-8E019097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0119-C991-41CA-B261-14E874A9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28DA-F51D-406C-B065-90A1C20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AB7D-6FA9-481B-A1B3-BB7F3C591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87E5-54AA-4B95-9F34-93CF29FFA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1682-2CDE-4271-A29F-9B925D6AD6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320D-7722-43A0-9A87-3458FF325C8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my.km.ru/sashka/pra/3.html" TargetMode="Externa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0" y="907920"/>
            <a:ext cx="8424720" cy="35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кон спро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344680" cy="29527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0764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Детерминанты спрос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овой барь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ффект дох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ффект заме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цип убывания предельной полез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Эффект Гиффен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39481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батон=15 рублей                1батон=17 руб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х15=15                                   2х19=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68360" y="1768320"/>
            <a:ext cx="1841400" cy="17449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6516720" y="198900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5"/>
          <a:stretch/>
        </p:blipFill>
        <p:spPr>
          <a:xfrm>
            <a:off x="4572000" y="1989000"/>
            <a:ext cx="18414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Факторы, влияющие на спрос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вень дохода потребител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усы и предпочтения потреб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спроса на </a:t>
            </a: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взаимозаменяемые  и дополняющие</a:t>
            </a: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ва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жидание изменения доходов и це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числа покупател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Уровень дохода покупателе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 rot="5400000">
            <a:off x="1763640" y="3598560"/>
            <a:ext cx="56163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нормальное благ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блюдения за господином Шиловым показали, что, имея ежемесячный доход 500 руб.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н покупал 10 единиц товара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 единиц товара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 10 единиц товара С в течение месяц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сле того как его ежемесячный доход увеличился до 1 тыс. руб., господин Шилов стал потреблять 5 единиц товара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 единиц товара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 потребление товара С сохранилось на уровне 10 единиц в месяц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 условии, что цены на эти товары, равно как и на другие блага, остались прежними и вкусы господина Шилова не изменились, определите, к какому типу  относится  каждый  из това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результате рекламной кампании население стало предпочитать кока-колу квасу. Что произойдет с кривой спроса на ква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то при том же условии случится со спросом на кока-кол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изменится спрос на красную икру при увеличении доходов населения? Отобразите графиче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то случится с кривой спроса на перловую крупу с ростом доходов потребите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произойдет со спросом на соль при изменении доходов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то может переместить кривую спроса на сол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заимозаменяемые това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при увеличении цены на стиральный порошок увеличится спрос на мыло (кривая спроса сдвинется вправо), при уменьшении цены сократится ( кривая сдвинется влев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Дополняющие това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товары, которые не могут потребляться один без другого (ракетка и мяч, машина и бензин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заимозаменяемые благ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12400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пси-ко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ек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дых в Ял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кет ро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инс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мобиль «Воль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заимодополняющие благ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76364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еннисный мя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вая перча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втомоби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то произойдет со спросом на автомобили при резком повышении цен на бенз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Терминология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ро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   Величина спро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  Закон спро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   Эффект дох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  Эффект заме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   Принцип убывания маржинальной полез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   Эффект Гифф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.     Детерминанты спро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.    Низшие това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.  Нормальные това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7966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. Товары, которые потребляются совместно; при этом один без другого, как правило, не может быть пригоден для потреб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. Желание и способность покупателей приобретать тов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. Факторы, вызывающие изменение спроса и сдвиг кривой спр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 Товары, которые могут быть использованы вместо других товаров с аналогичными св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. Товары, спрос на которые падает по мере роста доходов потреб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. Количество товара, которое покупатели хотят и могут приобрести при данном уровне ц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. Явление, которое возникает, когда вследствие снижения цены товара происходит относительное увеличение дохода покупателя, позволяющее последнему приобрести большее количество това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. Товары, спрос на которые растет по мере увеличения доходов покуп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. Принцип, в соответствии с которым потребление каждой последующей единицы товара приносит потребителю меньшую полезность, чем потребление предыдущ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. Закон, в соответствии с которым величина спроса на товар находится в обратной зависимости от цены этого това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. Явление, состоящее в том, что повышение цены товара ведет к росту объема спроса на н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. Явление, которое возникает, когда покупатель отдает предпочтение более дешевому товару, вытесняющему при выборе покупки товар, ставший относительно доро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635280" y="333360"/>
            <a:ext cx="1800360" cy="597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-Б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-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-К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-Ж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-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-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7-Л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9-Д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0-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Когда увеличивается спрос на пиломатериалы, растет спрос и на гвозди, так как эт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а) неродственные това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б) взаимозаменяемые това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в) товары-комплемен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г) товары-субститу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Если два товара взаимозаменяемы, то рост цены на первый вызов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а) увеличение спроса на второ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б) снижение величины спроса на второ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в) увеличение спроса на первы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г) рост величины спроса на перв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. Закон спроса предполагает, чт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а) если доходы покупателей снижаются, они покупают меньше това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б) кривая спроса обычно имеет положительный накло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в) когда цена товара снижается, величина спроса расте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г) когда цена товара растет, спрос снижа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Если снова модными станут туфли “на платформе”, т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а) величина спроса на туфли на тонкой подошве уменьшит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б) спрос на туфли “на платформе” увеличит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в) кривая спроса на туфли “на платформе” сдвинется влев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г) кривая спроса на туфли на тонкой подошве сдвинется впра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кажите, какое из нескольких положений является правиль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Смещение кривой спроса на нормальный товар может быть вызв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а) уменьшением спроса на нег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б) ростом цены производимого това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в) ростом доходов покупател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г) ожиданием усиления инфля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д) снижением дотаций малообеспеченным слоям насе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Что из нижеперечисленного скорее всего не станет причиной изменения спроса на автомобили в краткосрочном перио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а) цены на автомобили выросли на 40%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б) цена на бензин выросла на 20%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в) инфляция из ползучей превратилась в галопирующу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г) доходы покупателей удвоились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д) увеличены таможенные пошлины на ввозимые автомоби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Третья чашка кофе приносит меньшее удовольствие, чем вторая. Это 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а) действия закона спрос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б) избыточного предлож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в) эффекта замещ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г) эффекта Гиффен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д) уменьшения предельной полез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ПРОВЕРИМ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572000" y="1413000"/>
            <a:ext cx="1584360" cy="4537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187280" y="1413000"/>
            <a:ext cx="1513080" cy="4751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ЕДЛОЖЕНИЕ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(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supply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,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SzPct val="1135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 Black"/>
              </a:rPr>
              <a:t>ПРЕДЛОЖЕНИЕ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Arial Black"/>
              </a:rPr>
              <a:t>–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Arial Black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SzPct val="1135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 Black"/>
              </a:rPr>
              <a:t>ВЕЛИЧИНА ПРЕДЛОЖЕНИЯ</a:t>
            </a:r>
            <a:r>
              <a:rPr b="1" lang="en-US" sz="2900" spc="-1" strike="noStrike">
                <a:solidFill>
                  <a:srgbClr val="ffffff"/>
                </a:solidFill>
                <a:latin typeface="Arial Black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ависимость между ценой и величиной предложения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250920" y="1916280"/>
          <a:ext cx="3043080" cy="3939840"/>
        </p:xfrm>
        <a:graphic>
          <a:graphicData uri="http://schemas.openxmlformats.org/drawingml/2006/table">
            <a:tbl>
              <a:tblPr/>
              <a:tblGrid>
                <a:gridCol w="1042920"/>
                <a:gridCol w="2000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,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личина предложения, ш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6647040" y="3079800"/>
          <a:ext cx="282240" cy="365040"/>
        </p:xfrm>
        <a:graphic>
          <a:graphicData uri="http://schemas.openxmlformats.org/drawingml/2006/table">
            <a:tbl>
              <a:tblPr/>
              <a:tblGrid>
                <a:gridCol w="282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Rectangle 42"/>
          <p:cNvSpPr/>
          <p:nvPr/>
        </p:nvSpPr>
        <p:spPr>
          <a:xfrm>
            <a:off x="2217960" y="33440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55"/>
          <p:cNvSpPr/>
          <p:nvPr/>
        </p:nvSpPr>
        <p:spPr>
          <a:xfrm>
            <a:off x="2217960" y="33440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63"/>
          <p:cNvSpPr/>
          <p:nvPr/>
        </p:nvSpPr>
        <p:spPr>
          <a:xfrm>
            <a:off x="2652480" y="2332440"/>
            <a:ext cx="38412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1800" rIns="3478680" tIns="914040" bIns="45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6" name="Object 94"/>
          <p:cNvGraphicFramePr/>
          <p:nvPr/>
        </p:nvGraphicFramePr>
        <p:xfrm>
          <a:off x="3419640" y="1628640"/>
          <a:ext cx="5580000" cy="47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7" name="Object 9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55800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200160" y="214200"/>
            <a:ext cx="8943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Закон предложения:</a:t>
            </a:r>
            <a:br>
              <a:rPr sz="36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Прямоугольник 3"/>
          <p:cNvSpPr/>
          <p:nvPr/>
        </p:nvSpPr>
        <p:spPr>
          <a:xfrm>
            <a:off x="357120" y="1785960"/>
            <a:ext cx="842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c2c8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ЕЦЕНОВЫЕ ФАКТОР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23" name="Схема 8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913200" cy="54993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"/>
          <p:cNvPicPr/>
          <p:nvPr/>
        </p:nvPicPr>
        <p:blipFill>
          <a:blip r:embed="rId2"/>
          <a:stretch/>
        </p:blipFill>
        <p:spPr>
          <a:xfrm>
            <a:off x="4797360" y="3724200"/>
            <a:ext cx="2041560" cy="22384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9" descr=""/>
          <p:cNvPicPr/>
          <p:nvPr/>
        </p:nvPicPr>
        <p:blipFill>
          <a:blip r:embed="rId3"/>
          <a:stretch/>
        </p:blipFill>
        <p:spPr>
          <a:xfrm>
            <a:off x="5583240" y="4797360"/>
            <a:ext cx="2347920" cy="19814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"/>
          <p:cNvPicPr/>
          <p:nvPr/>
        </p:nvPicPr>
        <p:blipFill>
          <a:blip r:embed="rId4"/>
          <a:stretch/>
        </p:blipFill>
        <p:spPr>
          <a:xfrm>
            <a:off x="6083280" y="579600"/>
            <a:ext cx="2633760" cy="18349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5"/>
          <a:stretch/>
        </p:blipFill>
        <p:spPr>
          <a:xfrm>
            <a:off x="6948360" y="2421000"/>
            <a:ext cx="1949400" cy="24480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4140360" y="1844640"/>
            <a:ext cx="2209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457200" y="714600"/>
            <a:ext cx="8228520" cy="2860560"/>
            <a:chOff x="457200" y="714600"/>
            <a:chExt cx="8228520" cy="2860560"/>
          </a:xfrm>
        </p:grpSpPr>
        <p:cxnSp>
          <p:nvCxnSpPr>
            <p:cNvPr id="604" name="_s218118"/>
            <p:cNvCxnSpPr>
              <a:stCxn id="605" idx="0"/>
              <a:endCxn id="606" idx="2"/>
            </p:cNvCxnSpPr>
            <p:nvPr/>
          </p:nvCxnSpPr>
          <p:spPr>
            <a:xfrm flipV="1">
              <a:off x="2355480" y="2702880"/>
              <a:ext cx="54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7" name="_s218119"/>
            <p:cNvCxnSpPr>
              <a:stCxn id="608" idx="0"/>
              <a:endCxn id="609" idx="2"/>
            </p:cNvCxnSpPr>
            <p:nvPr/>
          </p:nvCxnSpPr>
          <p:spPr>
            <a:xfrm flipV="1">
              <a:off x="6786720" y="2702880"/>
              <a:ext cx="54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0" name="_s218120"/>
            <p:cNvCxnSpPr>
              <a:stCxn id="609" idx="0"/>
              <a:endCxn id="611" idx="2"/>
            </p:cNvCxnSpPr>
            <p:nvPr/>
          </p:nvCxnSpPr>
          <p:spPr>
            <a:xfrm flipV="1" rot="16200000">
              <a:off x="5564520" y="296640"/>
              <a:ext cx="229320" cy="221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2" name="_s218121"/>
            <p:cNvCxnSpPr>
              <a:stCxn id="606" idx="0"/>
              <a:endCxn id="611" idx="2"/>
            </p:cNvCxnSpPr>
            <p:nvPr/>
          </p:nvCxnSpPr>
          <p:spPr>
            <a:xfrm flipH="1" flipV="1" rot="5400000">
              <a:off x="3348720" y="296640"/>
              <a:ext cx="229320" cy="2216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1" name="_s218122"/>
            <p:cNvSpPr/>
            <p:nvPr/>
          </p:nvSpPr>
          <p:spPr>
            <a:xfrm>
              <a:off x="2673000" y="714600"/>
              <a:ext cx="3797640" cy="57600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Рыно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218123"/>
            <p:cNvSpPr/>
            <p:nvPr/>
          </p:nvSpPr>
          <p:spPr>
            <a:xfrm>
              <a:off x="457200" y="1519200"/>
              <a:ext cx="3797640" cy="118440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Производител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продавец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218124"/>
            <p:cNvSpPr/>
            <p:nvPr/>
          </p:nvSpPr>
          <p:spPr>
            <a:xfrm>
              <a:off x="4888080" y="1519200"/>
              <a:ext cx="3797640" cy="118440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Потребител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покупатель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218125"/>
            <p:cNvSpPr/>
            <p:nvPr/>
          </p:nvSpPr>
          <p:spPr>
            <a:xfrm>
              <a:off x="4888080" y="2932200"/>
              <a:ext cx="3797640" cy="64296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спро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218126"/>
            <p:cNvSpPr/>
            <p:nvPr/>
          </p:nvSpPr>
          <p:spPr>
            <a:xfrm>
              <a:off x="457200" y="2932200"/>
              <a:ext cx="3797640" cy="64296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предлож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29920" y="3610080"/>
            <a:ext cx="80366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ahoma"/>
              </a:rPr>
              <a:t>Спрос (</a:t>
            </a:r>
            <a:r>
              <a:rPr b="1" lang="en-US" sz="72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1" lang="ru-RU" sz="7200" spc="-1" strike="noStrike">
                <a:solidFill>
                  <a:srgbClr val="ff3300"/>
                </a:solidFill>
                <a:latin typeface="Tahoma"/>
              </a:rPr>
              <a:t> -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demand</a:t>
            </a:r>
            <a:r>
              <a:rPr b="1" lang="ru-RU" sz="7200" spc="-1" strike="noStrike">
                <a:solidFill>
                  <a:srgbClr val="ff33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потребность покупателей в данном това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услуге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раженная в их покупательской способ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58"/>
          <p:cNvGrpSpPr/>
          <p:nvPr/>
        </p:nvGrpSpPr>
        <p:grpSpPr>
          <a:xfrm>
            <a:off x="755640" y="1989000"/>
            <a:ext cx="4103280" cy="3528720"/>
            <a:chOff x="755640" y="1989000"/>
            <a:chExt cx="4103280" cy="3528720"/>
          </a:xfrm>
        </p:grpSpPr>
        <p:sp>
          <p:nvSpPr>
            <p:cNvPr id="730" name="Line 59"/>
            <p:cNvSpPr/>
            <p:nvPr/>
          </p:nvSpPr>
          <p:spPr>
            <a:xfrm>
              <a:off x="755640" y="1989000"/>
              <a:ext cx="0" cy="35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60"/>
            <p:cNvSpPr/>
            <p:nvPr/>
          </p:nvSpPr>
          <p:spPr>
            <a:xfrm>
              <a:off x="755640" y="551772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61"/>
            <p:cNvSpPr/>
            <p:nvPr/>
          </p:nvSpPr>
          <p:spPr>
            <a:xfrm>
              <a:off x="755640" y="1989000"/>
              <a:ext cx="0" cy="35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62"/>
            <p:cNvSpPr/>
            <p:nvPr/>
          </p:nvSpPr>
          <p:spPr>
            <a:xfrm>
              <a:off x="755640" y="551772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4" name="Text Box 63"/>
          <p:cNvSpPr/>
          <p:nvPr/>
        </p:nvSpPr>
        <p:spPr>
          <a:xfrm>
            <a:off x="1285920" y="5857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64"/>
          <p:cNvSpPr/>
          <p:nvPr/>
        </p:nvSpPr>
        <p:spPr>
          <a:xfrm>
            <a:off x="5072040" y="585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65"/>
          <p:cNvSpPr/>
          <p:nvPr/>
        </p:nvSpPr>
        <p:spPr>
          <a:xfrm>
            <a:off x="1214280" y="17859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66"/>
          <p:cNvSpPr/>
          <p:nvPr/>
        </p:nvSpPr>
        <p:spPr>
          <a:xfrm>
            <a:off x="1833480" y="2333520"/>
            <a:ext cx="7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Freeform 72"/>
          <p:cNvSpPr/>
          <p:nvPr/>
        </p:nvSpPr>
        <p:spPr>
          <a:xfrm>
            <a:off x="2000160" y="2428920"/>
            <a:ext cx="1944720" cy="32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Freeform 73"/>
          <p:cNvSpPr/>
          <p:nvPr/>
        </p:nvSpPr>
        <p:spPr>
          <a:xfrm>
            <a:off x="2928960" y="2357280"/>
            <a:ext cx="1944720" cy="32403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47160">
            <a:solidFill>
              <a:srgbClr val="3b81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Freeform 74"/>
          <p:cNvSpPr/>
          <p:nvPr/>
        </p:nvSpPr>
        <p:spPr>
          <a:xfrm>
            <a:off x="3857760" y="2286000"/>
            <a:ext cx="1842840" cy="316692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Line 75"/>
          <p:cNvSpPr/>
          <p:nvPr/>
        </p:nvSpPr>
        <p:spPr>
          <a:xfrm flipV="1">
            <a:off x="1785960" y="2643120"/>
            <a:ext cx="2698560" cy="46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78"/>
          <p:cNvSpPr/>
          <p:nvPr/>
        </p:nvSpPr>
        <p:spPr>
          <a:xfrm>
            <a:off x="2071800" y="2000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1800" spc="-1" strike="noStrike" baseline="30000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79"/>
          <p:cNvSpPr/>
          <p:nvPr/>
        </p:nvSpPr>
        <p:spPr>
          <a:xfrm>
            <a:off x="4000680" y="2000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1800" spc="-1" strike="noStrike" baseline="30000">
                <a:solidFill>
                  <a:srgbClr val="0099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80"/>
          <p:cNvSpPr/>
          <p:nvPr/>
        </p:nvSpPr>
        <p:spPr>
          <a:xfrm>
            <a:off x="3071880" y="2071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b812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Line 82"/>
          <p:cNvSpPr/>
          <p:nvPr/>
        </p:nvSpPr>
        <p:spPr>
          <a:xfrm>
            <a:off x="3429000" y="3500280"/>
            <a:ext cx="43164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83"/>
          <p:cNvSpPr/>
          <p:nvPr/>
        </p:nvSpPr>
        <p:spPr>
          <a:xfrm>
            <a:off x="3643200" y="414324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84"/>
          <p:cNvSpPr/>
          <p:nvPr/>
        </p:nvSpPr>
        <p:spPr>
          <a:xfrm flipH="1">
            <a:off x="2643120" y="42148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85"/>
          <p:cNvSpPr/>
          <p:nvPr/>
        </p:nvSpPr>
        <p:spPr>
          <a:xfrm flipH="1">
            <a:off x="2357280" y="342900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86"/>
          <p:cNvSpPr/>
          <p:nvPr/>
        </p:nvSpPr>
        <p:spPr>
          <a:xfrm>
            <a:off x="1714680" y="142920"/>
            <a:ext cx="58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Факторы изменения спр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88"/>
          <p:cNvSpPr/>
          <p:nvPr/>
        </p:nvSpPr>
        <p:spPr>
          <a:xfrm>
            <a:off x="928800" y="292896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89"/>
          <p:cNvSpPr/>
          <p:nvPr/>
        </p:nvSpPr>
        <p:spPr>
          <a:xfrm>
            <a:off x="2291400" y="64296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2c84"/>
                </a:solidFill>
                <a:latin typeface="Arial"/>
              </a:rPr>
              <a:t>(детерминанты спрос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90"/>
          <p:cNvSpPr/>
          <p:nvPr/>
        </p:nvSpPr>
        <p:spPr>
          <a:xfrm>
            <a:off x="4356000" y="1484280"/>
            <a:ext cx="51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. Уровень дохода покуп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91"/>
          <p:cNvSpPr/>
          <p:nvPr/>
        </p:nvSpPr>
        <p:spPr>
          <a:xfrm>
            <a:off x="4857840" y="2000160"/>
            <a:ext cx="44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2. Вкусы и предпочтения потреб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2"/>
          <p:cNvSpPr/>
          <p:nvPr/>
        </p:nvSpPr>
        <p:spPr>
          <a:xfrm>
            <a:off x="5219640" y="2781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3. Цены на взаимозамен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и взаимодополняющие това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93"/>
          <p:cNvSpPr/>
          <p:nvPr/>
        </p:nvSpPr>
        <p:spPr>
          <a:xfrm>
            <a:off x="5943600" y="357336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4. Ожидани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доходов и ц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94"/>
          <p:cNvSpPr/>
          <p:nvPr/>
        </p:nvSpPr>
        <p:spPr>
          <a:xfrm>
            <a:off x="6516720" y="4365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5. Изменение числа покуп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3520" y="189000"/>
            <a:ext cx="815328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Факторы, влияющие на предложение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42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Уровень технолог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тепень конкуренц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жидаемое изменение цены на товар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в будуще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6807240" y="1628640"/>
            <a:ext cx="2336760" cy="29131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2124000" y="4883040"/>
            <a:ext cx="38880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Garamond"/>
              </a:rPr>
              <a:t>Изменение предложения (в целом)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Line 14"/>
          <p:cNvSpPr/>
          <p:nvPr/>
        </p:nvSpPr>
        <p:spPr>
          <a:xfrm flipV="1">
            <a:off x="2071800" y="3500280"/>
            <a:ext cx="3097080" cy="2592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Line 17"/>
          <p:cNvSpPr/>
          <p:nvPr/>
        </p:nvSpPr>
        <p:spPr>
          <a:xfrm flipV="1">
            <a:off x="1214280" y="2714400"/>
            <a:ext cx="3095640" cy="25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8"/>
          <p:cNvSpPr/>
          <p:nvPr/>
        </p:nvSpPr>
        <p:spPr>
          <a:xfrm>
            <a:off x="3929040" y="235728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20"/>
          <p:cNvSpPr/>
          <p:nvPr/>
        </p:nvSpPr>
        <p:spPr>
          <a:xfrm>
            <a:off x="5214960" y="342900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Line 85"/>
          <p:cNvSpPr/>
          <p:nvPr/>
        </p:nvSpPr>
        <p:spPr>
          <a:xfrm flipH="1">
            <a:off x="3500280" y="364320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Line 85"/>
          <p:cNvSpPr/>
          <p:nvPr/>
        </p:nvSpPr>
        <p:spPr>
          <a:xfrm flipH="1">
            <a:off x="2857320" y="407196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82"/>
          <p:cNvSpPr/>
          <p:nvPr/>
        </p:nvSpPr>
        <p:spPr>
          <a:xfrm>
            <a:off x="3929040" y="407196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82"/>
          <p:cNvSpPr/>
          <p:nvPr/>
        </p:nvSpPr>
        <p:spPr>
          <a:xfrm>
            <a:off x="3500280" y="442908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5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окупка солнцезащитных очков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843280" y="1700280"/>
          <a:ext cx="5904000" cy="4824360"/>
        </p:xfrm>
        <a:graphic>
          <a:graphicData uri="http://schemas.openxmlformats.org/drawingml/2006/table">
            <a:tbl>
              <a:tblPr/>
              <a:tblGrid>
                <a:gridCol w="2283120"/>
                <a:gridCol w="3620880"/>
              </a:tblGrid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на (Р), рубл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Q), шту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"/>
          <p:cNvSpPr txBox="1"/>
          <p:nvPr/>
        </p:nvSpPr>
        <p:spPr>
          <a:xfrm>
            <a:off x="4643280" y="1916280"/>
            <a:ext cx="86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108000" y="2852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Величина спрос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личество товара (услуг), которое покупатели готовы купит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данной цене в определенное время и в определенном мес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1690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Что неверно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Холодная погода сократила величину спроса на комнаты в гостиницах на Черноморском побережье, уменьшив тем самым цену аренды комнаты. Падение цены аренды, в свою очередь, вызвало увеличение спроса, так что в конце концов  цена возвратилась к своему первоначальному уровн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График  и закон спроса (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84360" y="2349360"/>
            <a:ext cx="0" cy="338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4360" y="5732640"/>
            <a:ext cx="453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16000" y="2565360"/>
            <a:ext cx="3384720" cy="287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4000" y="220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932360" y="573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2908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148360" y="1413000"/>
            <a:ext cx="32400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↑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то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Q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↓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то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Q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050920" y="335772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64000" y="465300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213000"/>
            <a:ext cx="6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35280" y="57340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4437000"/>
            <a:ext cx="6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419640" y="573408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56400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05092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684360" y="3429000"/>
            <a:ext cx="1366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050920" y="342900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564000" y="4724280"/>
            <a:ext cx="0" cy="1009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4724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42880" y="429192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Q = f(Р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29800" y="6092280"/>
            <a:ext cx="808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величина спроса на товар (услугу) находится в обратной зависим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от цены этого това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200160" y="357120"/>
            <a:ext cx="8943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3300"/>
                </a:solidFill>
                <a:uFillTx/>
                <a:latin typeface="Arial"/>
              </a:rPr>
              <a:t>Закон спро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9"/>
          <p:cNvSpPr/>
          <p:nvPr/>
        </p:nvSpPr>
        <p:spPr>
          <a:xfrm>
            <a:off x="2782440" y="27860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4500720" y="400068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0" y="0"/>
          <a:ext cx="7921800" cy="54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2180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4" name="" descr="Тут всегда свежий номер нашего журнал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4869000"/>
            <a:ext cx="2232000" cy="16221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6659640" y="5516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ывод – с. 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88000" y="1052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клон кривой отрица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788000" y="1484280"/>
            <a:ext cx="194472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3:48:30Z</dcterms:created>
  <dc:creator>uchenik</dc:creator>
  <dc:description/>
  <dc:language>en-US</dc:language>
  <cp:lastModifiedBy>Internet</cp:lastModifiedBy>
  <dcterms:modified xsi:type="dcterms:W3CDTF">2010-10-26T12:37:36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