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76D-A822-4F8C-9807-EA8E0EF5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F06-9786-40AE-96E2-724839E0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86B-66A9-4F5A-BD5E-763F617A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BD3-A607-40CF-8E68-0B1F051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0A53-9C9F-40F0-8F14-68DD4878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B93E-A991-4AEB-905C-81D6411C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6B3-F57D-405D-88A0-DE7BB77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A914-321B-44B8-8466-3C262B9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B1D-6E81-4D7A-9AC4-91513E8C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C853-E253-4611-AE3A-9166C6F2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A06-101F-4E5A-A468-D3BBE55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9AA-F66B-4B62-95F8-A8084F23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BB9-8A04-41B0-84A1-0222F4C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455-3963-43DD-880C-184CBB5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F27-1FE4-4B16-84C0-00F7381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A94-1EDA-40A3-9E5F-A70814BF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8DB-5EA8-4163-AB78-462DE9DA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E7F-A930-4435-83D6-ACCD5FC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ABC-356F-4F6F-9768-D79D3E9C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212-0793-48FF-84E7-C340405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2C4-2CC1-4799-8432-684496C8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B98-27B9-4A4A-B134-B718728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CDF-CDD1-4EDC-A933-CEF33AF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AFA-C58B-400B-9F89-77DD230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1C8-F320-490C-BA4C-A425F54DCA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C27-DF5F-4573-9D18-E82646CC25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860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Старинные русские меры длины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 rot="10800000">
            <a:off x="9074160" y="6857280"/>
            <a:ext cx="69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340000" y="1628640"/>
            <a:ext cx="4968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0800000">
            <a:off x="9540720" y="-171360"/>
            <a:ext cx="2160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РШИ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старинная русская мера длины, равная в современном исчислении 0,7112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шином так же называли мерную линейку, на которую, обычно, наносили деления в верш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Аршин (71,12 см) - Старинные русские меры длины, веса, объёма. Для измерения применялись так же меньшие величины: локоть, пядь (четверть аршина), вершок (длина = 4,445 сантиметра); и крупные: сажень, верста (1066,8 метров)"/>
          <p:cNvPicPr/>
          <p:nvPr/>
        </p:nvPicPr>
        <p:blipFill>
          <a:blip r:embed="rId2"/>
          <a:stretch/>
        </p:blipFill>
        <p:spPr>
          <a:xfrm>
            <a:off x="1692360" y="2852640"/>
            <a:ext cx="5975280" cy="35290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ША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еще одна старинная русская мера длины, средняя длина человеческого шага равна 71 сантиметр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МАЛАЯ ПЯД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говорили - "пядь"; с 17-го века она называлась - "четверть" аршина) - расстояние между концами расставленных большого и указательного (или среднего) пальцев, равнялась  приблизительно 1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БОЛЬШАЯ ПЯД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расстояние между концами большого пальца и мизинца, что составляло 22-23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 Я Д Ь С КУВЫРК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пядень с кувырком) - пядь с прибавкой двух суставов указательного палица, равна 27-31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8401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32720" y="-5542920"/>
            <a:ext cx="43164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</a:rPr>
              <a:t>ВЕРСТА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- старорусская путевая мера (её раннее название - ''поприще''). Этим словом первоначально называли расстояние, пройденное от одного поворота плуга до другого во время пахоты. Два названия долгое время употреблялись параллельно, как синонимы. Верста равнялась 500 саженям. Таким образом, верста в современном исчислении была равна 1 километру 80 метрам, то есть практически одному километру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Верстой в России называли не только данный отрезок длины, но и специальный столбы, которые устанавливались на больших дорогах и обозначали версты. Дороги, на которых такие «версты» ставились, назывались столбовыми. «Версты» или верстовые столбы обыкновенно красили в наклонную полоску, чтобы лучше было видно, на столбе писали количество верст от или до какого-то пунк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</a:rPr>
              <a:t>Интересный факт!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Что означает выражение «коломенская верста»? Дело в том, что устанавливать верстовые столбы в России начали при царе Алексее Михайловиче (1645-1676 гг.) и по дороге в его загородную резиденцию в селе Коломенское эти самые верстовые столбы были особенно высокими. Отсюда и пошло выражение верста коломенская, которая в переносном смысле характеризует очень высоких и худощавых людей.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>
            <a:hlinkClick r:id="rId2"/>
          </p:cNvPr>
          <p:cNvSpPr/>
          <p:nvPr/>
        </p:nvSpPr>
        <p:spPr>
          <a:xfrm>
            <a:off x="75564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40000" y="378936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12360" y="-55821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АЖЕ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одна из наиболее распространенных на Руси мер длины, происходит от глагола сягать (досягать) - на сколько можно было дотянуться рукой. Различных по назначению (и, соответственно, величине) саженей было больше десяти. Самые распространен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Маховая сажень" - расстояние между концами пальцев широко расставленных рук взрослого мужч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осая сажень" - самая длинная: расстояние от носка левой ноги до конца среднего пальца поднятой вверх правой руки. От сюда и пошло выражение, относящееся к мужчине, «у него косая сажень в плечах», что означало богатырь, велик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195640" y="3573360"/>
            <a:ext cx="51130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72360" y="-558216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ОКО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равнялся длине руки от пальцев до локтя (по другим данным - расстояние по прямой от локтевого сгиба до конца вытянутого среднего пальца руки). Величина этой древнейшей меры длины, по разным источникам, составляла от 38 до 47 с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коть широко применяли в торговле — как особенно удобную меру. В розничной торговле холстом, сукном, полотном - л о к о т ь был основной мерой. В крупной оптовой торговле - полотно, сукно и прочее, поступали в виде больших отрезов — "поставов", длина которых в разное время и в разных местах колебалась от 30 до 60 локтей (в местах торговли эти меры имели конкретное, вполне определенное значение). С 16-го века постепенно вытесняется аршином и в 19 веке почти не употребл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492360" y="3645000"/>
            <a:ext cx="23814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418320" y="-6640200"/>
            <a:ext cx="123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ВЕРШОК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ово происходит от «верх», то есть росток, всход – стебелек, пробившийся из земли, и равнялся длине основной фаланги указательного пальца. В современном исчислении - 4,44см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 человеке незрелом, малыше до сих пор говорят: «От горшка два вершка»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771640" y="3068640"/>
            <a:ext cx="33847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Мера длинны в литератур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акевич – Чичикову: «А Пробка Степан, плотник? Я голову прозакладую, если вы где сыщете такого мужика. Ведь что за силища была! Служи он в гвардии, ему бы бог знает что дали, трех аршин с вершком ростом!» (Н.В. Гоголь, «Мертвые души»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Из числа всей ее челяди самым замечательным лицом был дворник Герасим, мужчина 12 вершков роста, сложенный богатырем и глухонемой от рожденья» (И.С. Тургенев, «Муму»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икитушка Ломов, бурлак, ходивший по Волге лет 20-15 тому назад, был гигант, геркулесовской силы; 15 вершков ростом…» (Н.Г. Чернышевский, «Что делать?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ой стихотворения Н.А. Некрасова «Дедушка Мазай и зайцы» вспоминает о том, как в половодье зайцев спасал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цы на нем собрались гурьб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каждой минуты вода подбирала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едным зверькам; уж под ними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ьше аршина земли в шир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ьше сажени в дл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96360" y="-529920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560" y="0"/>
            <a:ext cx="80074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06:54:14Z</dcterms:created>
  <dc:creator>user</dc:creator>
  <dc:description/>
  <dc:language>en-US</dc:language>
  <cp:lastModifiedBy>user</cp:lastModifiedBy>
  <dcterms:modified xsi:type="dcterms:W3CDTF">2010-12-24T22:12:11Z</dcterms:modified>
  <cp:revision>11</cp:revision>
  <dc:subject/>
  <dc:title>Старинные русские меры длины, веса, объёма С древности, мерой длины и веса всегда был человек: на сколько он протянет руку, сколько сможет поднять на плечи и т.д</dc:title>
</cp:coreProperties>
</file>